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B7BC-70B3-42C9-A009-61A4B3F30BB1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8301-5D5D-4494-8290-AFB8EA4BA1B0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B57C-C01F-468E-B488-73058F8C801D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7E37-05FA-4A64-8388-794835339C60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ll Times New Roman"/>
                <a:ea typeface="Times New Roman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ll Times New Roman"/>
                <a:ea typeface="Times New Roman"/>
              </a:rPr>
              <a:t> Според информация, осигурена от областните управители и кметовете на общините от ЮЦР, броят на рехабилитираните образователни и социални институции в района през 2013 г. общо е 179 бр. Най-голям брой рехабилитации през изминалата година са извършени в областите Пловдив (95 бр.) и Пазарджик  (43 бр). Следват областите Хасково (16 бр.), Смолян (15 бр.) и Кърджали (10 б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ll Times New Roman"/>
                <a:ea typeface="Times New Roman"/>
              </a:rPr>
              <a:t>2.Според информация, осигурена от областните управители и кметовете на общините от ЮЦР броят на рехабилитираните здравни институции в ЮЦР през 2013 г. общо са 13. Най-голям брой рехабилитации през изминалата година са извършени в област Пловдив (5 бр.). Следват областите Пазарджик  (3 бр), Хасково (3 бр.), и Кърджали (2 бр.). В област Смолян няма рехабилитирано здравно завед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4652-B4AC-458B-B706-DCB09C8CBEFE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E8EF-D203-4230-A408-94C753722195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49F2-8D29-4790-BEC2-CEBCEA468FA3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2E17-1F25-4517-9452-F9BF3E0A0E0A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FC60-0293-4AF8-BC37-1E592389E1B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3D28-3AAD-429B-845D-71D8E458224C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be0e3"/>
                </a:solidFill>
                <a:latin typeface="Times New Roman"/>
              </a:rPr>
              <a:t>При изготвянето на настоящия доклад е обработена и анализирана актуална информация от НСИ, ЕВРОСТАТ, ИСУН, информация от общините на територията на ЮЦР, годишните доклади за околната среда на РИОСВ - Пловдив, Пазарджик, Хасково и Смолян за 201</a:t>
            </a:r>
            <a:r>
              <a:rPr b="0" lang="ru-RU" sz="1200" spc="-1" strike="noStrike">
                <a:solidFill>
                  <a:srgbClr val="bbe0e3"/>
                </a:solidFill>
                <a:latin typeface="Times New Roman"/>
              </a:rPr>
              <a:t>3 </a:t>
            </a:r>
            <a:r>
              <a:rPr b="0" lang="bg-BG" sz="1200" spc="-1" strike="noStrike">
                <a:solidFill>
                  <a:srgbClr val="bbe0e3"/>
                </a:solidFill>
                <a:latin typeface="Times New Roman"/>
              </a:rPr>
              <a:t>г.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1200" spc="-1" strike="noStrike">
                <a:solidFill>
                  <a:srgbClr val="bbe0e3"/>
                </a:solidFill>
                <a:latin typeface="Times New Roman"/>
              </a:rPr>
              <a:t>състоянието 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ДОПЪЛНЕНИЕ: В сравнение с 2012 г., през 2013 г.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коефициентът на икономическа активност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(15 - 64 навършени години) за страната се увеличава с 1,3 процентни пун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За Южен централен район през 2013 г. коефициентът е със стойност над средната за страната и в сравнение с 2012 г. бележи нарастване от 66,1 % на 68,7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Във вътрешнорегионален план, икономическата активност във всички области от ЮЦР през 2013 г. отбелязва увеличение, спрямо предходната 2012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Контейнер за номер н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4F26-4850-453F-86E6-055914F3065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3B59-3C94-4A93-8DE0-2467EA986559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307-8BB4-4FF8-96B2-BEF52B4F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44CB-AE31-44B3-A3B4-EFDE60E8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90BD-50C1-47C9-A897-388D42F8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CAF3-A28D-475B-982A-1CBAA688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C27F-FFB9-4E3D-88F8-8CBB0A64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1256-7660-4FA6-BC6A-0C75B072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C844-0F16-4539-A515-75C59B2F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44FA-DBD2-46C3-A95C-2EE4E215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56D6-2733-44D0-AF79-D5EEBC11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35A3-199B-493F-BB08-613424EE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B642-041C-4551-8282-44F63A1A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5194-DF6D-480D-9103-EACEE046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E1EC-A5AE-4623-8D7C-0F63FE52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E489-ED13-4151-A4BA-E83E71DF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872A-03E8-4711-9993-AE083773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F4CD-6FA2-43C2-A90A-7EF031DB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66EF-D913-44DB-BD8F-7452A936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247F1C-068B-43F9-9632-5EC2C9D9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D13DD-16BA-4ABC-9205-2916FD69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96953-A5CA-43D1-99E5-8AAC8DBE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A348B6-07EE-4762-9B18-88B3FFB2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934B0-7C57-4B45-9AA3-CA424FDC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CE1-F446-4DD4-BE0B-6981BB67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3D587B-CE8F-4D33-BA17-65FABE70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B6309-51BD-45D1-A33C-56B4B83F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6B7BF6-A6A6-45DD-BB61-FBF66C1C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C6D0D6-E5F3-4FE8-BBD2-EEEB0817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8ACE5-3749-4F92-91DE-F4369A87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F7920-A888-439A-9225-7D77E59A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BC490C-DB2F-49A5-ACBA-AD30A884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EDDC4-47F7-4423-8B7E-DF80DDD5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64780-D4E6-4F19-A142-A2C08035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DA9C4-5CE5-4649-8E32-FA0D8EB4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686-AA0F-4B32-A3B0-479B2538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64DEA-2979-41FB-835C-0FFE9D01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A4395-6016-4876-A3DC-79605547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6FB77-DD7F-4761-8776-0075350A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82760-D93D-4CB3-8D8F-319E841D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F0761-F1ED-4E5D-8A07-4B95034F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354E7-EE0E-4072-89FC-12BFAB6F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32F49-094A-4BBD-85DB-6EC6F971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0D3E1-1193-4404-A168-5FD38431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CDC22-5696-483E-811D-50BAAF63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1822-0187-40B2-95EE-91AA294D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1C02-5267-4E33-BA71-36CFD56D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94BA-19A2-4CAE-B2C2-AED37D5C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6C5-9D87-4A1F-88F5-EE760C94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AED-0B52-49C1-B809-57684182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009dd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1FF5-EEEE-40A3-AE06-E456BF620867}" type="datetime">
              <a:rPr b="0" lang="bg-BG" sz="800" spc="-1" strike="noStrike">
                <a:solidFill>
                  <a:srgbClr val="009dd9"/>
                </a:solidFill>
                <a:latin typeface="Arial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009dd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9dd9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3028-6DDD-4E47-B875-8BEB729EAA6B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009dd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1A58-AA49-4865-91D6-803FD6C9BC0A}" type="datetime">
              <a:rPr b="0" lang="bg-BG" sz="800" spc="-1" strike="noStrike">
                <a:solidFill>
                  <a:srgbClr val="009dd9"/>
                </a:solidFill>
                <a:latin typeface="Arial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009dd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9dd9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9295-2DC1-427A-B25E-64D978D1AF7E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009dd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634C-C30F-4337-844F-931A8061CEF4}" type="datetime">
              <a:rPr b="0" lang="bg-BG" sz="800" spc="-1" strike="noStrike">
                <a:solidFill>
                  <a:srgbClr val="009dd9"/>
                </a:solidFill>
                <a:latin typeface="Arial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D73B-5A35-49B5-ABF4-011819EEC7B2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009dd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9dd9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009dd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AC45-44B0-4372-9D16-7879E7C6A106}" type="datetime">
              <a:rPr b="0" lang="bg-BG" sz="800" spc="-1" strike="noStrike">
                <a:solidFill>
                  <a:srgbClr val="009dd9"/>
                </a:solidFill>
                <a:latin typeface="Arial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009dd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9dd9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FFC9-6763-49AF-8334-238F1C18524F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FCC1-C64B-4620-AB51-8A3EBF34A1D3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9144000" cy="30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g-BG" sz="2900" spc="-1" strike="noStrike" u="sng">
                <a:solidFill>
                  <a:srgbClr val="083763"/>
                </a:solidFill>
                <a:uFillTx/>
                <a:latin typeface="Tahoma"/>
                <a:ea typeface="Tahoma"/>
              </a:rPr>
              <a:t>Годишен доклад </a:t>
            </a:r>
            <a:br>
              <a:rPr sz="2900"/>
            </a:br>
            <a:br>
              <a:rPr sz="2900"/>
            </a:br>
            <a:r>
              <a:rPr b="1" lang="bg-BG" sz="2300" spc="-1" strike="noStrike">
                <a:solidFill>
                  <a:srgbClr val="083763"/>
                </a:solidFill>
                <a:latin typeface="Tahoma"/>
                <a:ea typeface="Tahoma"/>
              </a:rPr>
              <a:t>за наблюдение на изпълнението </a:t>
            </a:r>
            <a:br>
              <a:rPr sz="2300"/>
            </a:br>
            <a:r>
              <a:rPr b="1" lang="bg-BG" sz="2300" spc="-1" strike="noStrike">
                <a:solidFill>
                  <a:srgbClr val="083763"/>
                </a:solidFill>
                <a:latin typeface="Tahoma"/>
                <a:ea typeface="Tahoma"/>
              </a:rPr>
              <a:t>на Актуализиран документ за изпълнение на Регионалния план за развитие на Южен централен район за 2013 г.</a:t>
            </a:r>
            <a:endParaRPr b="0" lang="en-US" sz="23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35280" y="5373720"/>
            <a:ext cx="4608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83763"/>
                </a:solidFill>
                <a:latin typeface="Tahoma"/>
                <a:ea typeface="Tahoma"/>
              </a:rPr>
              <a:t>Заседание на РСР на ЮЦР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763"/>
                </a:solidFill>
                <a:latin typeface="Tahoma"/>
                <a:ea typeface="Tahoma"/>
              </a:rPr>
              <a:t>2</a:t>
            </a:r>
            <a:r>
              <a:rPr b="1" lang="bg-BG" sz="1800" spc="-1" strike="noStrike">
                <a:solidFill>
                  <a:srgbClr val="083763"/>
                </a:solidFill>
                <a:latin typeface="Tahoma"/>
                <a:ea typeface="Tahoma"/>
              </a:rPr>
              <a:t>4.06.2014 г., гр. Пловди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2" descr="Untitled3.png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5040360"/>
          </a:xfrm>
          <a:prstGeom prst="rect">
            <a:avLst/>
          </a:prstGeom>
          <a:ln w="0">
            <a:noFill/>
          </a:ln>
        </p:spPr>
      </p:pic>
      <p:sp>
        <p:nvSpPr>
          <p:cNvPr id="255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F41E-707A-4E4F-BB53-3EBAA0AD4E1F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642600" y="1700280"/>
            <a:ext cx="7961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През 2013 г. в ЮЦР се отчита подобрение в стойностите на всички основни и специфични индикатори по 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Tahoma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риоритет 1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55a83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Положителна промяна има в привличането на инвестиции в района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55a83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Усвояването на средства по ОП „РКБИ“, ОП „РР“ и „ПРСР“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55a83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Създаването на клъстери и развитието на туризма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Въз основа на това може да се направи извод, че в изпълнение на мерките по приоритет 1 на АДИ на РПР на ЮЦР се наблюдава значителен напредък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468360" y="404640"/>
            <a:ext cx="8280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4617b"/>
                </a:solidFill>
                <a:latin typeface="Tahoma"/>
                <a:ea typeface="Tahoma"/>
              </a:rPr>
              <a:t>П</a:t>
            </a:r>
            <a:r>
              <a:rPr b="0" lang="ru-RU" sz="2600" spc="-1" strike="noStrike">
                <a:solidFill>
                  <a:srgbClr val="04617b"/>
                </a:solidFill>
                <a:latin typeface="Tahoma"/>
                <a:ea typeface="Tahoma"/>
              </a:rPr>
              <a:t>остигнат напредък по изпълнение на Приоритет 1 “Повишаване конкурентоспособността на регионалната икономика, базирана на знанието и местните ресурси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79EC-0C86-41FF-A76F-F08995345F83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7921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Приоритетни инфраструктурни проекти с национално и международно значение в областта на транспорта през 2013 г: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68360" y="404640"/>
            <a:ext cx="8675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  <a:ea typeface="Tahoma"/>
              </a:rPr>
              <a:t>Постигнат напредък по изпълнение на Приоритет 2 “Развитие и модернизация на техническатаинфраструктура и градската среда в ЮЦР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Diagram 6" descr=""/>
          <p:cNvPicPr/>
          <p:nvPr/>
        </p:nvPicPr>
        <p:blipFill>
          <a:blip r:embed="rId1"/>
          <a:stretch/>
        </p:blipFill>
        <p:spPr>
          <a:xfrm>
            <a:off x="542880" y="2378160"/>
            <a:ext cx="8004240" cy="4198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E09A-6394-46B8-8A63-706F1A6860CA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Diagram 5" descr=""/>
          <p:cNvPicPr/>
          <p:nvPr/>
        </p:nvPicPr>
        <p:blipFill>
          <a:blip r:embed="rId1"/>
          <a:stretch/>
        </p:blipFill>
        <p:spPr>
          <a:xfrm>
            <a:off x="596880" y="1407960"/>
            <a:ext cx="8066160" cy="40420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2"/>
          <p:cNvSpPr/>
          <p:nvPr/>
        </p:nvSpPr>
        <p:spPr>
          <a:xfrm>
            <a:off x="468360" y="404640"/>
            <a:ext cx="8675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  <a:ea typeface="Tahoma"/>
              </a:rPr>
              <a:t>Постигнат напредък по изпълнение на Приоритет 2 “Развитие и модернизация на техническатаинфраструктура и градската среда в ЮЦР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684360" y="4941720"/>
            <a:ext cx="7920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рез 2013 г. в ЮЦР се наблюдава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напредък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о отношение на изпълнението на мерките и целите по приоритет 2, който обхваща дейностите по развитието и модернизацията на техническата инфраструктура и градската среда. В процес на изпълнение са ключови проекти в транспортния сектор в района, повечето от които предстои да бъдат приключени през 201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B41E-39F8-4EC7-B60D-2D83604FB0FF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Diagram 5" descr=""/>
          <p:cNvPicPr/>
          <p:nvPr/>
        </p:nvPicPr>
        <p:blipFill>
          <a:blip r:embed="rId1"/>
          <a:stretch/>
        </p:blipFill>
        <p:spPr>
          <a:xfrm>
            <a:off x="500040" y="1566720"/>
            <a:ext cx="8156520" cy="3969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"/>
          <p:cNvSpPr/>
          <p:nvPr/>
        </p:nvSpPr>
        <p:spPr>
          <a:xfrm>
            <a:off x="468360" y="404640"/>
            <a:ext cx="8064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  <a:ea typeface="Tahoma"/>
              </a:rPr>
              <a:t>Постигнат напредък по изпълнение на Приоритет 3  “Подобряване на социалната инфраструктур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611280" y="5380200"/>
            <a:ext cx="799308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Прегледът на специфичните цели по приоритет 3 показва, че в ЮЦР се създават условия за повишаване на производителността, приспособимостта и устойчивостта на заетите, подобрява се качеството на образованието и здравеопазването, съизмерими с европейските  изисквания, което ще допринесе  за изпълнение на националните цели на Стратегия „Европа 2020“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85E4-A0AA-445D-B09E-45C6C088592A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Diagram 5" descr=""/>
          <p:cNvPicPr/>
          <p:nvPr/>
        </p:nvPicPr>
        <p:blipFill>
          <a:blip r:embed="rId1"/>
          <a:stretch/>
        </p:blipFill>
        <p:spPr>
          <a:xfrm>
            <a:off x="457200" y="1609560"/>
            <a:ext cx="8169120" cy="49197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"/>
          <p:cNvSpPr/>
          <p:nvPr/>
        </p:nvSpPr>
        <p:spPr>
          <a:xfrm>
            <a:off x="468360" y="404640"/>
            <a:ext cx="8064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  <a:ea typeface="Tahoma"/>
              </a:rPr>
              <a:t>Постигнат напредък по изпълнение на Приоритет 4 “Укрепване на институционалния капацитет на регионално и местно ниво за подобряване процеса на управление и подпомагане на инициативи за регионално и мест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6" descr="Untitled15_2.png"/>
          <p:cNvPicPr/>
          <p:nvPr/>
        </p:nvPicPr>
        <p:blipFill>
          <a:blip r:embed="rId1"/>
          <a:stretch/>
        </p:blipFill>
        <p:spPr>
          <a:xfrm>
            <a:off x="3492360" y="3382920"/>
            <a:ext cx="5651640" cy="3475080"/>
          </a:xfrm>
          <a:prstGeom prst="rect">
            <a:avLst/>
          </a:prstGeom>
          <a:ln w="0">
            <a:noFill/>
          </a:ln>
        </p:spPr>
      </p:pic>
      <p:sp>
        <p:nvSpPr>
          <p:cNvPr id="274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E1F3-5C83-4715-87D4-0CF3DE76B7C7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0643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4617b"/>
                </a:solidFill>
                <a:latin typeface="Tahoma"/>
                <a:ea typeface="Tahoma"/>
              </a:rPr>
              <a:t>Обща оценка на наблюдението на изпълнение на АДИ на РПР на Южен централен район</a:t>
            </a:r>
            <a:r>
              <a:rPr b="1" lang="bg-BG" sz="2600" spc="-1" strike="noStrike">
                <a:solidFill>
                  <a:srgbClr val="04617b"/>
                </a:solidFill>
                <a:latin typeface="Tahoma"/>
                <a:ea typeface="Tahoma"/>
              </a:rPr>
              <a:t>  </a:t>
            </a:r>
            <a:br>
              <a:rPr sz="2700"/>
            </a:br>
            <a:endParaRPr b="0" lang="en-US" sz="2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10920" y="1341000"/>
            <a:ext cx="5329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Tahoma"/>
                <a:ea typeface="Tahoma"/>
              </a:rPr>
              <a:t>         </a:t>
            </a:r>
            <a:r>
              <a:rPr b="0" lang="bg-BG" sz="1700" spc="-1" strike="noStrike">
                <a:solidFill>
                  <a:srgbClr val="000000"/>
                </a:solidFill>
                <a:latin typeface="Tahoma"/>
                <a:ea typeface="Tahoma"/>
              </a:rPr>
              <a:t>Изпълнението на АДИ на РПР на ЮЦР показва, че определената в него рамка на политиката за регионално развитие в ЮЦР като цяло се изпълнява чрез инструментите за сближаване и съответното национално съфинансиране. Същевременно е ясна необходимостта от по-конкретно адресиране на бъдещите мерки към специфичните икономически и социални проблеми на района, в контекста на общите структурни предизвикателства пред развитието.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Постигането на устойчиво и балансирано развитие на ЮЦР предполага по-активна политика и насочване на усилия за намаляване на междурегионалните и вътрешнорегионалните неравенства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B4A5-C37A-42CE-8766-4FCC6A51FDD3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993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4617b"/>
                </a:solidFill>
                <a:latin typeface="Tahoma"/>
                <a:ea typeface="Tahoma"/>
              </a:rPr>
              <a:t>Действия, предприети от РСР</a:t>
            </a:r>
            <a:r>
              <a:rPr b="0" lang="bg-BG" sz="2500" spc="-1" strike="noStrike">
                <a:solidFill>
                  <a:srgbClr val="04617b"/>
                </a:solidFill>
                <a:latin typeface="Tahoma"/>
                <a:ea typeface="Tahoma"/>
              </a:rPr>
              <a:t> в ЮЦР</a:t>
            </a:r>
            <a:r>
              <a:rPr b="0" lang="ru-RU" sz="2500" spc="-1" strike="noStrike">
                <a:solidFill>
                  <a:srgbClr val="04617b"/>
                </a:solidFill>
                <a:latin typeface="Tahoma"/>
                <a:ea typeface="Tahoma"/>
              </a:rPr>
              <a:t> с цел осигуряване на ефективност и ефикасност при изпълнението на АДИ на </a:t>
            </a:r>
            <a:r>
              <a:rPr b="0" lang="bg-BG" sz="2500" spc="-1" strike="noStrike">
                <a:solidFill>
                  <a:srgbClr val="04617b"/>
                </a:solidFill>
                <a:latin typeface="Tahoma"/>
                <a:ea typeface="Tahoma"/>
              </a:rPr>
              <a:t>РПР на ЮЦР</a:t>
            </a:r>
            <a:r>
              <a:rPr b="0" lang="bg-BG" sz="2700" spc="-1" strike="noStrike">
                <a:solidFill>
                  <a:srgbClr val="04617b"/>
                </a:solidFill>
                <a:latin typeface="Tahoma"/>
                <a:ea typeface="Tahoma"/>
              </a:rPr>
              <a:t> през 2013 г.</a:t>
            </a:r>
            <a:endParaRPr b="0" lang="en-US" sz="27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Tahoma"/>
              </a:rPr>
              <a:t>Наблюдението на изпълнението на РПР е отговорност на РСР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Tahoma"/>
              </a:rPr>
              <a:t>Представена и обсъдена Предварителната и Екологичната оценка на Регионалния план за развитие на Южен централен район за периода 2014-2020 г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Tahoma"/>
              </a:rPr>
              <a:t>Обсъдени приоритетни мерки и проекти в областта на транспорта и транспортната инфраструктура, ключови за Южен централен район за програмния период 2014-2020 г.,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Tahoma"/>
              </a:rPr>
              <a:t>Обсъдени и съгласувани проектите на Областните стратегии за развитие на областите от ЮЦР за периода 2014-2020 г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Tahoma"/>
              </a:rPr>
              <a:t>Обсъдени "Резултати от анализа на градското развитие в България" и Втори финален проект на оперативна програма "Региони в растеж" 2014-2020 г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Tahoma"/>
              </a:rPr>
              <a:t>Оценка на въздействието на Закона за регионалното развитие и Правилника за прилагане на Закона за регионалното развитие и др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A733-A9D7-4C23-B907-C454CF31B045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1280" y="277920"/>
            <a:ext cx="79214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4617b"/>
                </a:solidFill>
                <a:latin typeface="Tahoma"/>
                <a:ea typeface="Tahoma"/>
              </a:rPr>
              <a:t>Заключения и предложения за подобряване </a:t>
            </a:r>
            <a:br>
              <a:rPr sz="2800"/>
            </a:br>
            <a:r>
              <a:rPr b="0" lang="bg-BG" sz="2800" spc="-1" strike="noStrike">
                <a:solidFill>
                  <a:srgbClr val="04617b"/>
                </a:solidFill>
                <a:latin typeface="Tahoma"/>
                <a:ea typeface="Tahoma"/>
              </a:rPr>
              <a:t>на резултатите от наблюдението</a:t>
            </a:r>
            <a:endParaRPr b="0" lang="en-US" sz="28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74200" y="1700280"/>
            <a:ext cx="8029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 algn="just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Напредъкът по изпълнението на приоритетите на АДИ на РПР на ЮЦР (2011-2013) е съществен.  Това се дължи на  високата  усвояемост на  средствата от фондовете на ЕС  в района за периода 2012 -2013 г.  Отчетени са добри социално-икономически показатели, близки до средните  за  страната. Констатиран е напредък, свързан с подобряване на  транспортната и бизнес инфраструктура, подобряване на туристическите атракции, обновление на градската сред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Отчита се увеличаване на обема на информация,  предоставена от областните и общински администрации. Със съдействието на Председателя на РСР на ЮЦР, областните управители и помоща на Секретариата на РСР е събрана и обобщена информация за настоящия Годишен докла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D7D9-B7B1-47F6-9AC5-67438E0805F6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0920" y="277920"/>
            <a:ext cx="79930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  <a:ea typeface="Tahoma"/>
              </a:rPr>
              <a:t>Заключения и предложения за подобряване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Tahoma"/>
                <a:ea typeface="Tahoma"/>
              </a:rPr>
              <a:t>на резултатите от наблюдението</a:t>
            </a:r>
            <a:endParaRPr b="0" lang="en-US" sz="28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10920" y="1628640"/>
            <a:ext cx="79246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Необходимо е да се насочат усилия към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Tahoma"/>
              </a:rPr>
              <a:t>оптимално функциониране на системата за наблюдение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Tahoma"/>
              </a:rPr>
              <a:t>създаване, организиране и поддържане на информационна база данни за изпълнени проекти, чието реализиране се финансира от държавния и общинските бюджети;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Tahoma"/>
              </a:rPr>
              <a:t>разработени допълнителни мерки за сътрудничество в граничните планински общини, чрез които да се използва специфичният им потенциал за развити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изготвянето на детайлна информация от УО на ниво ЮЦР  и обвързването й с индикаторите за наблюдение би спомогнало за по-пълно и точно отчитане на изпълнението на Регионалния план за развитие. За следващия програмен период е необходимо уеднаквяване на информацията за изпълнението на проектите, предоставяни от УО на оперативните програми и данните от ИСУ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4617b"/>
                </a:solidFill>
                <a:latin typeface="Times New Roman"/>
              </a:rPr>
              <a:t>ДОКЛАД ПО НАБЛЮДЕНИЕТО И КОНТРОЛА ПРИ ПРИЛАГАНЕТО НА РПР НА ЮЦР (2007-1013), ВКЛ. НА МЕРКИТЕ ЗА ПРЕДОТВРАТЯВАНЕ, НАМАЛЯВАНЕ ИЛИ ОТСТРАНЯВАНЕ НА ЕКОЛОГИЧНИ ЩЕТИ В РЕЗУЛТАТ НА ПРИЛАГАНЕТО НА РПР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I.</a:t>
            </a:r>
            <a:r>
              <a:rPr b="1" lang="bg-BG" sz="2000" spc="-1" strike="noStrike">
                <a:solidFill>
                  <a:srgbClr val="000000"/>
                </a:solidFill>
                <a:latin typeface="Georgia"/>
              </a:rPr>
              <a:t>Изпълнение на мерките за предотвратяване</a:t>
            </a:r>
            <a:r>
              <a:rPr b="0" lang="bg-BG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bg-BG" sz="2000" spc="-1" strike="noStrike">
                <a:solidFill>
                  <a:srgbClr val="000000"/>
                </a:solidFill>
                <a:latin typeface="Georgia"/>
              </a:rPr>
              <a:t>намаляване или отстраняване на екологичните щети в резултат на прилагането на РПР на ЮЦР (2007-2013), съгласно становище по ЕО № 2-2/2005 год. на МОСВ: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Georgia"/>
              </a:rPr>
              <a:t>1.1 до 1.1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bg-BG" sz="2000" spc="-1" strike="noStrike">
                <a:solidFill>
                  <a:srgbClr val="000000"/>
                </a:solidFill>
                <a:latin typeface="Georgia"/>
              </a:rPr>
              <a:t>II.Изпълнение на мерките за наблюдение и контрол при прилагане на РПР на ЮЦР (2007-2013), съгласно становище по ЕО № 2-2/2005 год. на МОСВ: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Georgia"/>
              </a:rPr>
              <a:t>Въздух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Georgia"/>
              </a:rPr>
              <a:t>Повърхностни и подземни вод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Georgia"/>
              </a:rPr>
              <a:t>Земи и почв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Georgia"/>
              </a:rPr>
              <a:t>Биоразнообразие и защитени територии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Georgia"/>
              </a:rPr>
              <a:t>Отпадъци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Georgia"/>
              </a:rPr>
              <a:t>Шум и вибрации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916-D710-4A1C-B45E-43FB4E6380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6CCB-6AB9-46A6-8735-0CC35BFB10AD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803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4617b"/>
                </a:solidFill>
                <a:latin typeface="Tahoma"/>
                <a:ea typeface="Tahoma"/>
              </a:rPr>
              <a:t>Промени в социално-икономическите условия на Южен централен район</a:t>
            </a:r>
            <a:endParaRPr b="0" lang="en-US" sz="28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6" name="Chart 4" descr=""/>
          <p:cNvPicPr/>
          <p:nvPr/>
        </p:nvPicPr>
        <p:blipFill>
          <a:blip r:embed="rId1"/>
          <a:stretch/>
        </p:blipFill>
        <p:spPr>
          <a:xfrm>
            <a:off x="603360" y="1620720"/>
            <a:ext cx="8076960" cy="469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4B95-5F1F-4F20-8D11-0B4D4C470D90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61128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83763"/>
                </a:solidFill>
                <a:latin typeface="Tahoma"/>
                <a:ea typeface="Tahoma"/>
              </a:rPr>
              <a:t>Благодаря за вниманието!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83763"/>
                </a:solidFill>
                <a:latin typeface="Tahoma"/>
                <a:ea typeface="Tahoma"/>
              </a:rPr>
              <a:t>МИНИСТЕРСТВО НА РЕГИОНАЛНОТО РАЗВИТ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83763"/>
                </a:solidFill>
                <a:latin typeface="Tahoma"/>
                <a:ea typeface="Tahoma"/>
              </a:rPr>
              <a:t>ГД “Стратегическо планиране на регионалното развитие и административно-териториално устройство”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083763"/>
                </a:solidFill>
                <a:latin typeface="Tahoma"/>
                <a:ea typeface="Tahoma"/>
              </a:rPr>
              <a:t> </a:t>
            </a:r>
            <a:r>
              <a:rPr b="0" lang="bg-BG" sz="2500" spc="-1" strike="noStrike">
                <a:solidFill>
                  <a:srgbClr val="083763"/>
                </a:solidFill>
                <a:latin typeface="Tahoma"/>
                <a:ea typeface="Tahoma"/>
              </a:rPr>
              <a:t>Отдел “Стратегическо планиране и координация на регионалното развитие в Южен централен район” - Пловдив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083763"/>
                </a:solidFill>
                <a:latin typeface="Tahoma"/>
                <a:ea typeface="Tahoma"/>
              </a:rPr>
              <a:t>Даниела Опълченска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83763"/>
                </a:solidFill>
                <a:latin typeface="Tahoma"/>
                <a:ea typeface="Tahoma"/>
              </a:rPr>
              <a:t>	</a:t>
            </a:r>
            <a:r>
              <a:rPr b="0" lang="bg-BG" sz="1800" spc="-1" strike="noStrike">
                <a:solidFill>
                  <a:srgbClr val="083763"/>
                </a:solidFill>
                <a:latin typeface="Tahoma"/>
                <a:ea typeface="Tahoma"/>
              </a:rPr>
              <a:t>Мобилен тел:0884 66 36 21,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83763"/>
                </a:solidFill>
                <a:latin typeface="Tahoma"/>
                <a:ea typeface="Tahoma"/>
              </a:rPr>
              <a:t>е</a:t>
            </a:r>
            <a:r>
              <a:rPr b="0" lang="en-US" sz="1800" spc="-1" strike="noStrike">
                <a:solidFill>
                  <a:srgbClr val="083763"/>
                </a:solidFill>
                <a:latin typeface="Tahoma"/>
                <a:ea typeface="Tahoma"/>
              </a:rPr>
              <a:t>-mail</a:t>
            </a:r>
            <a:r>
              <a:rPr b="0" lang="bg-BG" sz="1800" spc="-1" strike="noStrike">
                <a:solidFill>
                  <a:srgbClr val="083763"/>
                </a:solidFill>
                <a:latin typeface="Tahoma"/>
                <a:ea typeface="Tahoma"/>
              </a:rPr>
              <a:t>: </a:t>
            </a:r>
            <a:r>
              <a:rPr b="0" lang="en-US" sz="1800" spc="-1" strike="noStrike">
                <a:solidFill>
                  <a:srgbClr val="083763"/>
                </a:solidFill>
                <a:latin typeface="Tahoma"/>
                <a:ea typeface="Tahoma"/>
              </a:rPr>
              <a:t>DOpalchenska@mrrb.government.b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Tahoma"/>
                <a:ea typeface="Tahoma"/>
              </a:rPr>
              <a:t>secretariat_rsr_scr.p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Контейнер за номер на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188A-BC36-4A79-B39A-E1973EA9E577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803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4617b"/>
                </a:solidFill>
                <a:latin typeface="Tahoma"/>
                <a:ea typeface="Tahoma"/>
              </a:rPr>
              <a:t>Промени в социално-икономическите условия на Южен централен район</a:t>
            </a:r>
            <a:endParaRPr b="0" lang="en-US" sz="28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9" name="Chart 7" descr=""/>
          <p:cNvPicPr/>
          <p:nvPr/>
        </p:nvPicPr>
        <p:blipFill>
          <a:blip r:embed="rId1"/>
          <a:stretch/>
        </p:blipFill>
        <p:spPr>
          <a:xfrm>
            <a:off x="603360" y="1620720"/>
            <a:ext cx="6351480" cy="4767480"/>
          </a:xfrm>
          <a:prstGeom prst="rect">
            <a:avLst/>
          </a:prstGeom>
          <a:ln w="0">
            <a:noFill/>
          </a:ln>
        </p:spPr>
      </p:pic>
      <p:cxnSp>
        <p:nvCxnSpPr>
          <p:cNvPr id="230" name="Straight Arrow Connector 14"/>
          <p:cNvCxnSpPr/>
          <p:nvPr/>
        </p:nvCxnSpPr>
        <p:spPr>
          <a:xfrm flipV="1">
            <a:off x="6227640" y="3789000"/>
            <a:ext cx="145440" cy="5040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pic>
        <p:nvPicPr>
          <p:cNvPr id="231" name="Chart 6" descr=""/>
          <p:cNvPicPr/>
          <p:nvPr/>
        </p:nvPicPr>
        <p:blipFill>
          <a:blip r:embed="rId2"/>
          <a:stretch/>
        </p:blipFill>
        <p:spPr>
          <a:xfrm>
            <a:off x="5138640" y="1047600"/>
            <a:ext cx="3834000" cy="2749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628280"/>
            <a:ext cx="822960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  <a:ea typeface="Tahoma"/>
              </a:rPr>
              <a:t>През 2013 г.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  <a:ea typeface="Tahoma"/>
              </a:rPr>
              <a:t>коефициентът на безработица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на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  <a:ea typeface="Tahoma"/>
              </a:rPr>
              <a:t>населениет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на 15-64 навършени години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  <a:ea typeface="Tahoma"/>
              </a:rPr>
              <a:t>в ЮЦР е 13,5% и е по-висок от средния за страната – 13%. Спрямо 2012 г. този показател за района отчита минимално намаление с 0,5%. Стойността за област Пловдив е 13,5%, област Кърджали - 7%, област Пазарджик-13,1%, област Смолян-20,1%, Хасково-14,4%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0DD5-D041-488A-AC04-6191A507E297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7561440" cy="34560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2"/>
          <p:cNvSpPr/>
          <p:nvPr/>
        </p:nvSpPr>
        <p:spPr>
          <a:xfrm>
            <a:off x="468360" y="404640"/>
            <a:ext cx="8280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4617b"/>
                </a:solidFill>
                <a:latin typeface="Tahoma"/>
                <a:ea typeface="Tahoma"/>
              </a:rPr>
              <a:t>Промени в социално-икономическите условия на Южен централен рай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50560" y="1773360"/>
            <a:ext cx="84358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  <a:ea typeface="Tahoma"/>
              </a:rPr>
              <a:t>Коефициентът на заетост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  <a:ea typeface="Tahoma"/>
              </a:rPr>
              <a:t> на населението между 15-64 навършени години в ЮЦР за 2013 г. е  59,4% и се доближава до средния за страната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  <a:ea typeface="Tahoma"/>
              </a:rPr>
              <a:t> (59,5%.) Спрямо 2012 г. стойността му се е увеличила с 2,5 %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Стойността за област Пловдив е 61,2%, област Кърджали - 59%, област Пазарджик-56,0%, област Смолян-59,3%, Хасково-58,4%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Контейнер за номер на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59DD-81B1-4548-866D-00C8D8F21136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7945560" cy="37893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2"/>
          <p:cNvSpPr/>
          <p:nvPr/>
        </p:nvSpPr>
        <p:spPr>
          <a:xfrm>
            <a:off x="468360" y="404640"/>
            <a:ext cx="8280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4617b"/>
                </a:solidFill>
                <a:latin typeface="Tahoma"/>
                <a:ea typeface="Tahoma"/>
              </a:rPr>
              <a:t>Промени в социално-икономическите условия на Южен централен рай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55700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ЧИ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в ЮЦР през 2012 г. са 2 033 178,6 хил. евро или 9,3 % от тези за страната. В сравнение с 2011г.,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Ч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за 2012г. са се увеличили с 124 412,5 хил. евро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Въпреки последствията от икономическата криза, районът е привлякъл инвестиции и от 4-то място за 2011 г. се нарежда на 3-то място сред районите в страната през 2012 г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0C75-6750-45B5-B610-64A7C85968C2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971640" y="3500280"/>
            <a:ext cx="7416720" cy="33577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"/>
          <p:cNvSpPr/>
          <p:nvPr/>
        </p:nvSpPr>
        <p:spPr>
          <a:xfrm>
            <a:off x="468360" y="404640"/>
            <a:ext cx="8280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4617b"/>
                </a:solidFill>
                <a:latin typeface="Tahoma"/>
                <a:ea typeface="Tahoma"/>
              </a:rPr>
              <a:t>Промени в социално-икономическите условия на Южен централен рай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14130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  <a:ea typeface="Tahoma"/>
              </a:rPr>
              <a:t>В привличането на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  <a:ea typeface="Tahoma"/>
              </a:rPr>
              <a:t>ПЧИ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  <a:ea typeface="Tahoma"/>
              </a:rPr>
              <a:t> през 2012 г. в ЮЦР водеща е област Пловдив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с 1 340 733,9 хил. евро. С най-малко привлечени ПЧИ е област Смолян с 75 502,9 хил. евро. Наблюдаваната разлика между привлечените инвестиции в двете области е голяма, което налага да се търсят допълнителни механизми за преодоляване на вътрешнорегионалните нервенства по отношение на този показател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CDCD-BAB3-4E7A-8205-C425FD1A4495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979640" y="3141720"/>
            <a:ext cx="5729400" cy="36925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2"/>
          <p:cNvSpPr/>
          <p:nvPr/>
        </p:nvSpPr>
        <p:spPr>
          <a:xfrm>
            <a:off x="468360" y="404640"/>
            <a:ext cx="8280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4617b"/>
                </a:solidFill>
                <a:latin typeface="Tahoma"/>
                <a:ea typeface="Tahoma"/>
              </a:rPr>
              <a:t>Промени в социално-икономическите условия на Южен централен рай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F786-C918-4035-A06B-E1F2076507E1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468360" y="404640"/>
            <a:ext cx="8280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4617b"/>
                </a:solidFill>
                <a:latin typeface="Tahoma"/>
                <a:ea typeface="Tahoma"/>
              </a:rPr>
              <a:t>Постигнат напредък 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  <a:ea typeface="Tahoma"/>
              </a:rPr>
              <a:t>по изпълнение на целите на АДИ на РПР на ЮЦ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Diagram 6" descr=""/>
          <p:cNvPicPr/>
          <p:nvPr/>
        </p:nvPicPr>
        <p:blipFill>
          <a:blip r:embed="rId1"/>
          <a:stretch/>
        </p:blipFill>
        <p:spPr>
          <a:xfrm>
            <a:off x="476280" y="1554120"/>
            <a:ext cx="8246880" cy="4773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CDCA-A752-48E0-A4F8-EE4F76EC3613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468360" y="404640"/>
            <a:ext cx="8280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4617b"/>
                </a:solidFill>
                <a:latin typeface="Tahoma"/>
                <a:ea typeface="Tahoma"/>
              </a:rPr>
              <a:t>П</a:t>
            </a:r>
            <a:r>
              <a:rPr b="0" lang="ru-RU" sz="2600" spc="-1" strike="noStrike">
                <a:solidFill>
                  <a:srgbClr val="04617b"/>
                </a:solidFill>
                <a:latin typeface="Tahoma"/>
                <a:ea typeface="Tahoma"/>
              </a:rPr>
              <a:t>остигнат напредък по изпълнение на Приоритет 1 “Повишаване конкурентоспособността на регионалната икономика, базирана на знанието и местните ресурси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Diagram 5" descr=""/>
          <p:cNvPicPr/>
          <p:nvPr/>
        </p:nvPicPr>
        <p:blipFill>
          <a:blip r:embed="rId1"/>
          <a:stretch/>
        </p:blipFill>
        <p:spPr>
          <a:xfrm>
            <a:off x="549360" y="1951200"/>
            <a:ext cx="8113680" cy="466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3:03:53Z</dcterms:created>
  <dc:creator>MRRB</dc:creator>
  <dc:description/>
  <dc:language>en-US</dc:language>
  <cp:lastModifiedBy>MRRB</cp:lastModifiedBy>
  <dcterms:modified xsi:type="dcterms:W3CDTF">2014-07-09T06:57:21Z</dcterms:modified>
  <cp:revision>270</cp:revision>
  <dc:subject/>
  <dc:title>Годишен доклад  за наблюдение  на изпълнението  на РПР на ЮЦР      2013 г.</dc:title>
</cp:coreProperties>
</file>