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0.png" ContentType="image/png"/>
  <Override PartName="/ppt/media/image48.png" ContentType="image/png"/>
  <Override PartName="/ppt/media/image11.png" ContentType="image/png"/>
  <Override PartName="/ppt/media/image31.png" ContentType="image/png"/>
  <Override PartName="/ppt/media/image29.wmf" ContentType="image/x-wmf"/>
  <Override PartName="/ppt/media/image39.png" ContentType="image/png"/>
  <Override PartName="/ppt/media/image9.png" ContentType="image/png"/>
  <Override PartName="/ppt/media/image86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10.png" ContentType="image/png"/>
  <Override PartName="/ppt/media/image50.png" ContentType="image/png"/>
  <Override PartName="/ppt/media/image93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68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64.png" ContentType="image/png"/>
  <Override PartName="/ppt/media/image99.png" ContentType="image/png"/>
  <Override PartName="/ppt/media/image87.png" ContentType="image/png"/>
  <Override PartName="/ppt/media/image75.png" ContentType="image/png"/>
  <Override PartName="/ppt/media/image63.png" ContentType="image/png"/>
  <Override PartName="/ppt/media/image98.png" ContentType="image/png"/>
  <Override PartName="/ppt/media/image5.jpeg" ContentType="image/jpeg"/>
  <Override PartName="/ppt/media/image61.png" ContentType="image/png"/>
  <Override PartName="/ppt/media/image97.png" ContentType="image/png"/>
  <Override PartName="/ppt/media/image60.png" ContentType="image/png"/>
  <Override PartName="/ppt/media/image95.png" ContentType="image/png"/>
  <Override PartName="/ppt/media/image94.png" ContentType="image/png"/>
  <Override PartName="/ppt/media/image89.png" ContentType="image/png"/>
  <Override PartName="/ppt/media/image62.png" ContentType="image/png"/>
  <Override PartName="/ppt/media/image96.jpeg" ContentType="image/jpeg"/>
  <Override PartName="/ppt/media/image16.png" ContentType="image/png"/>
  <Override PartName="/ppt/media/image81.png" ContentType="image/png"/>
  <Override PartName="/ppt/media/image77.png" ContentType="image/png"/>
  <Override PartName="/ppt/media/image40.png" ContentType="image/png"/>
  <Override PartName="/ppt/media/image88.png" ContentType="image/png"/>
  <Override PartName="/ppt/media/image76.png" ContentType="image/png"/>
  <Override PartName="/ppt/media/image79.png" ContentType="image/png"/>
  <Override PartName="/ppt/media/image78.png" ContentType="image/png"/>
  <Override PartName="/ppt/media/image92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83.png" ContentType="image/png"/>
  <Override PartName="/ppt/media/image6.jpeg" ContentType="image/jpeg"/>
  <Override PartName="/ppt/media/image71.png" ContentType="image/png"/>
  <Override PartName="/ppt/media/image82.png" ContentType="image/png"/>
  <Override PartName="/ppt/media/image17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0.png" ContentType="image/png"/>
  <Override PartName="/ppt/media/image25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  <p:sldId id="317" r:id="rId81"/>
    <p:sldId id="318" r:id="rId82"/>
    <p:sldId id="319" r:id="rId83"/>
    <p:sldId id="320" r:id="rId84"/>
    <p:sldId id="321" r:id="rId85"/>
    <p:sldId id="322" r:id="rId86"/>
    <p:sldId id="323" r:id="rId87"/>
    <p:sldId id="324" r:id="rId88"/>
    <p:sldId id="325" r:id="rId89"/>
    <p:sldId id="326" r:id="rId90"/>
    <p:sldId id="327" r:id="rId91"/>
    <p:sldId id="328" r:id="rId92"/>
    <p:sldId id="329" r:id="rId93"/>
    <p:sldId id="330" r:id="rId94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slide" Target="slides/slide62.xml"/><Relationship Id="rId82" Type="http://schemas.openxmlformats.org/officeDocument/2006/relationships/slide" Target="slides/slide63.xml"/><Relationship Id="rId83" Type="http://schemas.openxmlformats.org/officeDocument/2006/relationships/slide" Target="slides/slide64.xml"/><Relationship Id="rId84" Type="http://schemas.openxmlformats.org/officeDocument/2006/relationships/slide" Target="slides/slide65.xml"/><Relationship Id="rId85" Type="http://schemas.openxmlformats.org/officeDocument/2006/relationships/slide" Target="slides/slide66.xml"/><Relationship Id="rId86" Type="http://schemas.openxmlformats.org/officeDocument/2006/relationships/slide" Target="slides/slide67.xml"/><Relationship Id="rId87" Type="http://schemas.openxmlformats.org/officeDocument/2006/relationships/slide" Target="slides/slide68.xml"/><Relationship Id="rId88" Type="http://schemas.openxmlformats.org/officeDocument/2006/relationships/slide" Target="slides/slide69.xml"/><Relationship Id="rId89" Type="http://schemas.openxmlformats.org/officeDocument/2006/relationships/slide" Target="slides/slide70.xml"/><Relationship Id="rId90" Type="http://schemas.openxmlformats.org/officeDocument/2006/relationships/slide" Target="slides/slide71.xml"/><Relationship Id="rId91" Type="http://schemas.openxmlformats.org/officeDocument/2006/relationships/slide" Target="slides/slide72.xml"/><Relationship Id="rId92" Type="http://schemas.openxmlformats.org/officeDocument/2006/relationships/slide" Target="slides/slide73.xml"/><Relationship Id="rId93" Type="http://schemas.openxmlformats.org/officeDocument/2006/relationships/slide" Target="slides/slide74.xml"/><Relationship Id="rId94" Type="http://schemas.openxmlformats.org/officeDocument/2006/relationships/slide" Target="slides/slide75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dt" idx="45"/>
          </p:nvPr>
        </p:nvSpPr>
        <p:spPr>
          <a:xfrm>
            <a:off x="380844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sldImg"/>
          </p:nvPr>
        </p:nvSpPr>
        <p:spPr>
          <a:xfrm>
            <a:off x="918720" y="733320"/>
            <a:ext cx="48862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ftr" idx="46"/>
          </p:nvPr>
        </p:nvSpPr>
        <p:spPr>
          <a:xfrm>
            <a:off x="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 type="sldNum" idx="47"/>
          </p:nvPr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AD0A-4F48-4FA4-B828-022AD3D1C164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A80B-B89D-499F-985A-ED2F9AE9E4E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FD54-2E8C-4A3D-97D0-BF7F7EEBC97C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4D91-AE42-40FC-BBF1-BE9FF63E7A5C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8651-0EE1-499F-951D-BBDE685E581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7C3A-E1CE-459E-A7CA-89EBA954664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F4B2-A122-4B9B-B78E-B044514CEC6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FAC1-7030-4466-BA70-6CE9B2F40DE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75E1-5FFD-4410-AEE2-321D6B026F61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64D3-8C36-443B-A3B9-AA9A3AB1D32E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9951-BC67-49DC-ACD8-0A15007936F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4E6B-9D68-421A-8B9F-0E6E7115FCB2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AAC7-0684-493D-B9CF-BC807CAA6AC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600" spc="-1" strike="noStrike">
                <a:solidFill>
                  <a:srgbClr val="42568d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 ресурс за периода 2014-202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вропейско финансиран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лн. евр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-те оперативни програм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 422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а за морско дело и рибарст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а за развитие на селските район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 339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 сума по С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 84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 за европейско подпомагане на най-нуждаещите се лица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ни плащания*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 33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ъм за свързване на Европ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0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 териториално сътрудничеств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6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о за Бълга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 86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Сумата за 2014 г. е съгласно таблица 2, параграф 4 от Приложение ІІ на Регламент (ЕС) 1310/201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за периода 2015-2020 е съгласно приложение ІІ от Регламент (ЕС) 1307/201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B1EB-9C42-4857-915D-8776642475B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1D0E-7694-43F6-B940-0F737841B80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6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1285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C247-5F4F-4CBB-8283-ECD87D062DA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FF3A-FF1F-4E0C-B6F2-7B13FAA47CE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51AE-A5A7-437D-9E67-ED8DD253F4C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1BC3-8A8F-44E7-BA0A-D289DF65FBB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02B9-8190-4CCC-96F1-C51BBACF060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0328-BABD-433C-A2E2-E5025255D60E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C6C0-55F8-497F-A30A-4E18F68B63C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6CAF-FD16-4B24-9820-7AB82A8BEAD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4976-0F7E-4035-81B5-08D337F4BBC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2311-DBEF-4455-8FE2-08118F259C4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1C57-D14A-48EB-9934-8741C44BFD2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2E19-B0A5-4424-8AD2-0570DA47BB4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AED547-1379-4046-AFBD-B14299C7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017C88-5B21-49BA-8D9C-D83A2185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DB3B4C-551A-4626-92EF-E3166B89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5288E5-2978-416E-9A6A-14CCC86F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597B11-1939-4C35-A1A3-6CE5D077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37A5B1-5FEF-47E7-BA5D-4A38C607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EB172A-877C-4725-BC05-3CD48247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7AEC86-3940-4F59-AD4B-FCC5B69C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31E4F9-9CCC-4E33-9828-9AE0DDF6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C23897-9EAD-4AF8-8260-E7D748C6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E3FE57-4BDE-49F1-960F-DA145EF0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323F36-F8EC-4CB3-A342-159E2B4D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8A3629-4192-47AF-AD88-5A354534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1354E9-9147-412F-91D0-A388CDFE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179082-EDD1-4625-8E01-29D73D41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A2AA61-42A2-4801-AC6F-2695BC48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449D21-64B2-4747-827F-5BE55EF1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F1FB8D-823E-4FFC-B80A-B57CFEF8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8AA39F-C95C-4B35-BFAA-E88FBC4C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4BAAB5-8FDC-4D28-A026-3C9462F3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E4E53D-3B8C-45D5-B0BE-DAB95619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33F802-CE41-45C6-B62E-7F533B52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81C82E-15E3-4E0E-9AC0-3AD0600B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9C37B3-1762-4600-8AB3-B89A60E9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32EB3F-6DF1-44A9-83C4-4E945DAA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4415D1-80E7-4FFC-871E-B2AABCEA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529B83-354F-4239-AD02-D70ABBA1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A60263-1FC7-4019-AE8F-772EF34D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6D8379-F8DF-4113-B845-14BACE1A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2B15D2-333A-4E59-B5AD-EB8F6DD7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DB152-F880-4288-9876-12ACFAD0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7F4DF8-56B4-4DCC-9738-56B44C9F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ECFA2B-74D9-4567-B04D-31A43028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63604A-1EE4-4CAA-84F9-FAF73B21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94991D-508C-4BA3-9CD4-4770905C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CF2FCD-5143-40F7-A1A1-2EC54192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7B9EBA-4BA0-4385-8385-8437196F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6E2664-967F-4748-B043-6C9E9052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CC368C-3AF5-46F7-8D3D-2D21C36B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51968B-56B1-4C9A-B935-F09B1C48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95841B-04DC-4860-A028-6484764D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5FED3-8E09-4972-B275-31F757AC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EBBFD2-0561-4C75-AD1A-DF8FE140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F11355-704E-43D6-894B-74D6A7D6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16E1A1-6372-48F3-8E2E-2DC267E4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24A714-B6B0-479A-83C9-D0714103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E6AC8D-4C94-4281-A925-64C5FD8D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865E70-0CC3-4E5D-9E0A-ECB1A0D8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130914-1D91-440D-9F38-7E615F9B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E19F36-7445-42D3-B085-FED46549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3C1296-2E60-49CC-B208-FCD00219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34DBD3-18B5-4720-ADBF-6B763B34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D8246-C137-4ABF-9CB6-F468A275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5214A2-6354-45AD-B036-D7202D3B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9AF9AF-08B3-4295-95FC-3044ADCF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32D0CB-C83A-4AAD-A12A-917AB6B0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41CA77-3CD5-4133-96C7-74CEBA8C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626996-0189-4A9C-BDA4-73D8994B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F01B27-1DB7-4EAF-80EA-648EBDB1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80C84B-6F48-4781-A8E4-78C72647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056F2F-8B1F-4D47-A836-9856F065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E985F0-088B-4779-B2F1-44D5F58A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2405B1-772A-4854-B9AC-08AA0EB2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E9C49-B7F7-4919-A105-6DA78CE5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7B65C6-2B9B-43DD-B226-9CA2434B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F9580C-2437-4D97-860E-BC416112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24B63D-6F4C-4E72-9AFF-7372AE94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A7FFF0-3C9A-41BA-BE33-9D93BE13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0A2CE9-8402-4C72-BF4F-9956C583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195B53-EE21-4087-A376-88D99169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4AB61D-8092-4F8E-BE14-08F7DCE4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7F4FC1-488D-4372-AE8B-9B77BEFF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596C3A-CA7B-4E00-A61D-8E3DC61E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4C5B61-1A16-45DB-BA1C-54B61283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03CF1-5442-4DFB-A706-8E02FE98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C0678A-03AB-4D5A-8BC4-A5B57492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40356D-1076-4EA1-B078-97585792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57966A-07FF-489C-9794-CD7A8F3E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3B7DD3-14C1-4870-B7C3-F5DEB694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367635-15D2-45C8-BD02-3D7146DB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ADF951-FB99-4CCF-BA78-7F8355DC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637FAF-AF7C-4D9E-B7DC-6EAE3F98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981399-5A9F-4B5A-BF82-1F754144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61778F-3C24-4B4C-BA82-7CEA4E07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D1D2AE-A294-409B-831D-707A0DA1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79464-487A-4ECB-96F9-EADCDAD5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FB675C-AE71-4415-84FE-BC4EA261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8F3F16E-77C6-4B89-842E-76094104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1CF4D7-AC34-48C2-812A-8B549840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670F35-5BC5-46B5-93CF-3991FB35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C45B42-13B4-4B6C-8721-7B5BB95C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9328D0-4430-4E9A-8ADC-91F344D9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69866D-5A5E-4986-9F28-DD886584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6A5B98-12E6-4340-B70C-67A24DB3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D029A1A-475A-4C75-A590-A946ABD8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6DA1B6-86EB-4449-B4AB-DCCD3C41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54866-0128-400B-A380-DC21F209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69C3B06-0529-4094-B7D3-E16DBC22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453C17-44DD-415C-A31D-DF76BD59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B92987-54AB-4EA2-84FD-6E516B4A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EEDF6D-7B09-446D-A65C-4FF3E716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BC2E43-1179-478A-86A0-0B3FA469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FE60F74-DA5E-407A-A560-99A02CCE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AFCDA6-A84A-40EE-9D42-7029899F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487146-DB32-4937-B119-692923E4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B5FC2C-2616-42EF-BD89-ED455642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5A8F15-E70B-4639-A7C4-2777A9C7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F54D7-BA89-42F2-8AF8-157597EB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3F98A5-FF7B-4D00-81C0-DEB5AB49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B39EFA-E5E7-4E11-9E4C-C8CC768D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7D4CC6-B1AA-422B-A399-175CBA4F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55409F-22C6-46E0-8D51-9EDD6C1F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5BCD092-ADEE-462B-AAF5-EF206014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53DC0-F0B9-469D-B872-2E03AD25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F3E59-509E-4C65-9CD1-92306A5A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7628-A263-4DD7-948B-C69C6AC3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DE03A-CD61-45D5-A10B-E4DD7389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2444-9BE0-44E2-A7B4-936F213D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0E87-A9F3-457C-A761-7C54AAD6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3569-B7DB-495B-A274-5AB251CC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C02B-D159-46C5-9E89-D990FCFD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1AB1-A363-4CA4-A08F-BA996338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76CB-549F-499E-9A55-7DD849BD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DBD9-EA40-4D7B-A97D-89FEF7EF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E1A5-A7D5-438D-9DDE-AF0E5BBF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476F-FDD5-4E35-9C58-00257CD3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8EB5-8397-4B15-AA72-AD995B99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91C6-B928-45DD-8AF8-500E6B56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934E-5E0A-4111-9366-61FEC3C5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6860C-2CDA-413D-B837-80617BAE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7B741-1ADF-4544-8280-736EB771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71574-7823-43A0-A6B1-5EC918A3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3EA66-6497-41D8-8737-D4E60679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A665B-345B-4111-819E-DA28AB7E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E020D-F787-4CB9-89D9-C087B0DF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E4B2F-2BBE-4A27-91F6-5E51084A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C53A1-EE9E-4246-B6BA-48DA8837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0018F-714A-4696-AEB2-A5098BB8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53AB9-31AD-406D-813B-624CE8CD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C4A7B-AD91-4A29-944A-A97DA756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134FA-96B1-42A6-BC9D-700B04A9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ED0D9C-9DB8-49A3-97F5-B3F6ED6E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D0025-773D-4067-B54B-A61EA263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2B413E-BD9F-4285-A784-953B1E62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1FF40A-23CC-4BC1-B9D0-A59162A3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32122-6005-4217-B94C-F02A3884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76291-C1E6-4C11-9169-AC131E71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A0BD9D-1F35-4FE8-A40D-4C3EEA72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BA2013-E74F-4DB4-8896-3DCC4239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21610-7757-4202-8354-675C7DBF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86B62-3661-410F-A90D-D23FD3D2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726E4-DC07-4172-8E46-2E6B4DA5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AF11B0-D818-4941-BEDD-1CBEF8E6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019A17-8DB1-4AAE-BD17-E4046ADF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1D030A-84E8-4BAB-9A41-A856D65F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46C88C-728A-4096-B3CD-69FEDC9C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271D94-33D7-40FC-A5B7-EB74E76B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823607-D263-4CFE-AA02-74C7B735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F2462-3EEA-440F-9A25-202FF5B9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5B2033-718F-4FFA-92CC-B4111267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771A35-B4F2-4C62-AF05-6D1B07BB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94F351-861F-420A-8F39-00AD0DE6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48687B-67B6-421A-A20F-6187B759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81BA4C-767E-4D1E-A6A1-6E43E75A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6F0B91-7C7B-4BD4-8F9D-2DBC5C96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377C96-1F4F-41F6-A3EF-A845BBCD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EA1B76-845E-4135-B9CC-679158D3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66DB74-8328-43CD-A8E6-410DCCF9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8A71-BC28-4A6B-8B16-7D0F159731F6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74C2-80A4-421A-90D7-BFCE3A4653FB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18FF-E19A-402C-8D33-0EC02B0EC7F6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4F7D-8690-4F0A-A6FC-EE4BCF7420CE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A2B2-41B2-4211-B135-5A5E43BA5661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3E7F-E3FF-462D-82CF-AA3F9D26E9C7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1C8E-4459-459B-A847-645544A2BFE9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3D79-A183-4E64-9ECA-9565AD937239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4F81-787F-4F05-8ED6-AFA7392A05E6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2AA4-8671-41C2-B461-1363DE224FCE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99D6-DAF6-4C6D-8966-79DFEF1AFD85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B379-CD88-4B2F-990A-751A31EC30CC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0208-E5D1-412C-8F53-BE430DCC042D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1DA9-303A-4913-ADEE-AE4D730B26F4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8214-312A-45B5-9AAC-1203DCCDE548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EAAF-C087-4BB6-86D4-81FC4AE0541B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Rectangle 11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37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" name="Rectangle 12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40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589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2"/>
          </p:nvPr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7097d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4CDE-9E1D-43D2-8A32-8968BDBCD96C}" type="slidenum">
              <a:rPr b="0" lang="bg-BG" sz="1200" spc="-1" strike="noStrike">
                <a:solidFill>
                  <a:srgbClr val="7097d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/>
            <a:ahLst/>
            <a:rect l="l" t="t" r="r" b="b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70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dt" idx="3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A524-DC16-48DD-B2C8-D0DDCA6EDA21}" type="datetime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844A-3329-43BC-82E0-0D9D2DAE6D8D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1F8B-B29B-43F2-BF02-0CC97B8BC070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Picture2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Picture4"/>
          <p:cNvPicPr/>
          <p:nvPr/>
        </p:nvPicPr>
        <p:blipFill>
          <a:blip r:embed="rId4"/>
          <a:srcRect l="0" t="18494" r="0" b="0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1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164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Rectangle 12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167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/>
            <a:ahLst/>
            <a:rect l="l" t="t" r="r" b="b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70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Rectangle 9"/>
          <p:cNvGrpSpPr/>
          <p:nvPr/>
        </p:nvGrpSpPr>
        <p:grpSpPr>
          <a:xfrm>
            <a:off x="0" y="0"/>
            <a:ext cx="749160" cy="6858000"/>
            <a:chOff x="0" y="0"/>
            <a:chExt cx="749160" cy="6858000"/>
          </a:xfrm>
        </p:grpSpPr>
        <p:pic>
          <p:nvPicPr>
            <p:cNvPr id="171" name="Rectangle 9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7459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0" y="0"/>
              <a:ext cx="749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3" name="Group 10" descr=""/>
          <p:cNvPicPr/>
          <p:nvPr/>
        </p:nvPicPr>
        <p:blipFill>
          <a:blip r:embed="rId6"/>
          <a:stretch/>
        </p:blipFill>
        <p:spPr>
          <a:xfrm>
            <a:off x="7467480" y="208080"/>
            <a:ext cx="658800" cy="431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589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7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E81B-6163-4167-9D8A-0AFFDA4BF733}" type="datetime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8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9"/>
          </p:nvPr>
        </p:nvSpPr>
        <p:spPr>
          <a:xfrm>
            <a:off x="8150400" y="236520"/>
            <a:ext cx="78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7097d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45E0-B6E3-4539-8893-7B1271F2326A}" type="slidenum">
              <a:rPr b="0" lang="bg-BG" sz="1400" spc="-1" strike="noStrike">
                <a:solidFill>
                  <a:srgbClr val="7097d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Rectangle 11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216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Rectangle 12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219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/>
            <a:ahLst/>
            <a:rect l="l" t="t" r="r" b="b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70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589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0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1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40D5-A9B4-4D79-AB8E-5F58F350429E}" type="datetime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0A08-5981-4C37-B59E-9B7D3A4C2CF1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BF60-E3C4-4F11-991D-F382ABA3AA85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0E57-1E96-4E85-B67B-3FEE98C250D7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D3B0-FD0D-4894-9361-7F8B830BC587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FCFB-2FB8-41D8-85E5-CE2326561135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A08E-5A79-47D8-BDDC-98D68EDE1C4C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3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35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43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61.xml"/><Relationship Id="rId1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6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6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6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6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9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4"/>
          <p:cNvSpPr/>
          <p:nvPr/>
        </p:nvSpPr>
        <p:spPr>
          <a:xfrm>
            <a:off x="6688080" y="1700280"/>
            <a:ext cx="2135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Calibri"/>
              </a:rPr>
              <a:t>ОБЛАСТЕН ИНФОРМАЦИОНЕН ЦЕНТЪР - КЪРДЖАЛ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6"/>
          <p:cNvSpPr/>
          <p:nvPr/>
        </p:nvSpPr>
        <p:spPr>
          <a:xfrm>
            <a:off x="1619280" y="6165720"/>
            <a:ext cx="54021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800" spc="-1" strike="noStrike">
                <a:solidFill>
                  <a:srgbClr val="000000"/>
                </a:solidFill>
                <a:latin typeface="Calibri"/>
              </a:rPr>
              <a:t>Проект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BG161PO002-3.3.02-00012-C001”</a:t>
            </a:r>
            <a:r>
              <a:rPr b="0" i="1" lang="bg-BG" sz="800" spc="-1" strike="noStrike">
                <a:solidFill>
                  <a:srgbClr val="000000"/>
                </a:solidFill>
                <a:latin typeface="Calibri"/>
              </a:rPr>
              <a:t>Създаване на Областен информационен център в гр.Кърджали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”, </a:t>
            </a:r>
            <a:r>
              <a:rPr b="0" i="1" lang="bg-BG" sz="800" spc="-1" strike="noStrike">
                <a:solidFill>
                  <a:srgbClr val="000000"/>
                </a:solidFill>
                <a:latin typeface="Calibri"/>
              </a:rPr>
              <a:t>финансиран от Оперативна програма „Техническа помощ”, съфинансирана от Европейския съюз чрез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800" spc="-1" strike="noStrike">
                <a:solidFill>
                  <a:srgbClr val="000000"/>
                </a:solidFill>
                <a:latin typeface="Calibri"/>
              </a:rPr>
              <a:t>Европейския фонд за регионално развитие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2" name="Picture 4" descr=""/>
          <p:cNvPicPr/>
          <p:nvPr/>
        </p:nvPicPr>
        <p:blipFill>
          <a:blip r:embed="rId2"/>
          <a:stretch/>
        </p:blipFill>
        <p:spPr>
          <a:xfrm>
            <a:off x="593640" y="2422440"/>
            <a:ext cx="7956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Title 1" descr=""/>
          <p:cNvPicPr/>
          <p:nvPr/>
        </p:nvPicPr>
        <p:blipFill>
          <a:blip r:embed="rId1"/>
          <a:stretch/>
        </p:blipFill>
        <p:spPr>
          <a:xfrm>
            <a:off x="237960" y="255600"/>
            <a:ext cx="8436240" cy="853920"/>
          </a:xfrm>
          <a:prstGeom prst="rect">
            <a:avLst/>
          </a:prstGeom>
          <a:ln w="0">
            <a:noFill/>
          </a:ln>
        </p:spPr>
      </p:pic>
      <p:grpSp>
        <p:nvGrpSpPr>
          <p:cNvPr id="857" name="TextBox 3"/>
          <p:cNvGrpSpPr/>
          <p:nvPr/>
        </p:nvGrpSpPr>
        <p:grpSpPr>
          <a:xfrm>
            <a:off x="536400" y="1706400"/>
            <a:ext cx="7937640" cy="457200"/>
            <a:chOff x="536400" y="1706400"/>
            <a:chExt cx="7937640" cy="457200"/>
          </a:xfrm>
        </p:grpSpPr>
        <p:pic>
          <p:nvPicPr>
            <p:cNvPr id="858" name="TextBox 3" descr=""/>
            <p:cNvPicPr/>
            <p:nvPr/>
          </p:nvPicPr>
          <p:blipFill>
            <a:blip r:embed="rId2"/>
            <a:stretch/>
          </p:blipFill>
          <p:spPr>
            <a:xfrm>
              <a:off x="536400" y="1706400"/>
              <a:ext cx="7937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"/>
            <p:cNvSpPr/>
            <p:nvPr/>
          </p:nvSpPr>
          <p:spPr>
            <a:xfrm>
              <a:off x="560520" y="1733400"/>
              <a:ext cx="787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Растеж, основан на човешкия капита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0" name="TextBox 4"/>
          <p:cNvGrpSpPr/>
          <p:nvPr/>
        </p:nvGrpSpPr>
        <p:grpSpPr>
          <a:xfrm>
            <a:off x="506520" y="2219400"/>
            <a:ext cx="7935840" cy="457200"/>
            <a:chOff x="506520" y="2219400"/>
            <a:chExt cx="7935840" cy="457200"/>
          </a:xfrm>
        </p:grpSpPr>
        <p:pic>
          <p:nvPicPr>
            <p:cNvPr id="861" name="TextBox 4" descr=""/>
            <p:cNvPicPr/>
            <p:nvPr/>
          </p:nvPicPr>
          <p:blipFill>
            <a:blip r:embed="rId3"/>
            <a:stretch/>
          </p:blipFill>
          <p:spPr>
            <a:xfrm>
              <a:off x="506520" y="2219400"/>
              <a:ext cx="7935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"/>
            <p:cNvSpPr/>
            <p:nvPr/>
          </p:nvSpPr>
          <p:spPr>
            <a:xfrm>
              <a:off x="530280" y="2244600"/>
              <a:ext cx="787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Растеж, основан на иновации и предприемаче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TextBox 5"/>
          <p:cNvGrpSpPr/>
          <p:nvPr/>
        </p:nvGrpSpPr>
        <p:grpSpPr>
          <a:xfrm>
            <a:off x="506520" y="2730600"/>
            <a:ext cx="7935840" cy="798480"/>
            <a:chOff x="506520" y="2730600"/>
            <a:chExt cx="7935840" cy="798480"/>
          </a:xfrm>
        </p:grpSpPr>
        <p:pic>
          <p:nvPicPr>
            <p:cNvPr id="864" name="TextBox 5" descr=""/>
            <p:cNvPicPr/>
            <p:nvPr/>
          </p:nvPicPr>
          <p:blipFill>
            <a:blip r:embed="rId4"/>
            <a:stretch/>
          </p:blipFill>
          <p:spPr>
            <a:xfrm>
              <a:off x="506520" y="2730600"/>
              <a:ext cx="79358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5" name=""/>
            <p:cNvSpPr/>
            <p:nvPr/>
          </p:nvSpPr>
          <p:spPr>
            <a:xfrm>
              <a:off x="547560" y="2773440"/>
              <a:ext cx="784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Растеж, основан на свързаност, устойчиво развитие и ефикасно използване на ресурсит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6" name="TextBox 6"/>
          <p:cNvGrpSpPr/>
          <p:nvPr/>
        </p:nvGrpSpPr>
        <p:grpSpPr>
          <a:xfrm>
            <a:off x="506520" y="3638520"/>
            <a:ext cx="7935840" cy="804960"/>
            <a:chOff x="506520" y="3638520"/>
            <a:chExt cx="7935840" cy="804960"/>
          </a:xfrm>
        </p:grpSpPr>
        <p:pic>
          <p:nvPicPr>
            <p:cNvPr id="867" name="TextBox 6" descr=""/>
            <p:cNvPicPr/>
            <p:nvPr/>
          </p:nvPicPr>
          <p:blipFill>
            <a:blip r:embed="rId5"/>
            <a:stretch/>
          </p:blipFill>
          <p:spPr>
            <a:xfrm>
              <a:off x="506520" y="3638520"/>
              <a:ext cx="79358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550800" y="3684600"/>
              <a:ext cx="784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Растеж, основан на ефективна публична администрация и съдебна систем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Rectangle 8"/>
          <p:cNvSpPr/>
          <p:nvPr/>
        </p:nvSpPr>
        <p:spPr>
          <a:xfrm>
            <a:off x="468360" y="1628640"/>
            <a:ext cx="8064360" cy="343404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0" name="TextBox 10"/>
          <p:cNvGrpSpPr/>
          <p:nvPr/>
        </p:nvGrpSpPr>
        <p:grpSpPr>
          <a:xfrm>
            <a:off x="506520" y="4548240"/>
            <a:ext cx="7935840" cy="457200"/>
            <a:chOff x="506520" y="4548240"/>
            <a:chExt cx="7935840" cy="457200"/>
          </a:xfrm>
        </p:grpSpPr>
        <p:pic>
          <p:nvPicPr>
            <p:cNvPr id="871" name="TextBox 10" descr=""/>
            <p:cNvPicPr/>
            <p:nvPr/>
          </p:nvPicPr>
          <p:blipFill>
            <a:blip r:embed="rId6"/>
            <a:stretch/>
          </p:blipFill>
          <p:spPr>
            <a:xfrm>
              <a:off x="506520" y="4548240"/>
              <a:ext cx="7935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30280" y="4573440"/>
              <a:ext cx="787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11171d"/>
                  </a:solidFill>
                  <a:latin typeface="Calibri"/>
                </a:rPr>
                <a:t>Специфични териториални характеристи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Title 1" descr=""/>
          <p:cNvPicPr/>
          <p:nvPr/>
        </p:nvPicPr>
        <p:blipFill>
          <a:blip r:embed="rId1"/>
          <a:stretch/>
        </p:blipFill>
        <p:spPr>
          <a:xfrm>
            <a:off x="371520" y="281160"/>
            <a:ext cx="5499000" cy="1157040"/>
          </a:xfrm>
          <a:prstGeom prst="rect">
            <a:avLst/>
          </a:prstGeom>
          <a:ln w="0">
            <a:noFill/>
          </a:ln>
        </p:spPr>
      </p:pic>
      <p:grpSp>
        <p:nvGrpSpPr>
          <p:cNvPr id="874" name="TextBox 3"/>
          <p:cNvGrpSpPr/>
          <p:nvPr/>
        </p:nvGrpSpPr>
        <p:grpSpPr>
          <a:xfrm>
            <a:off x="536400" y="1712880"/>
            <a:ext cx="7937640" cy="1017720"/>
            <a:chOff x="536400" y="1712880"/>
            <a:chExt cx="7937640" cy="1017720"/>
          </a:xfrm>
        </p:grpSpPr>
        <p:pic>
          <p:nvPicPr>
            <p:cNvPr id="875" name="TextBox 3" descr=""/>
            <p:cNvPicPr/>
            <p:nvPr/>
          </p:nvPicPr>
          <p:blipFill>
            <a:blip r:embed="rId2"/>
            <a:stretch/>
          </p:blipFill>
          <p:spPr>
            <a:xfrm>
              <a:off x="536400" y="1712880"/>
              <a:ext cx="793764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588960" y="1770120"/>
              <a:ext cx="7823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Стратегически приоритет 1: Образование, заетост, социално включване и здравеопазване за приобщаващ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7" name="TextBox 4"/>
          <p:cNvGrpSpPr/>
          <p:nvPr/>
        </p:nvGrpSpPr>
        <p:grpSpPr>
          <a:xfrm>
            <a:off x="536400" y="2822400"/>
            <a:ext cx="7937640" cy="1017720"/>
            <a:chOff x="536400" y="2822400"/>
            <a:chExt cx="7937640" cy="1017720"/>
          </a:xfrm>
        </p:grpSpPr>
        <p:pic>
          <p:nvPicPr>
            <p:cNvPr id="878" name="TextBox 4" descr=""/>
            <p:cNvPicPr/>
            <p:nvPr/>
          </p:nvPicPr>
          <p:blipFill>
            <a:blip r:embed="rId3"/>
            <a:stretch/>
          </p:blipFill>
          <p:spPr>
            <a:xfrm>
              <a:off x="536400" y="2822400"/>
              <a:ext cx="793764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588960" y="2878200"/>
              <a:ext cx="7823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Стратегически приоритет 2: Научни изследвания, иновации и инвестиции за интелигентен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0" name="TextBox 5"/>
          <p:cNvGrpSpPr/>
          <p:nvPr/>
        </p:nvGrpSpPr>
        <p:grpSpPr>
          <a:xfrm>
            <a:off x="536400" y="3925800"/>
            <a:ext cx="7937640" cy="804960"/>
            <a:chOff x="536400" y="3925800"/>
            <a:chExt cx="7937640" cy="804960"/>
          </a:xfrm>
        </p:grpSpPr>
        <p:pic>
          <p:nvPicPr>
            <p:cNvPr id="881" name="TextBox 5" descr=""/>
            <p:cNvPicPr/>
            <p:nvPr/>
          </p:nvPicPr>
          <p:blipFill>
            <a:blip r:embed="rId4"/>
            <a:stretch/>
          </p:blipFill>
          <p:spPr>
            <a:xfrm>
              <a:off x="536400" y="3925800"/>
              <a:ext cx="79376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>
              <a:off x="577800" y="3971880"/>
              <a:ext cx="784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Стратегически приоритет 3: Свързаност и зелена икономика за устойчив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3" name="TextBox 6"/>
          <p:cNvGrpSpPr/>
          <p:nvPr/>
        </p:nvGrpSpPr>
        <p:grpSpPr>
          <a:xfrm>
            <a:off x="560520" y="4913280"/>
            <a:ext cx="7943760" cy="804960"/>
            <a:chOff x="560520" y="4913280"/>
            <a:chExt cx="7943760" cy="804960"/>
          </a:xfrm>
        </p:grpSpPr>
        <p:pic>
          <p:nvPicPr>
            <p:cNvPr id="884" name="TextBox 6" descr=""/>
            <p:cNvPicPr/>
            <p:nvPr/>
          </p:nvPicPr>
          <p:blipFill>
            <a:blip r:embed="rId5"/>
            <a:stretch/>
          </p:blipFill>
          <p:spPr>
            <a:xfrm>
              <a:off x="560520" y="4913280"/>
              <a:ext cx="794376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608040" y="4957920"/>
              <a:ext cx="7843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Стратегически приоритет 4 </a:t>
              </a:r>
              <a:r>
                <a:rPr b="0" lang="bg-BG" sz="2000" spc="-1" strike="noStrike">
                  <a:solidFill>
                    <a:srgbClr val="4e2929"/>
                  </a:solidFill>
                  <a:latin typeface="Calibri"/>
                </a:rPr>
                <a:t>(хоризонтален)</a:t>
              </a: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: Добро управление и достъп да качествени административни услуг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6" name="Rectangle 8"/>
          <p:cNvSpPr/>
          <p:nvPr/>
        </p:nvSpPr>
        <p:spPr>
          <a:xfrm>
            <a:off x="468360" y="1628640"/>
            <a:ext cx="8064360" cy="431028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TextBox 3"/>
          <p:cNvGrpSpPr/>
          <p:nvPr/>
        </p:nvGrpSpPr>
        <p:grpSpPr>
          <a:xfrm>
            <a:off x="523800" y="3108240"/>
            <a:ext cx="7943760" cy="1890720"/>
            <a:chOff x="523800" y="3108240"/>
            <a:chExt cx="7943760" cy="1890720"/>
          </a:xfrm>
        </p:grpSpPr>
        <p:pic>
          <p:nvPicPr>
            <p:cNvPr id="888" name="TextBox 3" descr=""/>
            <p:cNvPicPr/>
            <p:nvPr/>
          </p:nvPicPr>
          <p:blipFill>
            <a:blip r:embed="rId1"/>
            <a:stretch/>
          </p:blipFill>
          <p:spPr>
            <a:xfrm>
              <a:off x="523800" y="3108240"/>
              <a:ext cx="794376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623880" y="3203640"/>
              <a:ext cx="773892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Растеж, основан на човешкия капита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демографско развит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здравен статус и здравеопазван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образование, обучение и учене през целия живо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234271"/>
                  </a:solidFill>
                  <a:latin typeface="Calibri"/>
                </a:rPr>
                <a:t>заетост и пазар на труда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0" name="TextBox 4"/>
          <p:cNvGrpSpPr/>
          <p:nvPr/>
        </p:nvGrpSpPr>
        <p:grpSpPr>
          <a:xfrm>
            <a:off x="506520" y="4932360"/>
            <a:ext cx="7935840" cy="1144440"/>
            <a:chOff x="506520" y="4932360"/>
            <a:chExt cx="7935840" cy="1144440"/>
          </a:xfrm>
        </p:grpSpPr>
        <p:pic>
          <p:nvPicPr>
            <p:cNvPr id="891" name="TextBox 4" descr=""/>
            <p:cNvPicPr/>
            <p:nvPr/>
          </p:nvPicPr>
          <p:blipFill>
            <a:blip r:embed="rId2"/>
            <a:stretch/>
          </p:blipFill>
          <p:spPr>
            <a:xfrm>
              <a:off x="506520" y="4932360"/>
              <a:ext cx="793584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66640" y="4994280"/>
              <a:ext cx="7810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Растеж, основан на иновации и предприемаче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предизвикателства пред МСП и състояние на секторите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селско, горско и рибно стопан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3" name="Rectangle 8"/>
          <p:cNvSpPr/>
          <p:nvPr/>
        </p:nvSpPr>
        <p:spPr>
          <a:xfrm>
            <a:off x="439560" y="476280"/>
            <a:ext cx="8064720" cy="606420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4" name="TextBox 10"/>
          <p:cNvGrpSpPr/>
          <p:nvPr/>
        </p:nvGrpSpPr>
        <p:grpSpPr>
          <a:xfrm>
            <a:off x="506520" y="6083280"/>
            <a:ext cx="7935840" cy="463680"/>
            <a:chOff x="506520" y="6083280"/>
            <a:chExt cx="7935840" cy="463680"/>
          </a:xfrm>
        </p:grpSpPr>
        <p:pic>
          <p:nvPicPr>
            <p:cNvPr id="895" name="TextBox 10" descr=""/>
            <p:cNvPicPr/>
            <p:nvPr/>
          </p:nvPicPr>
          <p:blipFill>
            <a:blip r:embed="rId3"/>
            <a:stretch/>
          </p:blipFill>
          <p:spPr>
            <a:xfrm>
              <a:off x="506520" y="6083280"/>
              <a:ext cx="7935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"/>
            <p:cNvSpPr/>
            <p:nvPr/>
          </p:nvSpPr>
          <p:spPr>
            <a:xfrm>
              <a:off x="530280" y="6114960"/>
              <a:ext cx="787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11171d"/>
                  </a:solidFill>
                  <a:latin typeface="Calibri"/>
                </a:rPr>
                <a:t>Специфични териториални характеристи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7" name="TextBox 11"/>
          <p:cNvGrpSpPr/>
          <p:nvPr/>
        </p:nvGrpSpPr>
        <p:grpSpPr>
          <a:xfrm>
            <a:off x="506520" y="1809720"/>
            <a:ext cx="7935840" cy="1214640"/>
            <a:chOff x="506520" y="1809720"/>
            <a:chExt cx="7935840" cy="1214640"/>
          </a:xfrm>
        </p:grpSpPr>
        <p:pic>
          <p:nvPicPr>
            <p:cNvPr id="898" name="TextBox 11" descr=""/>
            <p:cNvPicPr/>
            <p:nvPr/>
          </p:nvPicPr>
          <p:blipFill>
            <a:blip r:embed="rId4"/>
            <a:stretch/>
          </p:blipFill>
          <p:spPr>
            <a:xfrm>
              <a:off x="506520" y="1809720"/>
              <a:ext cx="793584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"/>
            <p:cNvSpPr/>
            <p:nvPr/>
          </p:nvSpPr>
          <p:spPr>
            <a:xfrm>
              <a:off x="566640" y="1878120"/>
              <a:ext cx="7805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Стратегически приоритет 1: Образование, заетост, социално включване и здравеопазване за приобщаващ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234271"/>
                  </a:solidFill>
                  <a:latin typeface="Calibri"/>
                </a:rPr>
                <a:t>Под-приоритет Заетост и трудова мобилност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 txBox="1"/>
          <p:nvPr/>
        </p:nvSpPr>
        <p:spPr>
          <a:xfrm>
            <a:off x="323640" y="980640"/>
            <a:ext cx="856908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Calibri"/>
              </a:rPr>
              <a:t>Основни проблем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2" marL="343080" indent="-343080" algn="just"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нисък и намаляващ достъп до зает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ниска производителност на труда в сравнение със средната за Е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квалификация на работната сила, недостатъчно съответстваща на потребностите на бизнеса и икономик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по-високо равнище на безработица спрямо средното за Е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по-висок дял на младежката безработица от средния за Е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високо равнище на безработица сред уязвимите групи (над 50% при ромит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необходимост от допълнителни условия за удължаване на активния трудов живот на по-възрастните х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Основни интервенци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396720" indent="-285480" algn="just"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улесняване достъпа до работа, подобряване условията на тру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285480" algn="just"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насърчаване на заетостта сред младежи, възрастно население и групи в неравностойно положение - самостоятелна дейност, предприемачество, мобилност, алтернативни форми на заетост, бърз преход от училище към рабо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285480" algn="just"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посреднически услуги на пазара на труда, активиране на икономически неактивни л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TextBox 3"/>
          <p:cNvGrpSpPr/>
          <p:nvPr/>
        </p:nvGrpSpPr>
        <p:grpSpPr>
          <a:xfrm>
            <a:off x="426960" y="3822840"/>
            <a:ext cx="7935840" cy="1547640"/>
            <a:chOff x="426960" y="3822840"/>
            <a:chExt cx="7935840" cy="1547640"/>
          </a:xfrm>
        </p:grpSpPr>
        <p:pic>
          <p:nvPicPr>
            <p:cNvPr id="902" name="TextBox 3" descr=""/>
            <p:cNvPicPr/>
            <p:nvPr/>
          </p:nvPicPr>
          <p:blipFill>
            <a:blip r:embed="rId1"/>
            <a:stretch/>
          </p:blipFill>
          <p:spPr>
            <a:xfrm>
              <a:off x="426960" y="3822840"/>
              <a:ext cx="793584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507960" y="3902040"/>
              <a:ext cx="777096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Растеж, основан на човешкия капита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демографско развит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здравен статус и здравеопазван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234271"/>
                  </a:solidFill>
                  <a:latin typeface="Calibri"/>
                </a:rPr>
                <a:t>социално включване и намаляване на бедност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Rectangle 8"/>
          <p:cNvSpPr/>
          <p:nvPr/>
        </p:nvSpPr>
        <p:spPr>
          <a:xfrm>
            <a:off x="439560" y="476280"/>
            <a:ext cx="8064720" cy="606420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5" name="TextBox 10"/>
          <p:cNvGrpSpPr/>
          <p:nvPr/>
        </p:nvGrpSpPr>
        <p:grpSpPr>
          <a:xfrm>
            <a:off x="506520" y="6083280"/>
            <a:ext cx="7935840" cy="463680"/>
            <a:chOff x="506520" y="6083280"/>
            <a:chExt cx="7935840" cy="463680"/>
          </a:xfrm>
        </p:grpSpPr>
        <p:pic>
          <p:nvPicPr>
            <p:cNvPr id="906" name="TextBox 10" descr=""/>
            <p:cNvPicPr/>
            <p:nvPr/>
          </p:nvPicPr>
          <p:blipFill>
            <a:blip r:embed="rId2"/>
            <a:stretch/>
          </p:blipFill>
          <p:spPr>
            <a:xfrm>
              <a:off x="506520" y="6083280"/>
              <a:ext cx="7935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530280" y="6114960"/>
              <a:ext cx="787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11171d"/>
                  </a:solidFill>
                  <a:latin typeface="Calibri"/>
                </a:rPr>
                <a:t>Специфични териториални характеристи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8" name="TextBox 11"/>
          <p:cNvGrpSpPr/>
          <p:nvPr/>
        </p:nvGrpSpPr>
        <p:grpSpPr>
          <a:xfrm>
            <a:off x="463680" y="1620720"/>
            <a:ext cx="7941960" cy="1214640"/>
            <a:chOff x="463680" y="1620720"/>
            <a:chExt cx="7941960" cy="1214640"/>
          </a:xfrm>
        </p:grpSpPr>
        <p:pic>
          <p:nvPicPr>
            <p:cNvPr id="909" name="TextBox 11" descr=""/>
            <p:cNvPicPr/>
            <p:nvPr/>
          </p:nvPicPr>
          <p:blipFill>
            <a:blip r:embed="rId3"/>
            <a:stretch/>
          </p:blipFill>
          <p:spPr>
            <a:xfrm>
              <a:off x="463680" y="1620720"/>
              <a:ext cx="794196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530280" y="1687680"/>
              <a:ext cx="78040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Стратегически приоритет 1: Образование, заетост, социално включване и здравеопазване за приобщаващ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234271"/>
                  </a:solidFill>
                  <a:latin typeface="Calibri"/>
                </a:rPr>
                <a:t>Под-приоритет Социално включван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324000" y="333360"/>
            <a:ext cx="8712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Calibri"/>
              </a:rPr>
              <a:t>Основни проблем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висок риск от бедност или социално изключване, особено за маргинализираните групи и лицата в надтрудоспособна възраст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високо ниво на бедност сред децата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незадоволително състояние на основните социални услуги в населените места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необходимост от продължаване на процеса на деинституционализация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Основни интервенци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392400" indent="-282600" algn="just">
              <a:lnSpc>
                <a:spcPct val="90000"/>
              </a:lnSpc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интегрирани мерки за п</a:t>
            </a: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одобряване достъпа до заетост, образование, социални и здравни услуги и социално приобщаване на маргинализираните общ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2400" indent="-282600" algn="just">
              <a:lnSpc>
                <a:spcPct val="90000"/>
              </a:lnSpc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насърчаване на активния живот на възрастните хора, включително осигуряване на достъпна сре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2400" indent="-282600" algn="just">
              <a:lnSpc>
                <a:spcPct val="90000"/>
              </a:lnSpc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инвестиции в ранното детско развит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2400" indent="-282600" algn="just">
              <a:lnSpc>
                <a:spcPct val="90000"/>
              </a:lnSpc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замяна на институционалния модел на грижа и развитие на интегрирани междусекторни услуги за социално включване – възрастни хора, хора с увреждания, де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TextBox 3"/>
          <p:cNvGrpSpPr/>
          <p:nvPr/>
        </p:nvGrpSpPr>
        <p:grpSpPr>
          <a:xfrm>
            <a:off x="469800" y="3505320"/>
            <a:ext cx="7942320" cy="1206360"/>
            <a:chOff x="469800" y="3505320"/>
            <a:chExt cx="7942320" cy="1206360"/>
          </a:xfrm>
        </p:grpSpPr>
        <p:pic>
          <p:nvPicPr>
            <p:cNvPr id="913" name="TextBox 3" descr=""/>
            <p:cNvPicPr/>
            <p:nvPr/>
          </p:nvPicPr>
          <p:blipFill>
            <a:blip r:embed="rId1"/>
            <a:stretch/>
          </p:blipFill>
          <p:spPr>
            <a:xfrm>
              <a:off x="469800" y="3505320"/>
              <a:ext cx="794232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/>
            <p:cNvSpPr/>
            <p:nvPr/>
          </p:nvSpPr>
          <p:spPr>
            <a:xfrm>
              <a:off x="536400" y="3567240"/>
              <a:ext cx="78044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Растеж, основан на човешкия капита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демографско развит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234271"/>
                  </a:solidFill>
                  <a:latin typeface="Calibri"/>
                </a:rPr>
                <a:t>здравен статус и здравеопазване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" name="Rectangle 8"/>
          <p:cNvSpPr/>
          <p:nvPr/>
        </p:nvSpPr>
        <p:spPr>
          <a:xfrm>
            <a:off x="439560" y="476280"/>
            <a:ext cx="8064720" cy="606420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6" name="TextBox 10"/>
          <p:cNvGrpSpPr/>
          <p:nvPr/>
        </p:nvGrpSpPr>
        <p:grpSpPr>
          <a:xfrm>
            <a:off x="469800" y="5364000"/>
            <a:ext cx="7942320" cy="463680"/>
            <a:chOff x="469800" y="5364000"/>
            <a:chExt cx="7942320" cy="463680"/>
          </a:xfrm>
        </p:grpSpPr>
        <p:pic>
          <p:nvPicPr>
            <p:cNvPr id="917" name="TextBox 10" descr=""/>
            <p:cNvPicPr/>
            <p:nvPr/>
          </p:nvPicPr>
          <p:blipFill>
            <a:blip r:embed="rId2"/>
            <a:stretch/>
          </p:blipFill>
          <p:spPr>
            <a:xfrm>
              <a:off x="469800" y="5364000"/>
              <a:ext cx="79423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500040" y="5394240"/>
              <a:ext cx="787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11171d"/>
                  </a:solidFill>
                  <a:latin typeface="Calibri"/>
                </a:rPr>
                <a:t>Специфични териториални характеристи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9" name="TextBox 11"/>
          <p:cNvGrpSpPr/>
          <p:nvPr/>
        </p:nvGrpSpPr>
        <p:grpSpPr>
          <a:xfrm>
            <a:off x="433440" y="1847880"/>
            <a:ext cx="7935840" cy="1206360"/>
            <a:chOff x="433440" y="1847880"/>
            <a:chExt cx="7935840" cy="1206360"/>
          </a:xfrm>
        </p:grpSpPr>
        <p:pic>
          <p:nvPicPr>
            <p:cNvPr id="920" name="TextBox 11" descr=""/>
            <p:cNvPicPr/>
            <p:nvPr/>
          </p:nvPicPr>
          <p:blipFill>
            <a:blip r:embed="rId3"/>
            <a:stretch/>
          </p:blipFill>
          <p:spPr>
            <a:xfrm>
              <a:off x="433440" y="1847880"/>
              <a:ext cx="793584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>
              <a:off x="498600" y="1911240"/>
              <a:ext cx="78040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Стратегически приоритет 1: Образование, заетост, социално включване и здравеопазване за приобщаващ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234271"/>
                  </a:solidFill>
                  <a:latin typeface="Calibri"/>
                </a:rPr>
                <a:t>Под-приоритет Здравеопазван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23640" y="537840"/>
            <a:ext cx="856908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Основни проблем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ниска здравна култура и влошен здравен статус вкл. висок коефициентът на детската смъртност и ниска средна продължителност на живот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Дисбаланс в разпределението на здравните заведения на територията на стра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недостатъчен брой обучаващи се студенти и увеличаване на броя на медицински специалисти, желаещи да търсят професионална реализация извън стра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неефективното управление на публичните средства в сект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Основни интервенци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инвестиции в здравна инфраструктура, включително в системата за спешна помощ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промоция на здравето и превенция на заболя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инвестиции в човешки капитал – обучения за придобиване на специалност и продължаващото обучение на специалисти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електронно здравеопазване - подобряване управлението на системата и по-добро наблюдение на предлаганите услуг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TextBox 3"/>
          <p:cNvSpPr/>
          <p:nvPr/>
        </p:nvSpPr>
        <p:spPr>
          <a:xfrm>
            <a:off x="8136000" y="5784840"/>
            <a:ext cx="539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TextBox 3"/>
          <p:cNvGrpSpPr/>
          <p:nvPr/>
        </p:nvGrpSpPr>
        <p:grpSpPr>
          <a:xfrm>
            <a:off x="433440" y="3060720"/>
            <a:ext cx="7942320" cy="1571760"/>
            <a:chOff x="433440" y="3060720"/>
            <a:chExt cx="7942320" cy="1571760"/>
          </a:xfrm>
        </p:grpSpPr>
        <p:pic>
          <p:nvPicPr>
            <p:cNvPr id="925" name="TextBox 3" descr=""/>
            <p:cNvPicPr/>
            <p:nvPr/>
          </p:nvPicPr>
          <p:blipFill>
            <a:blip r:embed="rId1"/>
            <a:stretch/>
          </p:blipFill>
          <p:spPr>
            <a:xfrm>
              <a:off x="433440" y="3060720"/>
              <a:ext cx="794232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6" name=""/>
            <p:cNvSpPr/>
            <p:nvPr/>
          </p:nvSpPr>
          <p:spPr>
            <a:xfrm>
              <a:off x="517680" y="3144960"/>
              <a:ext cx="776916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Растеж, основан на човешкия капита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демографско развит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234271"/>
                  </a:solidFill>
                  <a:latin typeface="Calibri"/>
                </a:rPr>
                <a:t>образование, обучение и учене през целия живо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заетост и пазар на труд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7" name="TextBox 4"/>
          <p:cNvGrpSpPr/>
          <p:nvPr/>
        </p:nvGrpSpPr>
        <p:grpSpPr>
          <a:xfrm>
            <a:off x="438120" y="4614840"/>
            <a:ext cx="7943760" cy="798480"/>
            <a:chOff x="438120" y="4614840"/>
            <a:chExt cx="7943760" cy="798480"/>
          </a:xfrm>
        </p:grpSpPr>
        <p:pic>
          <p:nvPicPr>
            <p:cNvPr id="928" name="TextBox 4" descr=""/>
            <p:cNvPicPr/>
            <p:nvPr/>
          </p:nvPicPr>
          <p:blipFill>
            <a:blip r:embed="rId2"/>
            <a:stretch/>
          </p:blipFill>
          <p:spPr>
            <a:xfrm>
              <a:off x="438120" y="4614840"/>
              <a:ext cx="7943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"/>
            <p:cNvSpPr/>
            <p:nvPr/>
          </p:nvSpPr>
          <p:spPr>
            <a:xfrm>
              <a:off x="484200" y="4657680"/>
              <a:ext cx="784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Растеж, основан на иновации и предприемаче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предизвикателства пред МСП и състояние на секторит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0" name="Rectangle 8"/>
          <p:cNvSpPr/>
          <p:nvPr/>
        </p:nvSpPr>
        <p:spPr>
          <a:xfrm>
            <a:off x="439560" y="115920"/>
            <a:ext cx="8064720" cy="642456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TextBox 10"/>
          <p:cNvGrpSpPr/>
          <p:nvPr/>
        </p:nvGrpSpPr>
        <p:grpSpPr>
          <a:xfrm>
            <a:off x="487440" y="5645160"/>
            <a:ext cx="7937280" cy="457200"/>
            <a:chOff x="487440" y="5645160"/>
            <a:chExt cx="7937280" cy="457200"/>
          </a:xfrm>
        </p:grpSpPr>
        <p:pic>
          <p:nvPicPr>
            <p:cNvPr id="932" name="TextBox 10" descr=""/>
            <p:cNvPicPr/>
            <p:nvPr/>
          </p:nvPicPr>
          <p:blipFill>
            <a:blip r:embed="rId3"/>
            <a:stretch/>
          </p:blipFill>
          <p:spPr>
            <a:xfrm>
              <a:off x="487440" y="5645160"/>
              <a:ext cx="79372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"/>
            <p:cNvSpPr/>
            <p:nvPr/>
          </p:nvSpPr>
          <p:spPr>
            <a:xfrm>
              <a:off x="515880" y="5672160"/>
              <a:ext cx="787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11171d"/>
                  </a:solidFill>
                  <a:latin typeface="Calibri"/>
                </a:rPr>
                <a:t>Специфични териториални характеристи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4" name="TextBox 11"/>
          <p:cNvGrpSpPr/>
          <p:nvPr/>
        </p:nvGrpSpPr>
        <p:grpSpPr>
          <a:xfrm>
            <a:off x="500040" y="1335240"/>
            <a:ext cx="7937640" cy="1616040"/>
            <a:chOff x="500040" y="1335240"/>
            <a:chExt cx="7937640" cy="1616040"/>
          </a:xfrm>
        </p:grpSpPr>
        <p:pic>
          <p:nvPicPr>
            <p:cNvPr id="935" name="TextBox 11" descr=""/>
            <p:cNvPicPr/>
            <p:nvPr/>
          </p:nvPicPr>
          <p:blipFill>
            <a:blip r:embed="rId4"/>
            <a:stretch/>
          </p:blipFill>
          <p:spPr>
            <a:xfrm>
              <a:off x="500040" y="1335240"/>
              <a:ext cx="793764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582480" y="1419120"/>
              <a:ext cx="776448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Стратегически приоритет 1: Образование, заетост, социално включване и здравеопазване за приобщаващ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234271"/>
                  </a:solidFill>
                  <a:latin typeface="Calibri"/>
                </a:rPr>
                <a:t>Под-приоритет Образование, обучение и учене през целия живо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324000" y="333000"/>
            <a:ext cx="855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ffffff"/>
                </a:solidFill>
                <a:latin typeface="Calibri"/>
              </a:rPr>
              <a:t>Основни проблеми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арастване на неграмотното население и увеличаване на дела на никога непосещавали училище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увеличаване на дела на преждевременно напусналите образование и обучение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ужда от специално внимание на децата и учениците със специални образователни потребности и достъпа им до образователни услуг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иско качество на образованието на всички нива и необходимост от неговото адаптиране към нуждите на пазара на труда и икономиката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ужда от модернизиране на образователната инфраструктура и развитие на ИКТ в образованието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18077b"/>
                </a:solidFill>
                <a:latin typeface="Calibri"/>
              </a:rPr>
              <a:t>Основни интервенции</a:t>
            </a:r>
            <a:r>
              <a:rPr b="1" lang="en-US" sz="1900" spc="-1" strike="noStrike">
                <a:solidFill>
                  <a:srgbClr val="18077b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модернизация и подобряване на условията в образователните и научни, осигуряване на достъпна среда и насърчаване използването на ИКТ в образованието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повишаване качеството на образователната система - средно професионално, висше образование, образователни услуги, съобразени с нуждите на пазара на труда, партньорства между висшето образование, предприятията и сектора на научните изследван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подкрепа на процеса на образователната интеграция и на социалното включван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учене през целия живот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Title 1" descr=""/>
          <p:cNvPicPr/>
          <p:nvPr/>
        </p:nvPicPr>
        <p:blipFill>
          <a:blip r:embed="rId1"/>
          <a:stretch/>
        </p:blipFill>
        <p:spPr>
          <a:xfrm>
            <a:off x="493560" y="133200"/>
            <a:ext cx="6383520" cy="11592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394920" y="1557000"/>
            <a:ext cx="4824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900" spc="-1" strike="noStrike">
                <a:solidFill>
                  <a:srgbClr val="050595"/>
                </a:solidFill>
                <a:latin typeface="Calibri"/>
                <a:ea typeface="Arial"/>
              </a:rPr>
              <a:t>Обща стратегия на национално ниво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  <a:ea typeface="Arial"/>
              </a:rPr>
              <a:t>за използване на Европейските структурни и инвестиционни фондове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900" spc="-1" strike="noStrike">
                <a:solidFill>
                  <a:srgbClr val="0b0189"/>
                </a:solidFill>
                <a:latin typeface="Calibri"/>
              </a:rPr>
              <a:t>Отчита </a:t>
            </a:r>
            <a:r>
              <a:rPr b="0" lang="bg-BG" sz="1900" spc="-1" strike="noStrike">
                <a:solidFill>
                  <a:srgbClr val="0b0189"/>
                </a:solidFill>
                <a:latin typeface="Calibri"/>
              </a:rPr>
              <a:t>Специфичните препоръки на Съвета от  юли 2013 г., </a:t>
            </a:r>
            <a:r>
              <a:rPr b="0" lang="en-US" sz="1900" spc="-1" strike="noStrike">
                <a:solidFill>
                  <a:srgbClr val="0b0189"/>
                </a:solidFill>
                <a:latin typeface="Calibri"/>
              </a:rPr>
              <a:t>Country Fact Sheet</a:t>
            </a:r>
            <a:r>
              <a:rPr b="0" lang="bg-BG" sz="1900" spc="-1" strike="noStrike">
                <a:solidFill>
                  <a:srgbClr val="0b0189"/>
                </a:solidFill>
                <a:latin typeface="Calibri"/>
              </a:rPr>
              <a:t> за България и Позицията на ЕК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900" spc="-1" strike="noStrike">
                <a:solidFill>
                  <a:srgbClr val="0b0189"/>
                </a:solidFill>
                <a:latin typeface="Calibri"/>
              </a:rPr>
              <a:t>Допринася за изпълнението на НПР България 2020</a:t>
            </a:r>
            <a:r>
              <a:rPr b="0" lang="bg-BG" sz="1900" spc="-1" strike="noStrike">
                <a:solidFill>
                  <a:srgbClr val="0b0189"/>
                </a:solidFill>
                <a:latin typeface="Calibri"/>
              </a:rPr>
              <a:t>, Националната програма за реформи и постигане на общоевропейските цели за растеж и заетост, формулирани в Стратегия Европа 2020 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900" spc="-1" strike="noStrike">
                <a:solidFill>
                  <a:srgbClr val="0b0189"/>
                </a:solidFill>
                <a:latin typeface="Calibri"/>
              </a:rPr>
              <a:t>Осигурява: 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lvl="2" marL="343080" indent="-343080" algn="just">
              <a:lnSpc>
                <a:spcPct val="80000"/>
              </a:lnSpc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боснованост на стратегическите реш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lnSpc>
                <a:spcPct val="80000"/>
              </a:lnSpc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сътрудничество и координация между съответните органи, вкл. договорености за улесняване на изпълнението на последващ етап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lnSpc>
                <a:spcPct val="80000"/>
              </a:lnSpc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прозрачност чрез включване на ангажименти не само спрямо ЕК, но и спрямо партньорите и бенефициентит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</p:txBody>
      </p:sp>
      <p:pic>
        <p:nvPicPr>
          <p:cNvPr id="725" name="Diagram 4" descr=""/>
          <p:cNvPicPr/>
          <p:nvPr/>
        </p:nvPicPr>
        <p:blipFill>
          <a:blip r:embed="rId2"/>
          <a:stretch/>
        </p:blipFill>
        <p:spPr>
          <a:xfrm>
            <a:off x="4645080" y="1127160"/>
            <a:ext cx="435924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8" name="TextBox 3"/>
          <p:cNvGrpSpPr/>
          <p:nvPr/>
        </p:nvGrpSpPr>
        <p:grpSpPr>
          <a:xfrm>
            <a:off x="500040" y="2200320"/>
            <a:ext cx="7942320" cy="1566720"/>
            <a:chOff x="500040" y="2200320"/>
            <a:chExt cx="7942320" cy="1566720"/>
          </a:xfrm>
        </p:grpSpPr>
        <p:pic>
          <p:nvPicPr>
            <p:cNvPr id="939" name="TextBox 3" descr=""/>
            <p:cNvPicPr/>
            <p:nvPr/>
          </p:nvPicPr>
          <p:blipFill>
            <a:blip r:embed="rId1"/>
            <a:stretch/>
          </p:blipFill>
          <p:spPr>
            <a:xfrm>
              <a:off x="500040" y="2200320"/>
              <a:ext cx="794232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584280" y="2279520"/>
              <a:ext cx="7769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Растеж, основан на човешкия капита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демографско развит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образование, обучение и учене през целия живо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заетост и пазар на труд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1" name="TextBox 4"/>
          <p:cNvGrpSpPr/>
          <p:nvPr/>
        </p:nvGrpSpPr>
        <p:grpSpPr>
          <a:xfrm>
            <a:off x="506520" y="3749760"/>
            <a:ext cx="7935840" cy="1212840"/>
            <a:chOff x="506520" y="3749760"/>
            <a:chExt cx="7935840" cy="1212840"/>
          </a:xfrm>
        </p:grpSpPr>
        <p:pic>
          <p:nvPicPr>
            <p:cNvPr id="942" name="TextBox 4" descr=""/>
            <p:cNvPicPr/>
            <p:nvPr/>
          </p:nvPicPr>
          <p:blipFill>
            <a:blip r:embed="rId2"/>
            <a:stretch/>
          </p:blipFill>
          <p:spPr>
            <a:xfrm>
              <a:off x="506520" y="3749760"/>
              <a:ext cx="793584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3" name=""/>
            <p:cNvSpPr/>
            <p:nvPr/>
          </p:nvSpPr>
          <p:spPr>
            <a:xfrm>
              <a:off x="569880" y="3814920"/>
              <a:ext cx="7804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Растеж, основан на иновации и предприемаче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предизвикателства пред МСП и състояние на секторите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селско, горско и рибно стопан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4" name="Rectangle 8"/>
          <p:cNvSpPr/>
          <p:nvPr/>
        </p:nvSpPr>
        <p:spPr>
          <a:xfrm>
            <a:off x="439560" y="115920"/>
            <a:ext cx="8064720" cy="642456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5" name="TextBox 10"/>
          <p:cNvGrpSpPr/>
          <p:nvPr/>
        </p:nvGrpSpPr>
        <p:grpSpPr>
          <a:xfrm>
            <a:off x="506520" y="6083280"/>
            <a:ext cx="7935840" cy="463680"/>
            <a:chOff x="506520" y="6083280"/>
            <a:chExt cx="7935840" cy="463680"/>
          </a:xfrm>
        </p:grpSpPr>
        <p:pic>
          <p:nvPicPr>
            <p:cNvPr id="946" name="TextBox 10" descr=""/>
            <p:cNvPicPr/>
            <p:nvPr/>
          </p:nvPicPr>
          <p:blipFill>
            <a:blip r:embed="rId3"/>
            <a:stretch/>
          </p:blipFill>
          <p:spPr>
            <a:xfrm>
              <a:off x="506520" y="6083280"/>
              <a:ext cx="7935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530280" y="6114960"/>
              <a:ext cx="787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11171d"/>
                  </a:solidFill>
                  <a:latin typeface="Calibri"/>
                </a:rPr>
                <a:t>Специфични териториални характеристи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" name="TextBox 16"/>
          <p:cNvGrpSpPr/>
          <p:nvPr/>
        </p:nvGrpSpPr>
        <p:grpSpPr>
          <a:xfrm>
            <a:off x="506520" y="4943520"/>
            <a:ext cx="7935840" cy="1139760"/>
            <a:chOff x="506520" y="4943520"/>
            <a:chExt cx="7935840" cy="1139760"/>
          </a:xfrm>
        </p:grpSpPr>
        <p:pic>
          <p:nvPicPr>
            <p:cNvPr id="949" name="TextBox 16" descr=""/>
            <p:cNvPicPr/>
            <p:nvPr/>
          </p:nvPicPr>
          <p:blipFill>
            <a:blip r:embed="rId4"/>
            <a:stretch/>
          </p:blipFill>
          <p:spPr>
            <a:xfrm>
              <a:off x="506520" y="4943520"/>
              <a:ext cx="793584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>
              <a:off x="563400" y="5003640"/>
              <a:ext cx="7812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Растеж, основан на свързаност, устойчиво развитие и ефикасно използване на ресурсит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ресурсна и енергийна ефективнос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1" name="TextBox 9"/>
          <p:cNvGrpSpPr/>
          <p:nvPr/>
        </p:nvGrpSpPr>
        <p:grpSpPr>
          <a:xfrm>
            <a:off x="517680" y="596880"/>
            <a:ext cx="7937280" cy="1622520"/>
            <a:chOff x="517680" y="596880"/>
            <a:chExt cx="7937280" cy="1622520"/>
          </a:xfrm>
        </p:grpSpPr>
        <p:pic>
          <p:nvPicPr>
            <p:cNvPr id="952" name="TextBox 9" descr=""/>
            <p:cNvPicPr/>
            <p:nvPr/>
          </p:nvPicPr>
          <p:blipFill>
            <a:blip r:embed="rId5"/>
            <a:stretch/>
          </p:blipFill>
          <p:spPr>
            <a:xfrm>
              <a:off x="517680" y="596880"/>
              <a:ext cx="7937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3" name=""/>
            <p:cNvSpPr/>
            <p:nvPr/>
          </p:nvSpPr>
          <p:spPr>
            <a:xfrm>
              <a:off x="600120" y="682560"/>
              <a:ext cx="776592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Стратегически приоритет 2: Научни изследвания, иновации и инвестиции за интелигентен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77420d"/>
                  </a:solidFill>
                  <a:latin typeface="Calibri"/>
                </a:rPr>
                <a:t>Повишаване конкурентоспособността и ресурсната ефективност на МСП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 txBox="1"/>
          <p:nvPr/>
        </p:nvSpPr>
        <p:spPr>
          <a:xfrm>
            <a:off x="324000" y="33300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ffffff"/>
                </a:solidFill>
                <a:latin typeface="Calibri"/>
              </a:rPr>
              <a:t>Основни проблеми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иска конкурентоспособност и производителност на МСП в сектори с висока добавена стойност за икономиката и експортен потенциал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изоставащи научно-развойни и иновационни пазарно-ориентирани дейност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висока енергийна интензивност на българската икономика спрямо останалите страните от ЕС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ниска енергийна ефективност на МСП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висока степен на излагане на природните рискове, включително промените в клима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18077b"/>
                </a:solidFill>
                <a:latin typeface="Calibri"/>
              </a:rPr>
              <a:t>Основни интервенции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подкрепа за стартиращи иновативни предприятия и бързорастящи предприятия във високотехнологични сектор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развитие на партньорства между бизнеса и научните сред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обновление и усъвършенстване на технологиите в предприятията чрез внедряване на водещи технологични решения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подобряване на достъпа до нови международни и национални пазари и предоставяне на модерни бизнес услуг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въвеждане на енергийно и ресурсо-ефективни решения и технологии в предприятията, в това число и екоиновации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TextBox 3"/>
          <p:cNvGrpSpPr/>
          <p:nvPr/>
        </p:nvGrpSpPr>
        <p:grpSpPr>
          <a:xfrm>
            <a:off x="426960" y="3492360"/>
            <a:ext cx="7942320" cy="804960"/>
            <a:chOff x="426960" y="3492360"/>
            <a:chExt cx="7942320" cy="804960"/>
          </a:xfrm>
        </p:grpSpPr>
        <p:pic>
          <p:nvPicPr>
            <p:cNvPr id="956" name="TextBox 3" descr=""/>
            <p:cNvPicPr/>
            <p:nvPr/>
          </p:nvPicPr>
          <p:blipFill>
            <a:blip r:embed="rId1"/>
            <a:stretch/>
          </p:blipFill>
          <p:spPr>
            <a:xfrm>
              <a:off x="426960" y="3492360"/>
              <a:ext cx="79423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473040" y="3538440"/>
              <a:ext cx="784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Растеж, основан на човешкия капита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образование, обучение и учене през целия живот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8" name="TextBox 4"/>
          <p:cNvGrpSpPr/>
          <p:nvPr/>
        </p:nvGrpSpPr>
        <p:grpSpPr>
          <a:xfrm>
            <a:off x="500040" y="5297400"/>
            <a:ext cx="7942320" cy="1206720"/>
            <a:chOff x="500040" y="5297400"/>
            <a:chExt cx="7942320" cy="1206720"/>
          </a:xfrm>
        </p:grpSpPr>
        <p:pic>
          <p:nvPicPr>
            <p:cNvPr id="959" name="TextBox 4" descr=""/>
            <p:cNvPicPr/>
            <p:nvPr/>
          </p:nvPicPr>
          <p:blipFill>
            <a:blip r:embed="rId2"/>
            <a:stretch/>
          </p:blipFill>
          <p:spPr>
            <a:xfrm>
              <a:off x="500040" y="5297400"/>
              <a:ext cx="7942320" cy="12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"/>
            <p:cNvSpPr/>
            <p:nvPr/>
          </p:nvSpPr>
          <p:spPr>
            <a:xfrm>
              <a:off x="566640" y="5359320"/>
              <a:ext cx="78040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Растеж, основан на иновации и предприемаче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предизвикателства пред МСП и състояние на секторите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77420d"/>
                  </a:solidFill>
                  <a:latin typeface="Calibri"/>
                </a:rPr>
                <a:t>НИРД и иновац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" name="Rectangle 8"/>
          <p:cNvSpPr/>
          <p:nvPr/>
        </p:nvSpPr>
        <p:spPr>
          <a:xfrm>
            <a:off x="439560" y="115920"/>
            <a:ext cx="8064720" cy="642456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TextBox 9"/>
          <p:cNvGrpSpPr/>
          <p:nvPr/>
        </p:nvGrpSpPr>
        <p:grpSpPr>
          <a:xfrm>
            <a:off x="433440" y="1547640"/>
            <a:ext cx="7935840" cy="1214640"/>
            <a:chOff x="433440" y="1547640"/>
            <a:chExt cx="7935840" cy="1214640"/>
          </a:xfrm>
        </p:grpSpPr>
        <p:pic>
          <p:nvPicPr>
            <p:cNvPr id="963" name="TextBox 9" descr=""/>
            <p:cNvPicPr/>
            <p:nvPr/>
          </p:nvPicPr>
          <p:blipFill>
            <a:blip r:embed="rId3"/>
            <a:stretch/>
          </p:blipFill>
          <p:spPr>
            <a:xfrm>
              <a:off x="433440" y="1547640"/>
              <a:ext cx="793584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498600" y="1614600"/>
              <a:ext cx="78040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Стратегически приоритет 2: Научни изследвания, иновации и инвестиции за интелигентен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77420d"/>
                  </a:solidFill>
                  <a:latin typeface="Calibri"/>
                </a:rPr>
                <a:t>НИРД и иновац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 txBox="1"/>
          <p:nvPr/>
        </p:nvSpPr>
        <p:spPr>
          <a:xfrm>
            <a:off x="324000" y="1125360"/>
            <a:ext cx="83628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Calibri"/>
              </a:rPr>
              <a:t>Основни проблем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изоставащи научно-развойни и иновационни пазарно-ориентирани дей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липса на ефективна образователна и научна среда и работещо взаимодействие с бизнеса, позволяващо провеждане на качествени научни изслед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незадоволителен достъп до и използване на ИК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Основни интервенци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насърчаване на иновационната дейност на предприятия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развитие на партньорства за иновации между бизнеса и научните сре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развитие на инфраструктура за иновации и изслед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изграждане на капацитет и развитие на човешките ресурси за инов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TextBox 4"/>
          <p:cNvGrpSpPr/>
          <p:nvPr/>
        </p:nvGrpSpPr>
        <p:grpSpPr>
          <a:xfrm>
            <a:off x="517680" y="3852720"/>
            <a:ext cx="7943760" cy="743760"/>
            <a:chOff x="517680" y="3852720"/>
            <a:chExt cx="7943760" cy="743760"/>
          </a:xfrm>
        </p:grpSpPr>
        <p:pic>
          <p:nvPicPr>
            <p:cNvPr id="967" name="TextBox 4" descr=""/>
            <p:cNvPicPr/>
            <p:nvPr/>
          </p:nvPicPr>
          <p:blipFill>
            <a:blip r:embed="rId1"/>
            <a:stretch/>
          </p:blipFill>
          <p:spPr>
            <a:xfrm>
              <a:off x="517680" y="3852720"/>
              <a:ext cx="79437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"/>
            <p:cNvSpPr/>
            <p:nvPr/>
          </p:nvSpPr>
          <p:spPr>
            <a:xfrm>
              <a:off x="557280" y="3892680"/>
              <a:ext cx="7858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Растеж, основан на иновации и предприемаче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ИК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9" name="Rectangle 8"/>
          <p:cNvSpPr/>
          <p:nvPr/>
        </p:nvSpPr>
        <p:spPr>
          <a:xfrm>
            <a:off x="439560" y="836640"/>
            <a:ext cx="8064720" cy="524808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0" name="TextBox 9"/>
          <p:cNvGrpSpPr/>
          <p:nvPr/>
        </p:nvGrpSpPr>
        <p:grpSpPr>
          <a:xfrm>
            <a:off x="444600" y="1908000"/>
            <a:ext cx="7937280" cy="1213200"/>
            <a:chOff x="444600" y="1908000"/>
            <a:chExt cx="7937280" cy="1213200"/>
          </a:xfrm>
        </p:grpSpPr>
        <p:pic>
          <p:nvPicPr>
            <p:cNvPr id="971" name="TextBox 9" descr=""/>
            <p:cNvPicPr/>
            <p:nvPr/>
          </p:nvPicPr>
          <p:blipFill>
            <a:blip r:embed="rId2"/>
            <a:stretch/>
          </p:blipFill>
          <p:spPr>
            <a:xfrm>
              <a:off x="444600" y="1908000"/>
              <a:ext cx="793728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2" name=""/>
            <p:cNvSpPr/>
            <p:nvPr/>
          </p:nvSpPr>
          <p:spPr>
            <a:xfrm>
              <a:off x="509760" y="1974960"/>
              <a:ext cx="78040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Стратегически приоритет 2: Научни изследвания, иновации и инвестиции за интелигентен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77420d"/>
                  </a:solidFill>
                  <a:latin typeface="Calibri"/>
                </a:rPr>
                <a:t>Достъп до и използване на ИК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3" name="TextBox 6"/>
          <p:cNvGrpSpPr/>
          <p:nvPr/>
        </p:nvGrpSpPr>
        <p:grpSpPr>
          <a:xfrm>
            <a:off x="469800" y="5578560"/>
            <a:ext cx="7935840" cy="457200"/>
            <a:chOff x="469800" y="5578560"/>
            <a:chExt cx="7935840" cy="457200"/>
          </a:xfrm>
        </p:grpSpPr>
        <p:pic>
          <p:nvPicPr>
            <p:cNvPr id="974" name="TextBox 6" descr=""/>
            <p:cNvPicPr/>
            <p:nvPr/>
          </p:nvPicPr>
          <p:blipFill>
            <a:blip r:embed="rId3"/>
            <a:stretch/>
          </p:blipFill>
          <p:spPr>
            <a:xfrm>
              <a:off x="469800" y="5578560"/>
              <a:ext cx="7935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498600" y="5603760"/>
              <a:ext cx="787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11171d"/>
                  </a:solidFill>
                  <a:latin typeface="Calibri"/>
                </a:rPr>
                <a:t>Специфични териториални характеристи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Content Placeholder 2"/>
          <p:cNvSpPr/>
          <p:nvPr/>
        </p:nvSpPr>
        <p:spPr>
          <a:xfrm>
            <a:off x="474840" y="620640"/>
            <a:ext cx="84340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сновни </a:t>
            </a:r>
            <a:r>
              <a:rPr b="1" lang="bg-BG" sz="2000" spc="-1" strike="noStrike">
                <a:solidFill>
                  <a:srgbClr val="ffffff"/>
                </a:solidFill>
                <a:latin typeface="Calibri"/>
              </a:rPr>
              <a:t> пробле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дисбаланси по отношение на широколентовото покри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необходимост от широколентов достъп в селските райо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нужда от доразвиване на ИКТ уменията във всички секто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граничено участие на МСП в електронната търго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8077b"/>
                </a:solidFill>
                <a:latin typeface="Calibri"/>
              </a:rPr>
              <a:t>Основни интервен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гарантиране на широколентов достъп от следващо поколение в общинските центрове в селските район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усъвършенстване на съществуващите широколентови мрежи до такива за достъп от следващо поко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създаване и въвеждане на информационни системи за управление, мониторинг и контрол в ключови сектор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осигуряване на технологично оборудване за образователната система, здравните и социалните завед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развитие и широко ползване на ИКТ-базирани продукти и услуги, включително през интерн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повишаване на квалификацията на ИКТ специалистите и цифровата компетентност на работната сила особено в МС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8"/>
          <p:cNvSpPr/>
          <p:nvPr/>
        </p:nvSpPr>
        <p:spPr>
          <a:xfrm>
            <a:off x="439560" y="836640"/>
            <a:ext cx="8064720" cy="524808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8" name="TextBox 5"/>
          <p:cNvGrpSpPr/>
          <p:nvPr/>
        </p:nvGrpSpPr>
        <p:grpSpPr>
          <a:xfrm>
            <a:off x="450720" y="1908000"/>
            <a:ext cx="7937640" cy="1213200"/>
            <a:chOff x="450720" y="1908000"/>
            <a:chExt cx="7937640" cy="1213200"/>
          </a:xfrm>
        </p:grpSpPr>
        <p:pic>
          <p:nvPicPr>
            <p:cNvPr id="979" name="TextBox 5" descr=""/>
            <p:cNvPicPr/>
            <p:nvPr/>
          </p:nvPicPr>
          <p:blipFill>
            <a:blip r:embed="rId1"/>
            <a:stretch/>
          </p:blipFill>
          <p:spPr>
            <a:xfrm>
              <a:off x="450720" y="1908000"/>
              <a:ext cx="793764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"/>
            <p:cNvSpPr/>
            <p:nvPr/>
          </p:nvSpPr>
          <p:spPr>
            <a:xfrm>
              <a:off x="512640" y="1974960"/>
              <a:ext cx="78044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Стратегически приоритет 3: Свързаност и зелена икономика за устойчив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314510"/>
                  </a:solidFill>
                  <a:latin typeface="Calibri"/>
                </a:rPr>
                <a:t>Свързаност (външна и вътрешна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1" name="TextBox 6"/>
          <p:cNvGrpSpPr/>
          <p:nvPr/>
        </p:nvGrpSpPr>
        <p:grpSpPr>
          <a:xfrm>
            <a:off x="450720" y="3998880"/>
            <a:ext cx="7937640" cy="1139760"/>
            <a:chOff x="450720" y="3998880"/>
            <a:chExt cx="7937640" cy="1139760"/>
          </a:xfrm>
        </p:grpSpPr>
        <p:pic>
          <p:nvPicPr>
            <p:cNvPr id="982" name="TextBox 6" descr=""/>
            <p:cNvPicPr/>
            <p:nvPr/>
          </p:nvPicPr>
          <p:blipFill>
            <a:blip r:embed="rId2"/>
            <a:stretch/>
          </p:blipFill>
          <p:spPr>
            <a:xfrm>
              <a:off x="450720" y="3998880"/>
              <a:ext cx="793764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509760" y="4059360"/>
              <a:ext cx="7810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Растеж, основан на свързаност, устойчиво развитие и ефикасно използване на ресурсит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свързаност и достъпнос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324000" y="259920"/>
            <a:ext cx="8712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Основни </a:t>
            </a:r>
            <a:r>
              <a:rPr b="1" lang="bg-BG" sz="1900" spc="-1" strike="noStrike">
                <a:solidFill>
                  <a:srgbClr val="ffffff"/>
                </a:solidFill>
                <a:latin typeface="Calibri"/>
              </a:rPr>
              <a:t> проблеми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участъци с недостатъчен капацитет и остаряло състояние на транспортната инфраструктур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едостатъчна свързаност на основната TEN-T мрежа и прилежащите мреж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ебалансирано разпределение на железниците в България, остарели оперативни и технически параметри на железопътната инфраструктура, незадоволително състояние на подвижния съста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ограничен пренос на товар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езадоволително общото техническо състояние на пристанищната инфраструктур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едостатъчни интермодални терминал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висока смъртност поради пътнотранспортни произшествия и липса на мерки за осигуряване на достъп на хора с увреждания до транспортните услуг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8077b"/>
                </a:solidFill>
                <a:latin typeface="Calibri"/>
              </a:rPr>
              <a:t>Основни интервенции 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ж.п. транспорт – инфраструктура и подвижен съста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пътища – магистрали, пътища І-ви клас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метро - инфраструктура и подвижен съста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интермодални терминал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управление на трафика - оперативна съвместимост и интелигентни транспортни систем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устойчива регионална мобилност и връзки с Т</a:t>
            </a:r>
            <a:r>
              <a:rPr b="0" lang="en-US" sz="1900" spc="-1" strike="noStrike">
                <a:solidFill>
                  <a:srgbClr val="18077b"/>
                </a:solidFill>
                <a:latin typeface="Calibri"/>
              </a:rPr>
              <a:t>EN-T </a:t>
            </a: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мрежа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8"/>
          <p:cNvSpPr/>
          <p:nvPr/>
        </p:nvSpPr>
        <p:spPr>
          <a:xfrm>
            <a:off x="406440" y="1609560"/>
            <a:ext cx="8064360" cy="524844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6" name="TextBox 5"/>
          <p:cNvGrpSpPr/>
          <p:nvPr/>
        </p:nvGrpSpPr>
        <p:grpSpPr>
          <a:xfrm>
            <a:off x="542880" y="2054160"/>
            <a:ext cx="7942320" cy="1622520"/>
            <a:chOff x="542880" y="2054160"/>
            <a:chExt cx="7942320" cy="1622520"/>
          </a:xfrm>
        </p:grpSpPr>
        <p:pic>
          <p:nvPicPr>
            <p:cNvPr id="987" name="TextBox 5" descr=""/>
            <p:cNvPicPr/>
            <p:nvPr/>
          </p:nvPicPr>
          <p:blipFill>
            <a:blip r:embed="rId1"/>
            <a:stretch/>
          </p:blipFill>
          <p:spPr>
            <a:xfrm>
              <a:off x="542880" y="2054160"/>
              <a:ext cx="79423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"/>
            <p:cNvSpPr/>
            <p:nvPr/>
          </p:nvSpPr>
          <p:spPr>
            <a:xfrm>
              <a:off x="628560" y="2138400"/>
              <a:ext cx="776448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Стратегически приоритет 3: Свързаност и зелена икономика за устойчив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314510"/>
                  </a:solidFill>
                  <a:latin typeface="Calibri"/>
                </a:rPr>
                <a:t>Преминаване към ниско-въглеродна икономика, енергийна и ресурсна ефективнос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9" name="TextBox 6"/>
          <p:cNvGrpSpPr/>
          <p:nvPr/>
        </p:nvGrpSpPr>
        <p:grpSpPr>
          <a:xfrm>
            <a:off x="506520" y="4505400"/>
            <a:ext cx="7935840" cy="1481040"/>
            <a:chOff x="506520" y="4505400"/>
            <a:chExt cx="7935840" cy="1481040"/>
          </a:xfrm>
        </p:grpSpPr>
        <p:pic>
          <p:nvPicPr>
            <p:cNvPr id="990" name="TextBox 6" descr=""/>
            <p:cNvPicPr/>
            <p:nvPr/>
          </p:nvPicPr>
          <p:blipFill>
            <a:blip r:embed="rId2"/>
            <a:stretch/>
          </p:blipFill>
          <p:spPr>
            <a:xfrm>
              <a:off x="506520" y="4505400"/>
              <a:ext cx="793584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1" name=""/>
            <p:cNvSpPr/>
            <p:nvPr/>
          </p:nvSpPr>
          <p:spPr>
            <a:xfrm>
              <a:off x="584280" y="4579920"/>
              <a:ext cx="7777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Растеж, основан на свързаност, устойчиво развитие и ефикасно използване на ресурсит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околна сре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ресурсна и енергийна ефективнос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 txBox="1"/>
          <p:nvPr/>
        </p:nvSpPr>
        <p:spPr>
          <a:xfrm>
            <a:off x="324000" y="404640"/>
            <a:ext cx="8712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сновни </a:t>
            </a:r>
            <a:r>
              <a:rPr b="1" lang="bg-BG" sz="2000" spc="-1" strike="noStrike">
                <a:solidFill>
                  <a:srgbClr val="ffffff"/>
                </a:solidFill>
                <a:latin typeface="Calibri"/>
              </a:rPr>
              <a:t> проблем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висок ръст на брутното вътрешно потребление и крайното енергийно потребление в стра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необходимост от въвеждане на пазарни икономически стимули за реализиране на мерки за ЕЕ, както за енергийните компании, така и за крайните потребит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повишаване на дела на използване на нови иновативни технологии, по-специално технологиите за ЕЕ и за енергия от 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Основни интервенции 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подобряване на енергийната ефективност в секторите - домакинства, индустрия, услуги, бизнеса, транспорт и друг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подпомагане на енергийната ефективност в сгради за обществено обслужване, както и на частни и търговски сград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въвеждане на нови модели и съоръжения за спестяване на вод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насърчаване на потреблението на енергия от ВИ за собствени нужди предприя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Иновации и технологии за намаляване не енергийната неефективонст и енергоемкостта на производствата и намаляване на енергийната зависим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Title 1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5535720" cy="11592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 txBox="1"/>
          <p:nvPr/>
        </p:nvSpPr>
        <p:spPr>
          <a:xfrm>
            <a:off x="428760" y="14796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b0189"/>
                </a:solidFill>
                <a:latin typeface="Calibri"/>
              </a:rPr>
              <a:t>Свежда елементите на Общата стратегическа рамка към националния контекст</a:t>
            </a: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b0189"/>
                </a:solidFill>
                <a:latin typeface="Calibri"/>
              </a:rPr>
              <a:t>Съдържа ясни ангажименти за постигане на целите на ЕС чрез ЕСИФ</a:t>
            </a: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b0189"/>
                </a:solidFill>
                <a:latin typeface="Calibri"/>
              </a:rPr>
              <a:t>Описва уредбата, която гарантира ефективното изпълнение на ЕСИФ</a:t>
            </a: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</p:txBody>
      </p:sp>
      <p:grpSp>
        <p:nvGrpSpPr>
          <p:cNvPr id="728" name="Group 1"/>
          <p:cNvGrpSpPr/>
          <p:nvPr/>
        </p:nvGrpSpPr>
        <p:grpSpPr>
          <a:xfrm>
            <a:off x="393840" y="2936880"/>
            <a:ext cx="8640720" cy="3887640"/>
            <a:chOff x="393840" y="2936880"/>
            <a:chExt cx="8640720" cy="3887640"/>
          </a:xfrm>
        </p:grpSpPr>
        <p:sp>
          <p:nvSpPr>
            <p:cNvPr id="729" name="AutoShape 3"/>
            <p:cNvSpPr/>
            <p:nvPr/>
          </p:nvSpPr>
          <p:spPr>
            <a:xfrm>
              <a:off x="393840" y="2936880"/>
              <a:ext cx="8640720" cy="38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Rectangle 5"/>
            <p:cNvSpPr/>
            <p:nvPr/>
          </p:nvSpPr>
          <p:spPr>
            <a:xfrm>
              <a:off x="2380320" y="2953080"/>
              <a:ext cx="6511680" cy="7286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6"/>
            <p:cNvSpPr/>
            <p:nvPr/>
          </p:nvSpPr>
          <p:spPr>
            <a:xfrm>
              <a:off x="2374920" y="2949840"/>
              <a:ext cx="6520320" cy="735120"/>
            </a:xfrm>
            <a:custGeom>
              <a:avLst/>
              <a:gdLst>
                <a:gd name="textAreaLeft" fmla="*/ 0 w 6520320"/>
                <a:gd name="textAreaRight" fmla="*/ 6520680 w 652032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3696" h="446">
                  <a:moveTo>
                    <a:pt x="0" y="0"/>
                  </a:moveTo>
                  <a:lnTo>
                    <a:pt x="3696" y="0"/>
                  </a:lnTo>
                  <a:lnTo>
                    <a:pt x="3696" y="446"/>
                  </a:lnTo>
                  <a:lnTo>
                    <a:pt x="0" y="446"/>
                  </a:lnTo>
                  <a:lnTo>
                    <a:pt x="0" y="0"/>
                  </a:lnTo>
                  <a:close/>
                  <a:moveTo>
                    <a:pt x="5" y="444"/>
                  </a:moveTo>
                  <a:lnTo>
                    <a:pt x="3" y="442"/>
                  </a:lnTo>
                  <a:lnTo>
                    <a:pt x="3694" y="442"/>
                  </a:lnTo>
                  <a:lnTo>
                    <a:pt x="3691" y="444"/>
                  </a:lnTo>
                  <a:lnTo>
                    <a:pt x="3691" y="2"/>
                  </a:lnTo>
                  <a:lnTo>
                    <a:pt x="3694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Rectangle 7"/>
            <p:cNvSpPr/>
            <p:nvPr/>
          </p:nvSpPr>
          <p:spPr>
            <a:xfrm>
              <a:off x="4167360" y="3057120"/>
              <a:ext cx="293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ОБЩА СТРАТЕГИЧЕСКА РАМК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Rectangle 8"/>
            <p:cNvSpPr/>
            <p:nvPr/>
          </p:nvSpPr>
          <p:spPr>
            <a:xfrm>
              <a:off x="4111560" y="3329280"/>
              <a:ext cx="2922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g-BG" sz="1400" spc="-1" strike="noStrike">
                  <a:solidFill>
                    <a:srgbClr val="16489f"/>
                  </a:solidFill>
                  <a:latin typeface="Arial"/>
                  <a:ea typeface="Arial"/>
                </a:rPr>
                <a:t>ЕФРР, ЕСФ, КФ, ЕЗФРСР, ЕФМДР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Rectangle 9"/>
            <p:cNvSpPr/>
            <p:nvPr/>
          </p:nvSpPr>
          <p:spPr>
            <a:xfrm>
              <a:off x="2380320" y="3889800"/>
              <a:ext cx="6651000" cy="522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10"/>
            <p:cNvSpPr/>
            <p:nvPr/>
          </p:nvSpPr>
          <p:spPr>
            <a:xfrm>
              <a:off x="2374920" y="3886560"/>
              <a:ext cx="6659640" cy="529200"/>
            </a:xfrm>
            <a:custGeom>
              <a:avLst/>
              <a:gdLst>
                <a:gd name="textAreaLeft" fmla="*/ 0 w 6659640"/>
                <a:gd name="textAreaRight" fmla="*/ 6660000 w 665964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3775" h="321">
                  <a:moveTo>
                    <a:pt x="0" y="0"/>
                  </a:moveTo>
                  <a:lnTo>
                    <a:pt x="3775" y="0"/>
                  </a:lnTo>
                  <a:lnTo>
                    <a:pt x="3775" y="321"/>
                  </a:lnTo>
                  <a:lnTo>
                    <a:pt x="0" y="321"/>
                  </a:lnTo>
                  <a:lnTo>
                    <a:pt x="0" y="0"/>
                  </a:lnTo>
                  <a:close/>
                  <a:moveTo>
                    <a:pt x="5" y="319"/>
                  </a:moveTo>
                  <a:lnTo>
                    <a:pt x="3" y="317"/>
                  </a:lnTo>
                  <a:lnTo>
                    <a:pt x="3773" y="317"/>
                  </a:lnTo>
                  <a:lnTo>
                    <a:pt x="3770" y="319"/>
                  </a:lnTo>
                  <a:lnTo>
                    <a:pt x="3770" y="2"/>
                  </a:lnTo>
                  <a:lnTo>
                    <a:pt x="377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Rectangle 11"/>
            <p:cNvSpPr/>
            <p:nvPr/>
          </p:nvSpPr>
          <p:spPr>
            <a:xfrm>
              <a:off x="3961440" y="3932640"/>
              <a:ext cx="288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СПОРАЗУМЕНИЕ ЗА ПАРТНЬОРСТВ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Rectangle 12"/>
            <p:cNvSpPr/>
            <p:nvPr/>
          </p:nvSpPr>
          <p:spPr>
            <a:xfrm>
              <a:off x="4118040" y="4130640"/>
              <a:ext cx="250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g-BG" sz="1200" spc="-1" strike="noStrike">
                  <a:solidFill>
                    <a:srgbClr val="16489f"/>
                  </a:solidFill>
                  <a:latin typeface="Arial"/>
                  <a:ea typeface="Arial"/>
                </a:rPr>
                <a:t>ЕФРР, ЕСФ, КФ, ЕЗФРСР, ЕФМД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Rectangle 13"/>
            <p:cNvSpPr/>
            <p:nvPr/>
          </p:nvSpPr>
          <p:spPr>
            <a:xfrm>
              <a:off x="450000" y="5075280"/>
              <a:ext cx="1414800" cy="712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14"/>
            <p:cNvSpPr/>
            <p:nvPr/>
          </p:nvSpPr>
          <p:spPr>
            <a:xfrm>
              <a:off x="416520" y="5038920"/>
              <a:ext cx="1425240" cy="748440"/>
            </a:xfrm>
            <a:custGeom>
              <a:avLst/>
              <a:gdLst>
                <a:gd name="textAreaLeft" fmla="*/ 0 w 1425240"/>
                <a:gd name="textAreaRight" fmla="*/ 1425600 w 1425240"/>
                <a:gd name="textAreaTop" fmla="*/ 0 h 748440"/>
                <a:gd name="textAreaBottom" fmla="*/ 748800 h 748440"/>
              </a:gdLst>
              <a:ahLst/>
              <a:rect l="textAreaLeft" t="textAreaTop" r="textAreaRight" b="textAreaBottom"/>
              <a:pathLst>
                <a:path w="808" h="257">
                  <a:moveTo>
                    <a:pt x="0" y="0"/>
                  </a:moveTo>
                  <a:lnTo>
                    <a:pt x="808" y="0"/>
                  </a:lnTo>
                  <a:lnTo>
                    <a:pt x="808" y="257"/>
                  </a:lnTo>
                  <a:lnTo>
                    <a:pt x="0" y="257"/>
                  </a:lnTo>
                  <a:lnTo>
                    <a:pt x="0" y="0"/>
                  </a:lnTo>
                  <a:close/>
                  <a:moveTo>
                    <a:pt x="6" y="255"/>
                  </a:moveTo>
                  <a:lnTo>
                    <a:pt x="3" y="253"/>
                  </a:lnTo>
                  <a:lnTo>
                    <a:pt x="805" y="253"/>
                  </a:lnTo>
                  <a:lnTo>
                    <a:pt x="803" y="255"/>
                  </a:lnTo>
                  <a:lnTo>
                    <a:pt x="803" y="2"/>
                  </a:lnTo>
                  <a:lnTo>
                    <a:pt x="805" y="4"/>
                  </a:lnTo>
                  <a:lnTo>
                    <a:pt x="3" y="4"/>
                  </a:lnTo>
                  <a:lnTo>
                    <a:pt x="6" y="2"/>
                  </a:lnTo>
                  <a:lnTo>
                    <a:pt x="6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Rectangle 15"/>
            <p:cNvSpPr/>
            <p:nvPr/>
          </p:nvSpPr>
          <p:spPr>
            <a:xfrm>
              <a:off x="488160" y="5132880"/>
              <a:ext cx="130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Национално ил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Rectangle 16"/>
            <p:cNvSpPr/>
            <p:nvPr/>
          </p:nvSpPr>
          <p:spPr>
            <a:xfrm>
              <a:off x="506160" y="5431320"/>
              <a:ext cx="128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регионално нив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Rectangle 17"/>
            <p:cNvSpPr/>
            <p:nvPr/>
          </p:nvSpPr>
          <p:spPr>
            <a:xfrm>
              <a:off x="2380320" y="4620240"/>
              <a:ext cx="2445120" cy="415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18"/>
            <p:cNvSpPr/>
            <p:nvPr/>
          </p:nvSpPr>
          <p:spPr>
            <a:xfrm>
              <a:off x="2374920" y="4617000"/>
              <a:ext cx="2450160" cy="421920"/>
            </a:xfrm>
            <a:custGeom>
              <a:avLst/>
              <a:gdLst>
                <a:gd name="textAreaLeft" fmla="*/ 0 w 2450160"/>
                <a:gd name="textAreaRight" fmla="*/ 2450520 w 2450160"/>
                <a:gd name="textAreaTop" fmla="*/ 0 h 421920"/>
                <a:gd name="textAreaBottom" fmla="*/ 422280 h 421920"/>
              </a:gdLst>
              <a:ahLst/>
              <a:rect l="textAreaLeft" t="textAreaTop" r="textAreaRight" b="textAreaBottom"/>
              <a:pathLst>
                <a:path w="1209" h="256">
                  <a:moveTo>
                    <a:pt x="0" y="0"/>
                  </a:moveTo>
                  <a:lnTo>
                    <a:pt x="1209" y="0"/>
                  </a:lnTo>
                  <a:lnTo>
                    <a:pt x="1209" y="256"/>
                  </a:lnTo>
                  <a:lnTo>
                    <a:pt x="0" y="256"/>
                  </a:lnTo>
                  <a:lnTo>
                    <a:pt x="0" y="0"/>
                  </a:lnTo>
                  <a:close/>
                  <a:moveTo>
                    <a:pt x="5" y="254"/>
                  </a:moveTo>
                  <a:lnTo>
                    <a:pt x="3" y="252"/>
                  </a:lnTo>
                  <a:lnTo>
                    <a:pt x="1206" y="252"/>
                  </a:lnTo>
                  <a:lnTo>
                    <a:pt x="1203" y="254"/>
                  </a:lnTo>
                  <a:lnTo>
                    <a:pt x="1203" y="2"/>
                  </a:lnTo>
                  <a:lnTo>
                    <a:pt x="1206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5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Rectangle 19"/>
            <p:cNvSpPr/>
            <p:nvPr/>
          </p:nvSpPr>
          <p:spPr>
            <a:xfrm>
              <a:off x="2450520" y="4720680"/>
              <a:ext cx="218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Оперативни програми ЕФРР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Rectangle 21"/>
            <p:cNvSpPr/>
            <p:nvPr/>
          </p:nvSpPr>
          <p:spPr>
            <a:xfrm>
              <a:off x="5076000" y="4620240"/>
              <a:ext cx="1933560" cy="811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22"/>
            <p:cNvSpPr/>
            <p:nvPr/>
          </p:nvSpPr>
          <p:spPr>
            <a:xfrm>
              <a:off x="5070600" y="4617000"/>
              <a:ext cx="1944000" cy="814320"/>
            </a:xfrm>
            <a:custGeom>
              <a:avLst/>
              <a:gdLst>
                <a:gd name="textAreaLeft" fmla="*/ 0 w 1944000"/>
                <a:gd name="textAreaRight" fmla="*/ 1944360 w 194400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1102" h="364">
                  <a:moveTo>
                    <a:pt x="0" y="0"/>
                  </a:moveTo>
                  <a:lnTo>
                    <a:pt x="1102" y="0"/>
                  </a:lnTo>
                  <a:lnTo>
                    <a:pt x="1102" y="364"/>
                  </a:lnTo>
                  <a:lnTo>
                    <a:pt x="0" y="364"/>
                  </a:lnTo>
                  <a:lnTo>
                    <a:pt x="0" y="0"/>
                  </a:lnTo>
                  <a:close/>
                  <a:moveTo>
                    <a:pt x="5" y="362"/>
                  </a:moveTo>
                  <a:lnTo>
                    <a:pt x="3" y="360"/>
                  </a:lnTo>
                  <a:lnTo>
                    <a:pt x="1099" y="360"/>
                  </a:lnTo>
                  <a:lnTo>
                    <a:pt x="1097" y="362"/>
                  </a:lnTo>
                  <a:lnTo>
                    <a:pt x="1097" y="2"/>
                  </a:lnTo>
                  <a:lnTo>
                    <a:pt x="1099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36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Rectangle 23"/>
            <p:cNvSpPr/>
            <p:nvPr/>
          </p:nvSpPr>
          <p:spPr>
            <a:xfrm>
              <a:off x="5149800" y="4699440"/>
              <a:ext cx="178380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3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Програми за развитие на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3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селските райони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3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ЕЗФРСР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Rectangle 26"/>
            <p:cNvSpPr/>
            <p:nvPr/>
          </p:nvSpPr>
          <p:spPr>
            <a:xfrm>
              <a:off x="2380320" y="5141160"/>
              <a:ext cx="2445120" cy="415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Freeform 27"/>
            <p:cNvSpPr/>
            <p:nvPr/>
          </p:nvSpPr>
          <p:spPr>
            <a:xfrm>
              <a:off x="2374920" y="5137920"/>
              <a:ext cx="2450160" cy="421920"/>
            </a:xfrm>
            <a:custGeom>
              <a:avLst/>
              <a:gdLst>
                <a:gd name="textAreaLeft" fmla="*/ 0 w 2450160"/>
                <a:gd name="textAreaRight" fmla="*/ 2450520 w 2450160"/>
                <a:gd name="textAreaTop" fmla="*/ 0 h 421920"/>
                <a:gd name="textAreaBottom" fmla="*/ 422280 h 421920"/>
              </a:gdLst>
              <a:ahLst/>
              <a:rect l="textAreaLeft" t="textAreaTop" r="textAreaRight" b="textAreaBottom"/>
              <a:pathLst>
                <a:path w="1209" h="256">
                  <a:moveTo>
                    <a:pt x="0" y="0"/>
                  </a:moveTo>
                  <a:lnTo>
                    <a:pt x="1209" y="0"/>
                  </a:lnTo>
                  <a:lnTo>
                    <a:pt x="1209" y="256"/>
                  </a:lnTo>
                  <a:lnTo>
                    <a:pt x="0" y="256"/>
                  </a:lnTo>
                  <a:lnTo>
                    <a:pt x="0" y="0"/>
                  </a:lnTo>
                  <a:close/>
                  <a:moveTo>
                    <a:pt x="5" y="254"/>
                  </a:moveTo>
                  <a:lnTo>
                    <a:pt x="3" y="252"/>
                  </a:lnTo>
                  <a:lnTo>
                    <a:pt x="1206" y="252"/>
                  </a:lnTo>
                  <a:lnTo>
                    <a:pt x="1203" y="254"/>
                  </a:lnTo>
                  <a:lnTo>
                    <a:pt x="1203" y="2"/>
                  </a:lnTo>
                  <a:lnTo>
                    <a:pt x="1206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5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Rectangle 30"/>
            <p:cNvSpPr/>
            <p:nvPr/>
          </p:nvSpPr>
          <p:spPr>
            <a:xfrm>
              <a:off x="2341440" y="5662080"/>
              <a:ext cx="2484000" cy="415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31"/>
            <p:cNvSpPr/>
            <p:nvPr/>
          </p:nvSpPr>
          <p:spPr>
            <a:xfrm>
              <a:off x="2374920" y="5658840"/>
              <a:ext cx="2450160" cy="420120"/>
            </a:xfrm>
            <a:custGeom>
              <a:avLst/>
              <a:gdLst>
                <a:gd name="textAreaLeft" fmla="*/ 0 w 2450160"/>
                <a:gd name="textAreaRight" fmla="*/ 2450520 w 245016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1209" h="255">
                  <a:moveTo>
                    <a:pt x="0" y="0"/>
                  </a:moveTo>
                  <a:lnTo>
                    <a:pt x="1209" y="0"/>
                  </a:lnTo>
                  <a:lnTo>
                    <a:pt x="1209" y="255"/>
                  </a:lnTo>
                  <a:lnTo>
                    <a:pt x="0" y="255"/>
                  </a:lnTo>
                  <a:lnTo>
                    <a:pt x="0" y="0"/>
                  </a:lnTo>
                  <a:close/>
                  <a:moveTo>
                    <a:pt x="5" y="254"/>
                  </a:moveTo>
                  <a:lnTo>
                    <a:pt x="3" y="252"/>
                  </a:lnTo>
                  <a:lnTo>
                    <a:pt x="1206" y="252"/>
                  </a:lnTo>
                  <a:lnTo>
                    <a:pt x="1203" y="254"/>
                  </a:lnTo>
                  <a:lnTo>
                    <a:pt x="1203" y="2"/>
                  </a:lnTo>
                  <a:lnTo>
                    <a:pt x="1206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5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Rectangle 34"/>
            <p:cNvSpPr/>
            <p:nvPr/>
          </p:nvSpPr>
          <p:spPr>
            <a:xfrm>
              <a:off x="397080" y="3057120"/>
              <a:ext cx="1557720" cy="522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Freeform 35"/>
            <p:cNvSpPr/>
            <p:nvPr/>
          </p:nvSpPr>
          <p:spPr>
            <a:xfrm>
              <a:off x="393840" y="3053880"/>
              <a:ext cx="1564560" cy="527400"/>
            </a:xfrm>
            <a:custGeom>
              <a:avLst/>
              <a:gdLst>
                <a:gd name="textAreaLeft" fmla="*/ 0 w 1564560"/>
                <a:gd name="textAreaRight" fmla="*/ 1564920 w 1564560"/>
                <a:gd name="textAreaTop" fmla="*/ 0 h 527400"/>
                <a:gd name="textAreaBottom" fmla="*/ 527760 h 527400"/>
              </a:gdLst>
              <a:ahLst/>
              <a:rect l="textAreaLeft" t="textAreaTop" r="textAreaRight" b="textAreaBottom"/>
              <a:pathLst>
                <a:path w="887" h="320">
                  <a:moveTo>
                    <a:pt x="0" y="0"/>
                  </a:moveTo>
                  <a:lnTo>
                    <a:pt x="887" y="0"/>
                  </a:lnTo>
                  <a:lnTo>
                    <a:pt x="887" y="320"/>
                  </a:lnTo>
                  <a:lnTo>
                    <a:pt x="0" y="320"/>
                  </a:lnTo>
                  <a:lnTo>
                    <a:pt x="0" y="0"/>
                  </a:lnTo>
                  <a:close/>
                  <a:moveTo>
                    <a:pt x="5" y="319"/>
                  </a:moveTo>
                  <a:lnTo>
                    <a:pt x="2" y="317"/>
                  </a:lnTo>
                  <a:lnTo>
                    <a:pt x="885" y="317"/>
                  </a:lnTo>
                  <a:lnTo>
                    <a:pt x="882" y="319"/>
                  </a:lnTo>
                  <a:lnTo>
                    <a:pt x="882" y="2"/>
                  </a:lnTo>
                  <a:lnTo>
                    <a:pt x="885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Rectangle 36"/>
            <p:cNvSpPr/>
            <p:nvPr/>
          </p:nvSpPr>
          <p:spPr>
            <a:xfrm>
              <a:off x="1002960" y="322200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ЕС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Rectangle 38"/>
            <p:cNvSpPr/>
            <p:nvPr/>
          </p:nvSpPr>
          <p:spPr>
            <a:xfrm>
              <a:off x="397080" y="3889800"/>
              <a:ext cx="1557720" cy="522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Freeform 39"/>
            <p:cNvSpPr/>
            <p:nvPr/>
          </p:nvSpPr>
          <p:spPr>
            <a:xfrm>
              <a:off x="393840" y="3886560"/>
              <a:ext cx="1564560" cy="529200"/>
            </a:xfrm>
            <a:custGeom>
              <a:avLst/>
              <a:gdLst>
                <a:gd name="textAreaLeft" fmla="*/ 0 w 1564560"/>
                <a:gd name="textAreaRight" fmla="*/ 1564920 w 156456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887" h="321">
                  <a:moveTo>
                    <a:pt x="0" y="0"/>
                  </a:moveTo>
                  <a:lnTo>
                    <a:pt x="887" y="0"/>
                  </a:lnTo>
                  <a:lnTo>
                    <a:pt x="887" y="321"/>
                  </a:lnTo>
                  <a:lnTo>
                    <a:pt x="0" y="321"/>
                  </a:lnTo>
                  <a:lnTo>
                    <a:pt x="0" y="0"/>
                  </a:lnTo>
                  <a:close/>
                  <a:moveTo>
                    <a:pt x="5" y="319"/>
                  </a:moveTo>
                  <a:lnTo>
                    <a:pt x="2" y="317"/>
                  </a:lnTo>
                  <a:lnTo>
                    <a:pt x="885" y="317"/>
                  </a:lnTo>
                  <a:lnTo>
                    <a:pt x="882" y="319"/>
                  </a:lnTo>
                  <a:lnTo>
                    <a:pt x="882" y="2"/>
                  </a:lnTo>
                  <a:lnTo>
                    <a:pt x="885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Rectangle 40"/>
            <p:cNvSpPr/>
            <p:nvPr/>
          </p:nvSpPr>
          <p:spPr>
            <a:xfrm>
              <a:off x="483480" y="4016520"/>
              <a:ext cx="134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Национално нив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Rectangle 41"/>
            <p:cNvSpPr/>
            <p:nvPr/>
          </p:nvSpPr>
          <p:spPr>
            <a:xfrm>
              <a:off x="2380320" y="6181560"/>
              <a:ext cx="2445120" cy="624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42"/>
            <p:cNvSpPr/>
            <p:nvPr/>
          </p:nvSpPr>
          <p:spPr>
            <a:xfrm>
              <a:off x="2374920" y="6180120"/>
              <a:ext cx="2450160" cy="629640"/>
            </a:xfrm>
            <a:custGeom>
              <a:avLst/>
              <a:gdLst>
                <a:gd name="textAreaLeft" fmla="*/ 0 w 2450160"/>
                <a:gd name="textAreaRight" fmla="*/ 2450520 w 2450160"/>
                <a:gd name="textAreaTop" fmla="*/ 0 h 629640"/>
                <a:gd name="textAreaBottom" fmla="*/ 629640 h 629640"/>
              </a:gdLst>
              <a:ahLst/>
              <a:rect l="textAreaLeft" t="textAreaTop" r="textAreaRight" b="textAreaBottom"/>
              <a:pathLst>
                <a:path w="1209" h="382">
                  <a:moveTo>
                    <a:pt x="0" y="0"/>
                  </a:moveTo>
                  <a:lnTo>
                    <a:pt x="1209" y="0"/>
                  </a:lnTo>
                  <a:lnTo>
                    <a:pt x="1209" y="382"/>
                  </a:lnTo>
                  <a:lnTo>
                    <a:pt x="0" y="382"/>
                  </a:lnTo>
                  <a:lnTo>
                    <a:pt x="0" y="0"/>
                  </a:lnTo>
                  <a:close/>
                  <a:moveTo>
                    <a:pt x="5" y="380"/>
                  </a:moveTo>
                  <a:lnTo>
                    <a:pt x="3" y="378"/>
                  </a:lnTo>
                  <a:lnTo>
                    <a:pt x="1206" y="378"/>
                  </a:lnTo>
                  <a:lnTo>
                    <a:pt x="1203" y="380"/>
                  </a:lnTo>
                  <a:lnTo>
                    <a:pt x="1203" y="1"/>
                  </a:lnTo>
                  <a:lnTo>
                    <a:pt x="1206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46"/>
            <p:cNvSpPr/>
            <p:nvPr/>
          </p:nvSpPr>
          <p:spPr>
            <a:xfrm>
              <a:off x="1949760" y="4512960"/>
              <a:ext cx="146160" cy="229680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2296800"/>
                <a:gd name="textAreaBottom" fmla="*/ 2297160 h 2296800"/>
              </a:gdLst>
              <a:ahLst/>
              <a:rect l="textAreaLeft" t="textAreaTop" r="textAreaRight" b="textAreaBottom"/>
              <a:pathLst>
                <a:path w="771" h="16895">
                  <a:moveTo>
                    <a:pt x="766" y="16895"/>
                  </a:moveTo>
                  <a:lnTo>
                    <a:pt x="747" y="16893"/>
                  </a:lnTo>
                  <a:cubicBezTo>
                    <a:pt x="746" y="16893"/>
                    <a:pt x="744" y="16893"/>
                    <a:pt x="743" y="16893"/>
                  </a:cubicBezTo>
                  <a:lnTo>
                    <a:pt x="724" y="16887"/>
                  </a:lnTo>
                  <a:cubicBezTo>
                    <a:pt x="723" y="16887"/>
                    <a:pt x="722" y="16886"/>
                    <a:pt x="720" y="16886"/>
                  </a:cubicBezTo>
                  <a:lnTo>
                    <a:pt x="702" y="16877"/>
                  </a:lnTo>
                  <a:cubicBezTo>
                    <a:pt x="701" y="16877"/>
                    <a:pt x="700" y="16876"/>
                    <a:pt x="699" y="16875"/>
                  </a:cubicBezTo>
                  <a:lnTo>
                    <a:pt x="680" y="16863"/>
                  </a:lnTo>
                  <a:lnTo>
                    <a:pt x="660" y="16845"/>
                  </a:lnTo>
                  <a:lnTo>
                    <a:pt x="640" y="16824"/>
                  </a:lnTo>
                  <a:lnTo>
                    <a:pt x="622" y="16801"/>
                  </a:lnTo>
                  <a:lnTo>
                    <a:pt x="604" y="16774"/>
                  </a:lnTo>
                  <a:lnTo>
                    <a:pt x="570" y="16713"/>
                  </a:lnTo>
                  <a:lnTo>
                    <a:pt x="538" y="16641"/>
                  </a:lnTo>
                  <a:lnTo>
                    <a:pt x="509" y="16558"/>
                  </a:lnTo>
                  <a:lnTo>
                    <a:pt x="482" y="16466"/>
                  </a:lnTo>
                  <a:lnTo>
                    <a:pt x="458" y="16365"/>
                  </a:lnTo>
                  <a:lnTo>
                    <a:pt x="436" y="16255"/>
                  </a:lnTo>
                  <a:lnTo>
                    <a:pt x="418" y="16138"/>
                  </a:lnTo>
                  <a:lnTo>
                    <a:pt x="402" y="16014"/>
                  </a:lnTo>
                  <a:lnTo>
                    <a:pt x="390" y="15884"/>
                  </a:lnTo>
                  <a:lnTo>
                    <a:pt x="380" y="15749"/>
                  </a:lnTo>
                  <a:lnTo>
                    <a:pt x="374" y="15608"/>
                  </a:lnTo>
                  <a:lnTo>
                    <a:pt x="372" y="15463"/>
                  </a:lnTo>
                  <a:lnTo>
                    <a:pt x="372" y="9856"/>
                  </a:lnTo>
                  <a:lnTo>
                    <a:pt x="370" y="9713"/>
                  </a:lnTo>
                  <a:lnTo>
                    <a:pt x="365" y="9573"/>
                  </a:lnTo>
                  <a:lnTo>
                    <a:pt x="356" y="9439"/>
                  </a:lnTo>
                  <a:lnTo>
                    <a:pt x="344" y="9310"/>
                  </a:lnTo>
                  <a:lnTo>
                    <a:pt x="328" y="9188"/>
                  </a:lnTo>
                  <a:lnTo>
                    <a:pt x="309" y="9073"/>
                  </a:lnTo>
                  <a:lnTo>
                    <a:pt x="288" y="8965"/>
                  </a:lnTo>
                  <a:lnTo>
                    <a:pt x="264" y="8866"/>
                  </a:lnTo>
                  <a:lnTo>
                    <a:pt x="238" y="8776"/>
                  </a:lnTo>
                  <a:lnTo>
                    <a:pt x="210" y="8696"/>
                  </a:lnTo>
                  <a:lnTo>
                    <a:pt x="180" y="8627"/>
                  </a:lnTo>
                  <a:lnTo>
                    <a:pt x="148" y="8570"/>
                  </a:lnTo>
                  <a:lnTo>
                    <a:pt x="132" y="8546"/>
                  </a:lnTo>
                  <a:lnTo>
                    <a:pt x="116" y="8526"/>
                  </a:lnTo>
                  <a:lnTo>
                    <a:pt x="100" y="8508"/>
                  </a:lnTo>
                  <a:lnTo>
                    <a:pt x="84" y="8494"/>
                  </a:lnTo>
                  <a:lnTo>
                    <a:pt x="68" y="8483"/>
                  </a:lnTo>
                  <a:lnTo>
                    <a:pt x="71" y="8485"/>
                  </a:lnTo>
                  <a:lnTo>
                    <a:pt x="52" y="8477"/>
                  </a:lnTo>
                  <a:lnTo>
                    <a:pt x="56" y="8478"/>
                  </a:lnTo>
                  <a:lnTo>
                    <a:pt x="37" y="8473"/>
                  </a:lnTo>
                  <a:lnTo>
                    <a:pt x="41" y="8473"/>
                  </a:lnTo>
                  <a:lnTo>
                    <a:pt x="22" y="8471"/>
                  </a:lnTo>
                  <a:cubicBezTo>
                    <a:pt x="10" y="8470"/>
                    <a:pt x="0" y="8460"/>
                    <a:pt x="0" y="8447"/>
                  </a:cubicBezTo>
                  <a:cubicBezTo>
                    <a:pt x="0" y="8435"/>
                    <a:pt x="10" y="8425"/>
                    <a:pt x="22" y="8424"/>
                  </a:cubicBezTo>
                  <a:lnTo>
                    <a:pt x="41" y="8422"/>
                  </a:lnTo>
                  <a:lnTo>
                    <a:pt x="37" y="8422"/>
                  </a:lnTo>
                  <a:lnTo>
                    <a:pt x="56" y="8417"/>
                  </a:lnTo>
                  <a:lnTo>
                    <a:pt x="52" y="8418"/>
                  </a:lnTo>
                  <a:lnTo>
                    <a:pt x="71" y="8410"/>
                  </a:lnTo>
                  <a:lnTo>
                    <a:pt x="68" y="8412"/>
                  </a:lnTo>
                  <a:lnTo>
                    <a:pt x="86" y="8399"/>
                  </a:lnTo>
                  <a:lnTo>
                    <a:pt x="102" y="8385"/>
                  </a:lnTo>
                  <a:lnTo>
                    <a:pt x="117" y="8368"/>
                  </a:lnTo>
                  <a:lnTo>
                    <a:pt x="134" y="8347"/>
                  </a:lnTo>
                  <a:lnTo>
                    <a:pt x="150" y="8323"/>
                  </a:lnTo>
                  <a:lnTo>
                    <a:pt x="181" y="8266"/>
                  </a:lnTo>
                  <a:lnTo>
                    <a:pt x="210" y="8197"/>
                  </a:lnTo>
                  <a:lnTo>
                    <a:pt x="238" y="8118"/>
                  </a:lnTo>
                  <a:lnTo>
                    <a:pt x="264" y="8028"/>
                  </a:lnTo>
                  <a:lnTo>
                    <a:pt x="288" y="7929"/>
                  </a:lnTo>
                  <a:lnTo>
                    <a:pt x="309" y="7822"/>
                  </a:lnTo>
                  <a:lnTo>
                    <a:pt x="328" y="7707"/>
                  </a:lnTo>
                  <a:lnTo>
                    <a:pt x="343" y="7584"/>
                  </a:lnTo>
                  <a:lnTo>
                    <a:pt x="356" y="7456"/>
                  </a:lnTo>
                  <a:lnTo>
                    <a:pt x="365" y="7321"/>
                  </a:lnTo>
                  <a:lnTo>
                    <a:pt x="370" y="7182"/>
                  </a:lnTo>
                  <a:lnTo>
                    <a:pt x="372" y="7039"/>
                  </a:lnTo>
                  <a:lnTo>
                    <a:pt x="372" y="1432"/>
                  </a:lnTo>
                  <a:lnTo>
                    <a:pt x="374" y="1288"/>
                  </a:lnTo>
                  <a:lnTo>
                    <a:pt x="380" y="1148"/>
                  </a:lnTo>
                  <a:lnTo>
                    <a:pt x="390" y="1012"/>
                  </a:lnTo>
                  <a:lnTo>
                    <a:pt x="402" y="882"/>
                  </a:lnTo>
                  <a:lnTo>
                    <a:pt x="418" y="758"/>
                  </a:lnTo>
                  <a:lnTo>
                    <a:pt x="436" y="641"/>
                  </a:lnTo>
                  <a:lnTo>
                    <a:pt x="458" y="532"/>
                  </a:lnTo>
                  <a:lnTo>
                    <a:pt x="482" y="431"/>
                  </a:lnTo>
                  <a:lnTo>
                    <a:pt x="509" y="339"/>
                  </a:lnTo>
                  <a:lnTo>
                    <a:pt x="538" y="256"/>
                  </a:lnTo>
                  <a:lnTo>
                    <a:pt x="569" y="184"/>
                  </a:lnTo>
                  <a:lnTo>
                    <a:pt x="603" y="123"/>
                  </a:lnTo>
                  <a:lnTo>
                    <a:pt x="621" y="96"/>
                  </a:lnTo>
                  <a:lnTo>
                    <a:pt x="639" y="72"/>
                  </a:lnTo>
                  <a:lnTo>
                    <a:pt x="658" y="52"/>
                  </a:lnTo>
                  <a:lnTo>
                    <a:pt x="678" y="34"/>
                  </a:lnTo>
                  <a:lnTo>
                    <a:pt x="699" y="20"/>
                  </a:lnTo>
                  <a:cubicBezTo>
                    <a:pt x="700" y="19"/>
                    <a:pt x="701" y="18"/>
                    <a:pt x="702" y="18"/>
                  </a:cubicBezTo>
                  <a:lnTo>
                    <a:pt x="720" y="9"/>
                  </a:lnTo>
                  <a:cubicBezTo>
                    <a:pt x="722" y="9"/>
                    <a:pt x="723" y="8"/>
                    <a:pt x="724" y="8"/>
                  </a:cubicBezTo>
                  <a:lnTo>
                    <a:pt x="743" y="2"/>
                  </a:lnTo>
                  <a:cubicBezTo>
                    <a:pt x="744" y="2"/>
                    <a:pt x="746" y="2"/>
                    <a:pt x="747" y="2"/>
                  </a:cubicBezTo>
                  <a:lnTo>
                    <a:pt x="766" y="0"/>
                  </a:lnTo>
                  <a:lnTo>
                    <a:pt x="771" y="47"/>
                  </a:lnTo>
                  <a:lnTo>
                    <a:pt x="752" y="49"/>
                  </a:lnTo>
                  <a:lnTo>
                    <a:pt x="756" y="49"/>
                  </a:lnTo>
                  <a:lnTo>
                    <a:pt x="737" y="54"/>
                  </a:lnTo>
                  <a:lnTo>
                    <a:pt x="740" y="53"/>
                  </a:lnTo>
                  <a:lnTo>
                    <a:pt x="722" y="61"/>
                  </a:lnTo>
                  <a:lnTo>
                    <a:pt x="725" y="59"/>
                  </a:lnTo>
                  <a:lnTo>
                    <a:pt x="709" y="70"/>
                  </a:lnTo>
                  <a:lnTo>
                    <a:pt x="693" y="84"/>
                  </a:lnTo>
                  <a:lnTo>
                    <a:pt x="677" y="102"/>
                  </a:lnTo>
                  <a:lnTo>
                    <a:pt x="661" y="122"/>
                  </a:lnTo>
                  <a:lnTo>
                    <a:pt x="645" y="146"/>
                  </a:lnTo>
                  <a:lnTo>
                    <a:pt x="613" y="203"/>
                  </a:lnTo>
                  <a:lnTo>
                    <a:pt x="583" y="272"/>
                  </a:lnTo>
                  <a:lnTo>
                    <a:pt x="555" y="352"/>
                  </a:lnTo>
                  <a:lnTo>
                    <a:pt x="529" y="442"/>
                  </a:lnTo>
                  <a:lnTo>
                    <a:pt x="505" y="541"/>
                  </a:lnTo>
                  <a:lnTo>
                    <a:pt x="484" y="649"/>
                  </a:lnTo>
                  <a:lnTo>
                    <a:pt x="465" y="764"/>
                  </a:lnTo>
                  <a:lnTo>
                    <a:pt x="450" y="886"/>
                  </a:lnTo>
                  <a:lnTo>
                    <a:pt x="437" y="1015"/>
                  </a:lnTo>
                  <a:lnTo>
                    <a:pt x="428" y="1149"/>
                  </a:lnTo>
                  <a:lnTo>
                    <a:pt x="422" y="1289"/>
                  </a:lnTo>
                  <a:lnTo>
                    <a:pt x="420" y="1432"/>
                  </a:lnTo>
                  <a:lnTo>
                    <a:pt x="420" y="7039"/>
                  </a:lnTo>
                  <a:lnTo>
                    <a:pt x="418" y="7184"/>
                  </a:lnTo>
                  <a:lnTo>
                    <a:pt x="413" y="7325"/>
                  </a:lnTo>
                  <a:lnTo>
                    <a:pt x="403" y="7460"/>
                  </a:lnTo>
                  <a:lnTo>
                    <a:pt x="391" y="7590"/>
                  </a:lnTo>
                  <a:lnTo>
                    <a:pt x="375" y="7714"/>
                  </a:lnTo>
                  <a:lnTo>
                    <a:pt x="357" y="7831"/>
                  </a:lnTo>
                  <a:lnTo>
                    <a:pt x="335" y="7941"/>
                  </a:lnTo>
                  <a:lnTo>
                    <a:pt x="311" y="8042"/>
                  </a:lnTo>
                  <a:lnTo>
                    <a:pt x="284" y="8134"/>
                  </a:lnTo>
                  <a:lnTo>
                    <a:pt x="254" y="8216"/>
                  </a:lnTo>
                  <a:lnTo>
                    <a:pt x="223" y="8289"/>
                  </a:lnTo>
                  <a:lnTo>
                    <a:pt x="189" y="8350"/>
                  </a:lnTo>
                  <a:lnTo>
                    <a:pt x="171" y="8377"/>
                  </a:lnTo>
                  <a:lnTo>
                    <a:pt x="153" y="8400"/>
                  </a:lnTo>
                  <a:lnTo>
                    <a:pt x="133" y="8421"/>
                  </a:lnTo>
                  <a:lnTo>
                    <a:pt x="113" y="8439"/>
                  </a:lnTo>
                  <a:lnTo>
                    <a:pt x="94" y="8451"/>
                  </a:lnTo>
                  <a:cubicBezTo>
                    <a:pt x="93" y="8452"/>
                    <a:pt x="92" y="8453"/>
                    <a:pt x="91" y="8453"/>
                  </a:cubicBezTo>
                  <a:lnTo>
                    <a:pt x="72" y="8462"/>
                  </a:lnTo>
                  <a:cubicBezTo>
                    <a:pt x="71" y="8462"/>
                    <a:pt x="70" y="8463"/>
                    <a:pt x="69" y="8463"/>
                  </a:cubicBezTo>
                  <a:lnTo>
                    <a:pt x="50" y="8469"/>
                  </a:lnTo>
                  <a:cubicBezTo>
                    <a:pt x="49" y="8469"/>
                    <a:pt x="47" y="8469"/>
                    <a:pt x="46" y="8469"/>
                  </a:cubicBezTo>
                  <a:lnTo>
                    <a:pt x="27" y="8471"/>
                  </a:lnTo>
                  <a:lnTo>
                    <a:pt x="27" y="8424"/>
                  </a:lnTo>
                  <a:lnTo>
                    <a:pt x="46" y="8426"/>
                  </a:lnTo>
                  <a:cubicBezTo>
                    <a:pt x="47" y="8426"/>
                    <a:pt x="49" y="8426"/>
                    <a:pt x="50" y="8426"/>
                  </a:cubicBezTo>
                  <a:lnTo>
                    <a:pt x="69" y="8432"/>
                  </a:lnTo>
                  <a:cubicBezTo>
                    <a:pt x="70" y="8432"/>
                    <a:pt x="71" y="8433"/>
                    <a:pt x="72" y="8433"/>
                  </a:cubicBezTo>
                  <a:lnTo>
                    <a:pt x="91" y="8442"/>
                  </a:lnTo>
                  <a:cubicBezTo>
                    <a:pt x="92" y="8442"/>
                    <a:pt x="93" y="8443"/>
                    <a:pt x="94" y="8444"/>
                  </a:cubicBezTo>
                  <a:lnTo>
                    <a:pt x="115" y="8458"/>
                  </a:lnTo>
                  <a:lnTo>
                    <a:pt x="135" y="8476"/>
                  </a:lnTo>
                  <a:lnTo>
                    <a:pt x="154" y="8496"/>
                  </a:lnTo>
                  <a:lnTo>
                    <a:pt x="172" y="8520"/>
                  </a:lnTo>
                  <a:lnTo>
                    <a:pt x="190" y="8547"/>
                  </a:lnTo>
                  <a:lnTo>
                    <a:pt x="224" y="8608"/>
                  </a:lnTo>
                  <a:lnTo>
                    <a:pt x="255" y="8680"/>
                  </a:lnTo>
                  <a:lnTo>
                    <a:pt x="284" y="8763"/>
                  </a:lnTo>
                  <a:lnTo>
                    <a:pt x="311" y="8855"/>
                  </a:lnTo>
                  <a:lnTo>
                    <a:pt x="335" y="8956"/>
                  </a:lnTo>
                  <a:lnTo>
                    <a:pt x="357" y="9065"/>
                  </a:lnTo>
                  <a:lnTo>
                    <a:pt x="375" y="9182"/>
                  </a:lnTo>
                  <a:lnTo>
                    <a:pt x="391" y="9306"/>
                  </a:lnTo>
                  <a:lnTo>
                    <a:pt x="404" y="9436"/>
                  </a:lnTo>
                  <a:lnTo>
                    <a:pt x="413" y="9572"/>
                  </a:lnTo>
                  <a:lnTo>
                    <a:pt x="418" y="9712"/>
                  </a:lnTo>
                  <a:lnTo>
                    <a:pt x="420" y="9856"/>
                  </a:lnTo>
                  <a:lnTo>
                    <a:pt x="420" y="15463"/>
                  </a:lnTo>
                  <a:lnTo>
                    <a:pt x="422" y="15606"/>
                  </a:lnTo>
                  <a:lnTo>
                    <a:pt x="428" y="15745"/>
                  </a:lnTo>
                  <a:lnTo>
                    <a:pt x="437" y="15880"/>
                  </a:lnTo>
                  <a:lnTo>
                    <a:pt x="450" y="16008"/>
                  </a:lnTo>
                  <a:lnTo>
                    <a:pt x="465" y="16131"/>
                  </a:lnTo>
                  <a:lnTo>
                    <a:pt x="484" y="16246"/>
                  </a:lnTo>
                  <a:lnTo>
                    <a:pt x="505" y="16353"/>
                  </a:lnTo>
                  <a:lnTo>
                    <a:pt x="529" y="16452"/>
                  </a:lnTo>
                  <a:lnTo>
                    <a:pt x="555" y="16542"/>
                  </a:lnTo>
                  <a:lnTo>
                    <a:pt x="582" y="16621"/>
                  </a:lnTo>
                  <a:lnTo>
                    <a:pt x="613" y="16690"/>
                  </a:lnTo>
                  <a:lnTo>
                    <a:pt x="644" y="16747"/>
                  </a:lnTo>
                  <a:lnTo>
                    <a:pt x="660" y="16771"/>
                  </a:lnTo>
                  <a:lnTo>
                    <a:pt x="676" y="16792"/>
                  </a:lnTo>
                  <a:lnTo>
                    <a:pt x="691" y="16809"/>
                  </a:lnTo>
                  <a:lnTo>
                    <a:pt x="707" y="16823"/>
                  </a:lnTo>
                  <a:lnTo>
                    <a:pt x="725" y="16836"/>
                  </a:lnTo>
                  <a:lnTo>
                    <a:pt x="722" y="16834"/>
                  </a:lnTo>
                  <a:lnTo>
                    <a:pt x="740" y="16842"/>
                  </a:lnTo>
                  <a:lnTo>
                    <a:pt x="737" y="16841"/>
                  </a:lnTo>
                  <a:lnTo>
                    <a:pt x="756" y="16846"/>
                  </a:lnTo>
                  <a:lnTo>
                    <a:pt x="752" y="16846"/>
                  </a:lnTo>
                  <a:lnTo>
                    <a:pt x="771" y="16848"/>
                  </a:lnTo>
                  <a:lnTo>
                    <a:pt x="766" y="1689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Rectangle 47"/>
            <p:cNvSpPr/>
            <p:nvPr/>
          </p:nvSpPr>
          <p:spPr>
            <a:xfrm>
              <a:off x="7201800" y="4620240"/>
              <a:ext cx="1829160" cy="5932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48"/>
            <p:cNvSpPr/>
            <p:nvPr/>
          </p:nvSpPr>
          <p:spPr>
            <a:xfrm>
              <a:off x="7201800" y="4617000"/>
              <a:ext cx="1832760" cy="600120"/>
            </a:xfrm>
            <a:custGeom>
              <a:avLst/>
              <a:gdLst>
                <a:gd name="textAreaLeft" fmla="*/ 0 w 1832760"/>
                <a:gd name="textAreaRight" fmla="*/ 1833120 w 1832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128" h="364">
                  <a:moveTo>
                    <a:pt x="0" y="0"/>
                  </a:moveTo>
                  <a:lnTo>
                    <a:pt x="1128" y="0"/>
                  </a:lnTo>
                  <a:lnTo>
                    <a:pt x="1128" y="364"/>
                  </a:lnTo>
                  <a:lnTo>
                    <a:pt x="0" y="364"/>
                  </a:lnTo>
                  <a:lnTo>
                    <a:pt x="0" y="0"/>
                  </a:lnTo>
                  <a:close/>
                  <a:moveTo>
                    <a:pt x="5" y="362"/>
                  </a:moveTo>
                  <a:lnTo>
                    <a:pt x="2" y="360"/>
                  </a:lnTo>
                  <a:lnTo>
                    <a:pt x="1126" y="360"/>
                  </a:lnTo>
                  <a:lnTo>
                    <a:pt x="1123" y="362"/>
                  </a:lnTo>
                  <a:lnTo>
                    <a:pt x="1123" y="2"/>
                  </a:lnTo>
                  <a:lnTo>
                    <a:pt x="1126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36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Rectangle 49"/>
            <p:cNvSpPr/>
            <p:nvPr/>
          </p:nvSpPr>
          <p:spPr>
            <a:xfrm>
              <a:off x="7270200" y="4696200"/>
              <a:ext cx="16938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Оперативни програ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ЕФМДР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Rectangle 19"/>
          <p:cNvSpPr/>
          <p:nvPr/>
        </p:nvSpPr>
        <p:spPr>
          <a:xfrm>
            <a:off x="2493000" y="5281560"/>
            <a:ext cx="210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16489f"/>
                </a:solidFill>
                <a:latin typeface="Times New Roman"/>
                <a:ea typeface="Arial"/>
              </a:rPr>
              <a:t>Оперативни програми ЕС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19"/>
          <p:cNvSpPr/>
          <p:nvPr/>
        </p:nvSpPr>
        <p:spPr>
          <a:xfrm>
            <a:off x="2527200" y="5815080"/>
            <a:ext cx="199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16489f"/>
                </a:solidFill>
                <a:latin typeface="Times New Roman"/>
                <a:ea typeface="Arial"/>
              </a:rPr>
              <a:t>Оперативни програми К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Rectangle 19"/>
          <p:cNvSpPr/>
          <p:nvPr/>
        </p:nvSpPr>
        <p:spPr>
          <a:xfrm>
            <a:off x="2527200" y="6280200"/>
            <a:ext cx="2099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16489f"/>
                </a:solidFill>
                <a:latin typeface="Times New Roman"/>
                <a:ea typeface="Arial"/>
              </a:rPr>
              <a:t>Многофондови оперативн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16489f"/>
                </a:solidFill>
                <a:latin typeface="Times New Roman"/>
                <a:ea typeface="Arial"/>
              </a:rPr>
              <a:t>програми ЕФРР, ЕСФ, К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8"/>
          <p:cNvSpPr/>
          <p:nvPr/>
        </p:nvSpPr>
        <p:spPr>
          <a:xfrm>
            <a:off x="439560" y="836640"/>
            <a:ext cx="8064720" cy="524808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4" name="TextBox 5"/>
          <p:cNvGrpSpPr/>
          <p:nvPr/>
        </p:nvGrpSpPr>
        <p:grpSpPr>
          <a:xfrm>
            <a:off x="457200" y="2054160"/>
            <a:ext cx="7937640" cy="1622520"/>
            <a:chOff x="457200" y="2054160"/>
            <a:chExt cx="7937640" cy="1622520"/>
          </a:xfrm>
        </p:grpSpPr>
        <p:pic>
          <p:nvPicPr>
            <p:cNvPr id="995" name="TextBox 5" descr=""/>
            <p:cNvPicPr/>
            <p:nvPr/>
          </p:nvPicPr>
          <p:blipFill>
            <a:blip r:embed="rId1"/>
            <a:stretch/>
          </p:blipFill>
          <p:spPr>
            <a:xfrm>
              <a:off x="457200" y="2054160"/>
              <a:ext cx="793764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541440" y="2138400"/>
              <a:ext cx="776448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Стратегически приоритет 3: Свързаност и зелена икономика за устойчив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314510"/>
                  </a:solidFill>
                  <a:latin typeface="Calibri"/>
                </a:rPr>
                <a:t>Климат и климатични промени, превенция и управление на рис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7" name="TextBox 6"/>
          <p:cNvGrpSpPr/>
          <p:nvPr/>
        </p:nvGrpSpPr>
        <p:grpSpPr>
          <a:xfrm>
            <a:off x="506520" y="4505400"/>
            <a:ext cx="7935840" cy="1481040"/>
            <a:chOff x="506520" y="4505400"/>
            <a:chExt cx="7935840" cy="1481040"/>
          </a:xfrm>
        </p:grpSpPr>
        <p:pic>
          <p:nvPicPr>
            <p:cNvPr id="998" name="TextBox 6" descr=""/>
            <p:cNvPicPr/>
            <p:nvPr/>
          </p:nvPicPr>
          <p:blipFill>
            <a:blip r:embed="rId2"/>
            <a:stretch/>
          </p:blipFill>
          <p:spPr>
            <a:xfrm>
              <a:off x="506520" y="4505400"/>
              <a:ext cx="793584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9" name=""/>
            <p:cNvSpPr/>
            <p:nvPr/>
          </p:nvSpPr>
          <p:spPr>
            <a:xfrm>
              <a:off x="584280" y="4579920"/>
              <a:ext cx="7777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Растеж, основан на свързаност, устойчиво развитие и ефикасно използване на ресурсит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изменение на климата, превенция и управление на рис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ресурсна и енергийна ефективнос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 txBox="1"/>
          <p:nvPr/>
        </p:nvSpPr>
        <p:spPr>
          <a:xfrm>
            <a:off x="324000" y="404280"/>
            <a:ext cx="8712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сновни </a:t>
            </a:r>
            <a:r>
              <a:rPr b="1" lang="bg-BG" sz="2000" spc="-1" strike="noStrike">
                <a:solidFill>
                  <a:srgbClr val="ffffff"/>
                </a:solidFill>
                <a:latin typeface="Calibri"/>
              </a:rPr>
              <a:t> проблем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тражение на изменението на климата върху питейно водоснабдяване, селско стопанство, горско стопанство, туризъм, рибарство и аквакултури, потреблението на енерг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Значителни рискове, свързани с изменението на климата - повишена честота на бедствията, засушаване, намаляване годността на културите, навлизане на инвазивни видове и разпространението на атипични инфекциозни заболявания, мащабни свлачищни, срутищни, абразионни, ерозионни и други неблагоприятни геодинамични проце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Неадекватни мерки за управление на риска, в т.ч. анализ и оценка на риска от природни бедствия, неразвити системи за ранно предупреждение</a:t>
            </a:r>
            <a:r>
              <a:rPr b="1" lang="ru-RU" sz="2000" spc="-1" strike="noStrike">
                <a:solidFill>
                  <a:srgbClr val="18077b"/>
                </a:solidFill>
                <a:latin typeface="Calibri"/>
              </a:rPr>
              <a:t>Основни интервен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Инвестиционни дейности за превенция и управление на риска от изменението на климата – превенция / защита от наводнения; свлачища; засушав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бществена политика и изграждане на административен капацитет за адаптиране към изменението на климата – единна база данни за основните видове бедствия; учения на първите реагиращи при бедствия; Национален център за управление на водите в реално вре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8"/>
          <p:cNvSpPr/>
          <p:nvPr/>
        </p:nvSpPr>
        <p:spPr>
          <a:xfrm>
            <a:off x="439560" y="836640"/>
            <a:ext cx="8309160" cy="524808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2" name="TextBox 5"/>
          <p:cNvGrpSpPr/>
          <p:nvPr/>
        </p:nvGrpSpPr>
        <p:grpSpPr>
          <a:xfrm>
            <a:off x="506520" y="1700280"/>
            <a:ext cx="8210520" cy="1622520"/>
            <a:chOff x="506520" y="1700280"/>
            <a:chExt cx="8210520" cy="1622520"/>
          </a:xfrm>
        </p:grpSpPr>
        <p:pic>
          <p:nvPicPr>
            <p:cNvPr id="1003" name="TextBox 5" descr=""/>
            <p:cNvPicPr/>
            <p:nvPr/>
          </p:nvPicPr>
          <p:blipFill>
            <a:blip r:embed="rId1"/>
            <a:stretch/>
          </p:blipFill>
          <p:spPr>
            <a:xfrm>
              <a:off x="506520" y="1700280"/>
              <a:ext cx="82105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87520" y="1787400"/>
              <a:ext cx="804204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Стратегически приоритет 3: Свързаност и зелена икономика за устойчив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314510"/>
                  </a:solidFill>
                  <a:latin typeface="Calibri"/>
                </a:rPr>
                <a:t>Околна среда и опазване на природното богатство и културно-историческото наследств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5" name="TextBox 6"/>
          <p:cNvGrpSpPr/>
          <p:nvPr/>
        </p:nvGrpSpPr>
        <p:grpSpPr>
          <a:xfrm>
            <a:off x="480960" y="3786120"/>
            <a:ext cx="8182080" cy="1139760"/>
            <a:chOff x="480960" y="3786120"/>
            <a:chExt cx="8182080" cy="1139760"/>
          </a:xfrm>
        </p:grpSpPr>
        <p:pic>
          <p:nvPicPr>
            <p:cNvPr id="1006" name="TextBox 6" descr=""/>
            <p:cNvPicPr/>
            <p:nvPr/>
          </p:nvPicPr>
          <p:blipFill>
            <a:blip r:embed="rId2"/>
            <a:stretch/>
          </p:blipFill>
          <p:spPr>
            <a:xfrm>
              <a:off x="480960" y="3786120"/>
              <a:ext cx="818208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7" name=""/>
            <p:cNvSpPr/>
            <p:nvPr/>
          </p:nvSpPr>
          <p:spPr>
            <a:xfrm>
              <a:off x="544680" y="3843360"/>
              <a:ext cx="8053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Растеж, основан на свързаност, устойчиво развитие и ефикасно използване на ресурсит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околна сре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8" name="TextBox 4"/>
          <p:cNvGrpSpPr/>
          <p:nvPr/>
        </p:nvGrpSpPr>
        <p:grpSpPr>
          <a:xfrm>
            <a:off x="469800" y="5578560"/>
            <a:ext cx="8143920" cy="457200"/>
            <a:chOff x="469800" y="5578560"/>
            <a:chExt cx="8143920" cy="457200"/>
          </a:xfrm>
        </p:grpSpPr>
        <p:pic>
          <p:nvPicPr>
            <p:cNvPr id="1009" name="TextBox 4" descr=""/>
            <p:cNvPicPr/>
            <p:nvPr/>
          </p:nvPicPr>
          <p:blipFill>
            <a:blip r:embed="rId3"/>
            <a:stretch/>
          </p:blipFill>
          <p:spPr>
            <a:xfrm>
              <a:off x="469800" y="5578560"/>
              <a:ext cx="81439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0" name=""/>
            <p:cNvSpPr/>
            <p:nvPr/>
          </p:nvSpPr>
          <p:spPr>
            <a:xfrm>
              <a:off x="498600" y="5603760"/>
              <a:ext cx="80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11171d"/>
                  </a:solidFill>
                  <a:latin typeface="Calibri"/>
                </a:rPr>
                <a:t>Специфични териториални характеристи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 txBox="1"/>
          <p:nvPr/>
        </p:nvSpPr>
        <p:spPr>
          <a:xfrm>
            <a:off x="324000" y="259920"/>
            <a:ext cx="8712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Основни </a:t>
            </a:r>
            <a:r>
              <a:rPr b="1" lang="bg-BG" sz="1900" spc="-1" strike="noStrike">
                <a:solidFill>
                  <a:srgbClr val="ffffff"/>
                </a:solidFill>
                <a:latin typeface="Calibri"/>
              </a:rPr>
              <a:t> проблеми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lvl="1" marL="539640" indent="-28548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едостатъчни усилия и инвестиции в дейности за опазване на околната сред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влошено качество на въздух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липса на стимули за опазване на биологичното разнообрази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иско качество на градската среда и благоустройството в градовет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ужда от опазване на природното и културно наследство при наличие на уникални недвижими културни ценност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18077b"/>
                </a:solidFill>
                <a:latin typeface="Calibri"/>
              </a:rPr>
              <a:t>Основни интервенции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lvl="1" marL="539640" indent="-28548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управление на водите </a:t>
            </a: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- изграждане на ВиК инфраструктура </a:t>
            </a:r>
            <a:r>
              <a:rPr b="0" lang="en-US" sz="1900" spc="-1" strike="noStrike">
                <a:solidFill>
                  <a:srgbClr val="18077b"/>
                </a:solidFill>
                <a:latin typeface="Calibri"/>
              </a:rPr>
              <a:t>(</a:t>
            </a: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приоритетно в агломерации с над 10 000 екв. ж.</a:t>
            </a:r>
            <a:r>
              <a:rPr b="0" lang="en-US" sz="1900" spc="-1" strike="noStrike">
                <a:solidFill>
                  <a:srgbClr val="18077b"/>
                </a:solidFill>
                <a:latin typeface="Calibri"/>
              </a:rPr>
              <a:t>)</a:t>
            </a: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; намаляване на въздействите на селското стопанство върху водите; изграждане и оборудване на системи за мониторинг на водит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управление на отпадъците – системи за оползотворяване и третиране на отпадъци; инсталация за комбинирано производство на енергия в Соф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защита на биоразнообразието и природните ресурс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опазване на въздуха – устойчив и интегриран градски транспорт; газифициране; системи за мониторинг на въздух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опазване на културното наследство – финансиране на регионален туристически продукт; дигитализация на културното наследств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8"/>
          <p:cNvSpPr/>
          <p:nvPr/>
        </p:nvSpPr>
        <p:spPr>
          <a:xfrm>
            <a:off x="439560" y="836640"/>
            <a:ext cx="8309160" cy="524808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3" name="TextBox 7"/>
          <p:cNvGrpSpPr/>
          <p:nvPr/>
        </p:nvGrpSpPr>
        <p:grpSpPr>
          <a:xfrm>
            <a:off x="438120" y="1481040"/>
            <a:ext cx="7943760" cy="1616040"/>
            <a:chOff x="438120" y="1481040"/>
            <a:chExt cx="7943760" cy="1616040"/>
          </a:xfrm>
        </p:grpSpPr>
        <p:pic>
          <p:nvPicPr>
            <p:cNvPr id="1014" name="TextBox 7" descr=""/>
            <p:cNvPicPr/>
            <p:nvPr/>
          </p:nvPicPr>
          <p:blipFill>
            <a:blip r:embed="rId1"/>
            <a:stretch/>
          </p:blipFill>
          <p:spPr>
            <a:xfrm>
              <a:off x="438120" y="1481040"/>
              <a:ext cx="794376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"/>
            <p:cNvSpPr/>
            <p:nvPr/>
          </p:nvSpPr>
          <p:spPr>
            <a:xfrm>
              <a:off x="525600" y="1563840"/>
              <a:ext cx="776448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Стратегически приоритет 4 </a:t>
              </a:r>
              <a:r>
                <a:rPr b="0" lang="bg-BG" sz="2000" spc="-1" strike="noStrike">
                  <a:solidFill>
                    <a:srgbClr val="4e2929"/>
                  </a:solidFill>
                  <a:latin typeface="Calibri"/>
                </a:rPr>
                <a:t>(хоризонтален)</a:t>
              </a: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: Добро управление и достъп да качествени административни услуг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4e2929"/>
                  </a:solidFill>
                  <a:latin typeface="Calibri"/>
                </a:rPr>
                <a:t>Административна ефективност и електронно управление</a:t>
              </a:r>
              <a:r>
                <a:rPr b="1" lang="bg-BG" sz="2400" spc="-1" strike="noStrike">
                  <a:solidFill>
                    <a:srgbClr val="4e2929"/>
                  </a:solidFill>
                  <a:latin typeface="Calibri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6" name="TextBox 9"/>
          <p:cNvGrpSpPr/>
          <p:nvPr/>
        </p:nvGrpSpPr>
        <p:grpSpPr>
          <a:xfrm>
            <a:off x="506520" y="5151600"/>
            <a:ext cx="7935840" cy="798480"/>
            <a:chOff x="506520" y="5151600"/>
            <a:chExt cx="7935840" cy="798480"/>
          </a:xfrm>
        </p:grpSpPr>
        <p:pic>
          <p:nvPicPr>
            <p:cNvPr id="1017" name="TextBox 9" descr=""/>
            <p:cNvPicPr/>
            <p:nvPr/>
          </p:nvPicPr>
          <p:blipFill>
            <a:blip r:embed="rId2"/>
            <a:stretch/>
          </p:blipFill>
          <p:spPr>
            <a:xfrm>
              <a:off x="506520" y="5151600"/>
              <a:ext cx="79358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8" name=""/>
            <p:cNvSpPr/>
            <p:nvPr/>
          </p:nvSpPr>
          <p:spPr>
            <a:xfrm>
              <a:off x="550800" y="5195880"/>
              <a:ext cx="784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Растеж, основан на иновации и предприемаче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предизвикателства пред МСП и състояние на секторит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9" name="TextBox 10"/>
          <p:cNvGrpSpPr/>
          <p:nvPr/>
        </p:nvGrpSpPr>
        <p:grpSpPr>
          <a:xfrm>
            <a:off x="438120" y="3402000"/>
            <a:ext cx="7943760" cy="1139760"/>
            <a:chOff x="438120" y="3402000"/>
            <a:chExt cx="7943760" cy="1139760"/>
          </a:xfrm>
        </p:grpSpPr>
        <p:pic>
          <p:nvPicPr>
            <p:cNvPr id="1020" name="TextBox 10" descr=""/>
            <p:cNvPicPr/>
            <p:nvPr/>
          </p:nvPicPr>
          <p:blipFill>
            <a:blip r:embed="rId3"/>
            <a:stretch/>
          </p:blipFill>
          <p:spPr>
            <a:xfrm>
              <a:off x="438120" y="3402000"/>
              <a:ext cx="794376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"/>
            <p:cNvSpPr/>
            <p:nvPr/>
          </p:nvSpPr>
          <p:spPr>
            <a:xfrm>
              <a:off x="501480" y="3463920"/>
              <a:ext cx="7812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Растеж, основан на ефективна публична администрация и съдебна систем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административна реформа и електронно управл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Content Placeholder 2"/>
          <p:cNvSpPr/>
          <p:nvPr/>
        </p:nvSpPr>
        <p:spPr>
          <a:xfrm>
            <a:off x="474840" y="0"/>
            <a:ext cx="843408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сновни </a:t>
            </a:r>
            <a:r>
              <a:rPr b="1" lang="bg-BG" sz="2000" spc="-1" strike="noStrike">
                <a:solidFill>
                  <a:srgbClr val="ffffff"/>
                </a:solidFill>
                <a:latin typeface="Calibri"/>
              </a:rPr>
              <a:t> пробле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077b"/>
                </a:solidFill>
                <a:latin typeface="Calibri"/>
              </a:rPr>
              <a:t>необходимост от подобряване на административното обслужване и намаляване на административната тежес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липса на последователни действия в прилагането на стратегията за управление на човешките ресурси в администрация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недостатъчно развитие и ниска степен на използване на услугите на електронното управл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необходимост от подобряване на институционалната среда за по-ефективно разходване на публични сред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Основни интервен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подобряване на ефективността на администрацията и административните услуги, намаляване на административната тежес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ефективно планиране и прилагане на публичните политики на всички нива на държавното управл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електронно управление - методики и инструменти, информационни центрове за данни и възстановяване при бедствие, дигитализация, цифровизация и  осигуряване на оперативната съвместимост, разработване на секторни и комплексни електронни услуги за гражданите и бизнеса - е-правителство, е-здравеопазване, е-образование, е-обществени поръчки, е-митници, системи и услуги на приходните администрации и е-идентификация, е-възлаган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подобряване управлението на човешките ресурси в администрация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засилване на участието на социално-икономическите партньори и НПО в управлениет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подобряване на институционална и политическа рамка за насърчаване на заетост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8"/>
          <p:cNvSpPr/>
          <p:nvPr/>
        </p:nvSpPr>
        <p:spPr>
          <a:xfrm>
            <a:off x="439560" y="836640"/>
            <a:ext cx="8309160" cy="524808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TextBox 7"/>
          <p:cNvGrpSpPr/>
          <p:nvPr/>
        </p:nvGrpSpPr>
        <p:grpSpPr>
          <a:xfrm>
            <a:off x="530280" y="1841400"/>
            <a:ext cx="7937280" cy="1206720"/>
            <a:chOff x="530280" y="1841400"/>
            <a:chExt cx="7937280" cy="1206720"/>
          </a:xfrm>
        </p:grpSpPr>
        <p:pic>
          <p:nvPicPr>
            <p:cNvPr id="1025" name="TextBox 7" descr=""/>
            <p:cNvPicPr/>
            <p:nvPr/>
          </p:nvPicPr>
          <p:blipFill>
            <a:blip r:embed="rId1"/>
            <a:stretch/>
          </p:blipFill>
          <p:spPr>
            <a:xfrm>
              <a:off x="530280" y="1841400"/>
              <a:ext cx="7937280" cy="12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6" name=""/>
            <p:cNvSpPr/>
            <p:nvPr/>
          </p:nvSpPr>
          <p:spPr>
            <a:xfrm>
              <a:off x="593640" y="1903320"/>
              <a:ext cx="7805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Стратегически приоритет 4 </a:t>
              </a:r>
              <a:r>
                <a:rPr b="0" lang="bg-BG" sz="2000" spc="-1" strike="noStrike">
                  <a:solidFill>
                    <a:srgbClr val="4e2929"/>
                  </a:solidFill>
                  <a:latin typeface="Calibri"/>
                </a:rPr>
                <a:t>(хоризонтален)</a:t>
              </a: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: Добро управление и достъп да качествени административни услуг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4e2929"/>
                  </a:solidFill>
                  <a:latin typeface="Calibri"/>
                </a:rPr>
                <a:t>Ефективна съдебна система и е-правосъдие</a:t>
              </a:r>
              <a:r>
                <a:rPr b="1" lang="bg-BG" sz="2400" spc="-1" strike="noStrike">
                  <a:solidFill>
                    <a:srgbClr val="4e2929"/>
                  </a:solidFill>
                  <a:latin typeface="Calibri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TextBox 10"/>
          <p:cNvGrpSpPr/>
          <p:nvPr/>
        </p:nvGrpSpPr>
        <p:grpSpPr>
          <a:xfrm>
            <a:off x="530280" y="3925800"/>
            <a:ext cx="7937280" cy="1481400"/>
            <a:chOff x="530280" y="3925800"/>
            <a:chExt cx="7937280" cy="1481400"/>
          </a:xfrm>
        </p:grpSpPr>
        <p:pic>
          <p:nvPicPr>
            <p:cNvPr id="1028" name="TextBox 10" descr=""/>
            <p:cNvPicPr/>
            <p:nvPr/>
          </p:nvPicPr>
          <p:blipFill>
            <a:blip r:embed="rId2"/>
            <a:stretch/>
          </p:blipFill>
          <p:spPr>
            <a:xfrm>
              <a:off x="530280" y="3925800"/>
              <a:ext cx="7937280" cy="14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"/>
            <p:cNvSpPr/>
            <p:nvPr/>
          </p:nvSpPr>
          <p:spPr>
            <a:xfrm>
              <a:off x="608040" y="4005360"/>
              <a:ext cx="7777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Растеж, основан на ефективна публична администрация и съдебна систем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административна реформа и електронно управл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качество на съдебната систем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468360" y="981000"/>
            <a:ext cx="820728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сновни </a:t>
            </a:r>
            <a:r>
              <a:rPr b="1" lang="bg-BG" sz="2000" spc="-1" strike="noStrike">
                <a:solidFill>
                  <a:srgbClr val="ffffff"/>
                </a:solidFill>
                <a:latin typeface="Calibri"/>
              </a:rPr>
              <a:t> проблем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дълга продължителност на съдебнит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слабо прилагане на извънсъдебни форми за разрешаване на граждански и търговски споров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необходимост от последователни действия в управлението на човешките ресур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липса на електронно правосъдие за по-бърз правораздавателен процес и сигурност на информация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8077b"/>
                </a:solidFill>
                <a:latin typeface="Calibri"/>
              </a:rPr>
              <a:t>Основни интервен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ефективност и ефикасност на съдебната система</a:t>
            </a:r>
            <a:r>
              <a:rPr b="0" lang="en-US" sz="2000" spc="-1" strike="noStrike">
                <a:solidFill>
                  <a:srgbClr val="18077b"/>
                </a:solidFill>
                <a:latin typeface="Calibri"/>
              </a:rPr>
              <a:t>- 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достъпна и достоверна съдебна статистика, функциониране на качествени системи за управление на човешките ресурси, обучения, вкл. международно сътрудничество, укрепване на капацитета на НИ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е-правосъдие – единна информационна система на прокуратура, следствие и съдилища, технологично обезпечаване на съдебната систе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/>
          </p:nvPr>
        </p:nvSpPr>
        <p:spPr>
          <a:xfrm>
            <a:off x="1186920" y="2781000"/>
            <a:ext cx="7239240" cy="10256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rmAutofit fontScale="94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8077b"/>
                </a:solidFill>
                <a:latin typeface="Calibri"/>
              </a:rPr>
              <a:t>ОСНОВНИ ПРИОРИТЕТИ ЗА ФИНАНСИРАНЕ – ОСЪЩЕСТВЯВАНЕ И РЕЗУЛТАТИ</a:t>
            </a:r>
            <a:endParaRPr b="0" lang="en-US" sz="30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2" name=""/>
          <p:cNvGraphicFramePr/>
          <p:nvPr/>
        </p:nvGraphicFramePr>
        <p:xfrm>
          <a:off x="324000" y="447840"/>
          <a:ext cx="8785080" cy="6505560"/>
        </p:xfrm>
        <a:graphic>
          <a:graphicData uri="http://schemas.openxmlformats.org/drawingml/2006/table">
            <a:tbl>
              <a:tblPr/>
              <a:tblGrid>
                <a:gridCol w="1368360"/>
                <a:gridCol w="7416720"/>
              </a:tblGrid>
              <a:tr h="31356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ра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671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77760"/>
                          <a:tab algn="l" pos="1955880"/>
                          <a:tab algn="l" pos="2933640"/>
                          <a:tab algn="l" pos="3911760"/>
                          <a:tab algn="l" pos="4889520"/>
                          <a:tab algn="l" pos="5867280"/>
                          <a:tab algn="l" pos="6845400"/>
                          <a:tab algn="l" pos="7823160"/>
                          <a:tab algn="l" pos="8801280"/>
                          <a:tab algn="l" pos="9779040"/>
                          <a:tab algn="l" pos="107568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ни дей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6717"/>
                    </a:solidFill>
                  </a:tcPr>
                </a:tc>
              </a:tr>
              <a:tr h="5842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Т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lvl="1" marL="108000">
                        <a:lnSpc>
                          <a:spcPct val="9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77760"/>
                          <a:tab algn="l" pos="1955880"/>
                          <a:tab algn="l" pos="2933640"/>
                          <a:tab algn="l" pos="3911760"/>
                          <a:tab algn="l" pos="4889520"/>
                          <a:tab algn="l" pos="5867280"/>
                          <a:tab algn="l" pos="6845400"/>
                          <a:tab algn="l" pos="7823160"/>
                          <a:tab algn="l" pos="8801280"/>
                          <a:tab algn="l" pos="9779040"/>
                          <a:tab algn="l" pos="107568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.П. транспор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раструктура и подвижен съста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;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ътищ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гистрали, пътища І-ви кла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; метро (инфраструктура и подвижен състав); интермодален и мултимодален транспорт; управление на траф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</a:tr>
              <a:tr h="49212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d95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lvl="1" marL="108000">
                        <a:lnSpc>
                          <a:spcPct val="90000"/>
                        </a:lnSpc>
                        <a:spcBef>
                          <a:spcPts val="601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и (пречиствателни станции и ВиК); отпадъци (третиране на отпадъци, повторна преработка); Натура 2000 и биоразнообразие; управление на рискове и защита от бедс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d958"/>
                    </a:solidFill>
                  </a:tcPr>
                </a:tc>
              </a:tr>
              <a:tr h="72072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Р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lvl="1"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нергийна ефективност (публични и жилищни сгради); болници, училища, детски градини; градска среда (благоустрояване); опазване и развитие на културно-исторически паметници; регионална пътна инфраструктура - свързани с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N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мрежат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; градски тран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</a:tr>
              <a:tr h="4348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d95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lvl="1"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очени към бизнеса и предприятията: иновации; нови технологии; енергийна ефективност;  навлизане на международни пазар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d958"/>
                    </a:solidFill>
                  </a:tcPr>
                </a:tc>
              </a:tr>
              <a:tr h="7034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НОИ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lvl="1"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на науката; развитие на качествено образование на всички нива; намаляване на ранното отпадане от училище и образователна интеграция на малцинствени групи;  учене през целия живо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</a:tr>
              <a:tr h="93672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РЧ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d95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ки за заетост (посреднически услуги, обучения, стажове, предприемачество); мерки за качествени социални и здравни услуги, деинституционализация на деца и възрастни; учене през целия живот; подкрепа за институциите и партньорите в сферата на пазара на труда, социалното включване и здравеопазванет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d958"/>
                    </a:solidFill>
                  </a:tcPr>
                </a:tc>
              </a:tr>
              <a:tr h="91440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Д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лексно административно обслужване и намаляване на административната тежест; Управление на човешките ресурси в администрацията и съдебната система; електронно управление (е-здравеопазване, е-образование, е-обществени поръчки, е-митници и е-идентификация, е-правосъд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</a:tr>
              <a:tr h="75852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МД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d95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дкрепа в сектора на аквакултурата, рибарството и свързаната с тях преработка; диверсификация; мерки за заетост; мерки за опазване на околната среда; иновации; контрол и събиране на дан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d958"/>
                    </a:solidFill>
                  </a:tcPr>
                </a:tc>
              </a:tr>
              <a:tr h="64800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С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дпомагане на земеделските стопанства (МСП в селските райони); НИРД и иновации; образование; заетост; опазване на околната среда; диверсификация; инвестиции в публична инфраструктура; пазари на производителите; ИК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Title 1" descr=""/>
          <p:cNvPicPr/>
          <p:nvPr/>
        </p:nvPicPr>
        <p:blipFill>
          <a:blip r:embed="rId1"/>
          <a:stretch/>
        </p:blipFill>
        <p:spPr>
          <a:xfrm>
            <a:off x="652320" y="133200"/>
            <a:ext cx="7053480" cy="860400"/>
          </a:xfrm>
          <a:prstGeom prst="rect">
            <a:avLst/>
          </a:prstGeom>
          <a:ln w="0">
            <a:noFill/>
          </a:ln>
        </p:spPr>
      </p:pic>
      <p:grpSp>
        <p:nvGrpSpPr>
          <p:cNvPr id="768" name="Group 4"/>
          <p:cNvGrpSpPr/>
          <p:nvPr/>
        </p:nvGrpSpPr>
        <p:grpSpPr>
          <a:xfrm>
            <a:off x="387360" y="1255320"/>
            <a:ext cx="8927640" cy="5602680"/>
            <a:chOff x="387360" y="1255320"/>
            <a:chExt cx="8927640" cy="5602680"/>
          </a:xfrm>
        </p:grpSpPr>
        <p:sp>
          <p:nvSpPr>
            <p:cNvPr id="769" name="AutoShape 5"/>
            <p:cNvSpPr/>
            <p:nvPr/>
          </p:nvSpPr>
          <p:spPr>
            <a:xfrm>
              <a:off x="623160" y="1255680"/>
              <a:ext cx="8691840" cy="56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Text Box 6"/>
            <p:cNvSpPr/>
            <p:nvPr/>
          </p:nvSpPr>
          <p:spPr>
            <a:xfrm>
              <a:off x="387360" y="1941840"/>
              <a:ext cx="1374120" cy="126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0000"/>
                  </a:solidFill>
                  <a:latin typeface="Times New Roman"/>
                </a:rPr>
                <a:t>Предложение за тематични цели, ОП, финансов ресурс и водещи ведомств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7"/>
            <p:cNvSpPr/>
            <p:nvPr/>
          </p:nvSpPr>
          <p:spPr>
            <a:xfrm>
              <a:off x="5073840" y="2283480"/>
              <a:ext cx="2057760" cy="4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0000"/>
                  </a:solidFill>
                  <a:latin typeface="Times New Roman"/>
                </a:rPr>
                <a:t>Съответствие на проектите на СП и ОП с НП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AutoShape 8"/>
            <p:cNvSpPr/>
            <p:nvPr/>
          </p:nvSpPr>
          <p:spPr>
            <a:xfrm>
              <a:off x="4616640" y="1941840"/>
              <a:ext cx="277200" cy="792000"/>
            </a:xfrm>
            <a:prstGeom prst="upArrow">
              <a:avLst>
                <a:gd name="adj1" fmla="val 50111"/>
                <a:gd name="adj2" fmla="val 3254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Text Box 9"/>
            <p:cNvSpPr/>
            <p:nvPr/>
          </p:nvSpPr>
          <p:spPr>
            <a:xfrm>
              <a:off x="8044920" y="1941840"/>
              <a:ext cx="1027800" cy="108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0000"/>
                  </a:solidFill>
                  <a:latin typeface="Times New Roman"/>
                </a:rPr>
                <a:t>Внасяне на СП и ОП за одобре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10"/>
            <p:cNvSpPr/>
            <p:nvPr/>
          </p:nvSpPr>
          <p:spPr>
            <a:xfrm rot="10800000">
              <a:off x="6216840" y="1255320"/>
              <a:ext cx="1830240" cy="2122200"/>
            </a:xfrm>
            <a:custGeom>
              <a:avLst/>
              <a:gdLst>
                <a:gd name="textAreaLeft" fmla="*/ 245160 w 1830240"/>
                <a:gd name="textAreaRight" fmla="*/ 1585080 w 1830240"/>
                <a:gd name="textAreaTop" fmla="*/ 371160 h 2122200"/>
                <a:gd name="textAreaBottom" fmla="*/ 1538640 h 21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56" stAng="-5400000" swAng="-5400000"/>
                  <a:lnTo>
                    <a:pt x="0" y="11882"/>
                  </a:lnTo>
                  <a:arcTo wR="21600" hR="7556" stAng="10800000" swAng="-2681614"/>
                  <a:lnTo>
                    <a:pt x="14400" y="21168"/>
                  </a:lnTo>
                  <a:lnTo>
                    <a:pt x="21600" y="17274"/>
                  </a:lnTo>
                  <a:lnTo>
                    <a:pt x="14400" y="12516"/>
                  </a:lnTo>
                  <a:lnTo>
                    <a:pt x="14400" y="14679"/>
                  </a:lnTo>
                  <a:arcTo wR="21600" hR="7556" stAng="8118386" swAng="2323624"/>
                  <a:lnTo>
                    <a:pt x="904" y="9719"/>
                  </a:lnTo>
                  <a:arcTo wR="21600" hR="7556" stAng="-10442010" swAng="5042010"/>
                  <a:close/>
                </a:path>
                <a:path fill="darkenLess" w="21600" h="21600">
                  <a:moveTo>
                    <a:pt x="21600" y="0"/>
                  </a:moveTo>
                  <a:arcTo wR="21600" hR="7556" stAng="-5400000" swAng="-5400000"/>
                  <a:lnTo>
                    <a:pt x="0" y="7556"/>
                  </a:lnTo>
                  <a:arcTo wR="21600" hR="7556" stAng="10800000" swAng="-357990"/>
                  <a:lnTo>
                    <a:pt x="904" y="9719"/>
                  </a:lnTo>
                  <a:arcTo wR="21600" hR="7556" stAng="-10442010" swAng="504201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5" name="Group 11"/>
            <p:cNvGrpSpPr/>
            <p:nvPr/>
          </p:nvGrpSpPr>
          <p:grpSpPr>
            <a:xfrm>
              <a:off x="3473280" y="5369760"/>
              <a:ext cx="2516040" cy="1485360"/>
              <a:chOff x="3473280" y="5369760"/>
              <a:chExt cx="2516040" cy="1485360"/>
            </a:xfrm>
          </p:grpSpPr>
          <p:sp>
            <p:nvSpPr>
              <p:cNvPr id="776" name="Oval 12"/>
              <p:cNvSpPr/>
              <p:nvPr/>
            </p:nvSpPr>
            <p:spPr>
              <a:xfrm>
                <a:off x="3473280" y="5369760"/>
                <a:ext cx="2516040" cy="14853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Text Box 13"/>
              <p:cNvSpPr/>
              <p:nvPr/>
            </p:nvSpPr>
            <p:spPr>
              <a:xfrm>
                <a:off x="3815640" y="5711040"/>
                <a:ext cx="1789200" cy="7639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g-BG" sz="1200" spc="-1" strike="noStrike">
                    <a:solidFill>
                      <a:srgbClr val="000000"/>
                    </a:solidFill>
                    <a:latin typeface="Times New Roman"/>
                  </a:rPr>
                  <a:t>РАБОТНА ГРУПА ЗА ИЗГОТВЯНЕ НА СПОРАЗУМЕНИЕТО ЗА ПАРТНЬОРСТВО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8" name="Text Box 14"/>
            <p:cNvSpPr/>
            <p:nvPr/>
          </p:nvSpPr>
          <p:spPr>
            <a:xfrm>
              <a:off x="3473280" y="2855520"/>
              <a:ext cx="2519640" cy="686160"/>
            </a:xfrm>
            <a:prstGeom prst="rect">
              <a:avLst/>
            </a:prstGeom>
            <a:solidFill>
              <a:srgbClr val="dacf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00000"/>
                  </a:solidFill>
                  <a:latin typeface="Times New Roman"/>
                </a:rPr>
                <a:t>ЗАМЕСТНИК МИНИСТЪР-ПРЕДСЕДАТЕЛ И МИНИСТЪР НА ПРАВОСЪДИЕТ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9" name="Group 15"/>
            <p:cNvGrpSpPr/>
            <p:nvPr/>
          </p:nvGrpSpPr>
          <p:grpSpPr>
            <a:xfrm>
              <a:off x="6559560" y="5026320"/>
              <a:ext cx="2519640" cy="1828440"/>
              <a:chOff x="6559560" y="5026320"/>
              <a:chExt cx="2519640" cy="1828440"/>
            </a:xfrm>
          </p:grpSpPr>
          <p:grpSp>
            <p:nvGrpSpPr>
              <p:cNvPr id="780" name="Group 16"/>
              <p:cNvGrpSpPr/>
              <p:nvPr/>
            </p:nvGrpSpPr>
            <p:grpSpPr>
              <a:xfrm>
                <a:off x="6559560" y="5372280"/>
                <a:ext cx="2519640" cy="1482480"/>
                <a:chOff x="6559560" y="5372280"/>
                <a:chExt cx="2519640" cy="1482480"/>
              </a:xfrm>
            </p:grpSpPr>
            <p:sp>
              <p:nvSpPr>
                <p:cNvPr id="781" name="Oval 17"/>
                <p:cNvSpPr/>
                <p:nvPr/>
              </p:nvSpPr>
              <p:spPr>
                <a:xfrm>
                  <a:off x="6559560" y="5372280"/>
                  <a:ext cx="2519640" cy="148248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cc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18"/>
                <p:cNvSpPr/>
                <p:nvPr/>
              </p:nvSpPr>
              <p:spPr>
                <a:xfrm>
                  <a:off x="6902280" y="5715720"/>
                  <a:ext cx="1829880" cy="9104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bg-BG" sz="1200" spc="-1" strike="noStrike">
                      <a:solidFill>
                        <a:srgbClr val="000000"/>
                      </a:solidFill>
                      <a:latin typeface="Times New Roman"/>
                    </a:rPr>
                    <a:t>ТЕМАТИЧНА РАБОТНА ГРУПА ЗА ИЗГОТВЯНЕ НА ОП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3" name="Text Box 19"/>
              <p:cNvSpPr/>
              <p:nvPr/>
            </p:nvSpPr>
            <p:spPr>
              <a:xfrm>
                <a:off x="6673320" y="5026320"/>
                <a:ext cx="2060640" cy="34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g-BG" sz="1200" spc="-1" strike="noStrike">
                    <a:solidFill>
                      <a:srgbClr val="999999"/>
                    </a:solidFill>
                    <a:latin typeface="Times New Roman"/>
                  </a:rPr>
                  <a:t>ВОДЕЩО ВЕДОМСТВО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4" name="Text Box 20"/>
            <p:cNvSpPr/>
            <p:nvPr/>
          </p:nvSpPr>
          <p:spPr>
            <a:xfrm>
              <a:off x="3474360" y="1418760"/>
              <a:ext cx="2512440" cy="457200"/>
            </a:xfrm>
            <a:prstGeom prst="rect">
              <a:avLst/>
            </a:prstGeom>
            <a:solidFill>
              <a:srgbClr val="aab9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00000"/>
                  </a:solidFill>
                  <a:latin typeface="Times New Roman"/>
                </a:rPr>
                <a:t>МИНИСТЕРСКИ СЪВЕ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5" name="Group 21"/>
            <p:cNvGrpSpPr/>
            <p:nvPr/>
          </p:nvGrpSpPr>
          <p:grpSpPr>
            <a:xfrm>
              <a:off x="4616640" y="3540960"/>
              <a:ext cx="229320" cy="346320"/>
              <a:chOff x="4616640" y="3540960"/>
              <a:chExt cx="229320" cy="346320"/>
            </a:xfrm>
          </p:grpSpPr>
          <p:sp>
            <p:nvSpPr>
              <p:cNvPr id="786" name="Line 22"/>
              <p:cNvSpPr/>
              <p:nvPr/>
            </p:nvSpPr>
            <p:spPr>
              <a:xfrm>
                <a:off x="4844880" y="3540960"/>
                <a:ext cx="108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23"/>
              <p:cNvSpPr/>
              <p:nvPr/>
            </p:nvSpPr>
            <p:spPr>
              <a:xfrm flipV="1">
                <a:off x="4616640" y="3540960"/>
                <a:ext cx="108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8" name="Text Box 24"/>
            <p:cNvSpPr/>
            <p:nvPr/>
          </p:nvSpPr>
          <p:spPr>
            <a:xfrm>
              <a:off x="5531040" y="3770640"/>
              <a:ext cx="1714320" cy="68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0000"/>
                  </a:solidFill>
                  <a:latin typeface="Times New Roman"/>
                </a:rPr>
                <a:t>Осигуряване на взаимна съгласуваност и съответствие с ОС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Text Box 25"/>
            <p:cNvSpPr/>
            <p:nvPr/>
          </p:nvSpPr>
          <p:spPr>
            <a:xfrm>
              <a:off x="4159440" y="3883680"/>
              <a:ext cx="1144080" cy="343080"/>
            </a:xfrm>
            <a:prstGeom prst="rect">
              <a:avLst/>
            </a:prstGeom>
            <a:solidFill>
              <a:srgbClr val="fece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00000"/>
                  </a:solidFill>
                  <a:latin typeface="Times New Roman"/>
                </a:rPr>
                <a:t>СКУСЕС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0" name="Group 27"/>
            <p:cNvGrpSpPr/>
            <p:nvPr/>
          </p:nvGrpSpPr>
          <p:grpSpPr>
            <a:xfrm>
              <a:off x="387360" y="5026320"/>
              <a:ext cx="2520720" cy="1830960"/>
              <a:chOff x="387360" y="5026320"/>
              <a:chExt cx="2520720" cy="1830960"/>
            </a:xfrm>
          </p:grpSpPr>
          <p:grpSp>
            <p:nvGrpSpPr>
              <p:cNvPr id="791" name="Group 28"/>
              <p:cNvGrpSpPr/>
              <p:nvPr/>
            </p:nvGrpSpPr>
            <p:grpSpPr>
              <a:xfrm>
                <a:off x="387360" y="5372640"/>
                <a:ext cx="2520720" cy="1484640"/>
                <a:chOff x="387360" y="5372640"/>
                <a:chExt cx="2520720" cy="1484640"/>
              </a:xfrm>
            </p:grpSpPr>
            <p:sp>
              <p:nvSpPr>
                <p:cNvPr id="792" name="Oval 29"/>
                <p:cNvSpPr/>
                <p:nvPr/>
              </p:nvSpPr>
              <p:spPr>
                <a:xfrm>
                  <a:off x="387360" y="5372640"/>
                  <a:ext cx="2520720" cy="148464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cc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Text Box 30"/>
                <p:cNvSpPr/>
                <p:nvPr/>
              </p:nvSpPr>
              <p:spPr>
                <a:xfrm>
                  <a:off x="730440" y="5715360"/>
                  <a:ext cx="1833120" cy="9144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bg-BG" sz="1200" spc="-1" strike="noStrike">
                      <a:solidFill>
                        <a:srgbClr val="000000"/>
                      </a:solidFill>
                      <a:latin typeface="Times New Roman"/>
                    </a:rPr>
                    <a:t>ТЕМАТИЧНА РАБОТНА ГРУПА ЗА ИЗГОТВЯНЕ НА ОП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" name="Text Box 31"/>
              <p:cNvSpPr/>
              <p:nvPr/>
            </p:nvSpPr>
            <p:spPr>
              <a:xfrm>
                <a:off x="616320" y="5026320"/>
                <a:ext cx="2058840" cy="34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g-BG" sz="1200" spc="-1" strike="noStrike">
                    <a:solidFill>
                      <a:srgbClr val="999999"/>
                    </a:solidFill>
                    <a:latin typeface="Times New Roman"/>
                  </a:rPr>
                  <a:t>ВОДЕЩО ВЕДОМСТВО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5" name="Group 32"/>
            <p:cNvGrpSpPr/>
            <p:nvPr/>
          </p:nvGrpSpPr>
          <p:grpSpPr>
            <a:xfrm>
              <a:off x="2389320" y="4188600"/>
              <a:ext cx="1510560" cy="1366920"/>
              <a:chOff x="2389320" y="4188600"/>
              <a:chExt cx="1510560" cy="1366920"/>
            </a:xfrm>
          </p:grpSpPr>
          <p:sp>
            <p:nvSpPr>
              <p:cNvPr id="796" name="Line 33"/>
              <p:cNvSpPr/>
              <p:nvPr/>
            </p:nvSpPr>
            <p:spPr>
              <a:xfrm flipV="1">
                <a:off x="2389320" y="4188600"/>
                <a:ext cx="1508040" cy="122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34"/>
              <p:cNvSpPr/>
              <p:nvPr/>
            </p:nvSpPr>
            <p:spPr>
              <a:xfrm flipH="1">
                <a:off x="2391480" y="4327560"/>
                <a:ext cx="1508400" cy="122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8" name="Group 35"/>
            <p:cNvGrpSpPr/>
            <p:nvPr/>
          </p:nvGrpSpPr>
          <p:grpSpPr>
            <a:xfrm>
              <a:off x="5402880" y="4244760"/>
              <a:ext cx="1638360" cy="1322640"/>
              <a:chOff x="5402880" y="4244760"/>
              <a:chExt cx="1638360" cy="1322640"/>
            </a:xfrm>
          </p:grpSpPr>
          <p:sp>
            <p:nvSpPr>
              <p:cNvPr id="799" name="Line 36"/>
              <p:cNvSpPr/>
              <p:nvPr/>
            </p:nvSpPr>
            <p:spPr>
              <a:xfrm flipH="1" flipV="1">
                <a:off x="5402880" y="4244760"/>
                <a:ext cx="1605600" cy="115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37"/>
              <p:cNvSpPr/>
              <p:nvPr/>
            </p:nvSpPr>
            <p:spPr>
              <a:xfrm>
                <a:off x="5435640" y="4412520"/>
                <a:ext cx="1605600" cy="115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1" name="Line 38"/>
            <p:cNvSpPr/>
            <p:nvPr/>
          </p:nvSpPr>
          <p:spPr>
            <a:xfrm flipV="1">
              <a:off x="4644720" y="4277520"/>
              <a:ext cx="2160" cy="1020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Line 39"/>
            <p:cNvSpPr/>
            <p:nvPr/>
          </p:nvSpPr>
          <p:spPr>
            <a:xfrm flipH="1">
              <a:off x="4761720" y="4274280"/>
              <a:ext cx="5040" cy="102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Text Box 40"/>
            <p:cNvSpPr/>
            <p:nvPr/>
          </p:nvSpPr>
          <p:spPr>
            <a:xfrm>
              <a:off x="2559960" y="4570200"/>
              <a:ext cx="4111920" cy="452520"/>
            </a:xfrm>
            <a:prstGeom prst="rect">
              <a:avLst/>
            </a:prstGeom>
            <a:solidFill>
              <a:srgbClr val="fff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00000"/>
                  </a:solidFill>
                  <a:latin typeface="Times New Roman"/>
                </a:rPr>
                <a:t>ЦЕНТРАЛНО КООРДИНАЦИОННО ЗВЕН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AutoShape 41"/>
            <p:cNvSpPr/>
            <p:nvPr/>
          </p:nvSpPr>
          <p:spPr>
            <a:xfrm rot="10800000">
              <a:off x="1646640" y="1255680"/>
              <a:ext cx="1597680" cy="2169360"/>
            </a:xfrm>
            <a:custGeom>
              <a:avLst/>
              <a:gdLst>
                <a:gd name="textAreaLeft" fmla="*/ 213840 w 1597680"/>
                <a:gd name="textAreaRight" fmla="*/ 1383840 w 1597680"/>
                <a:gd name="textAreaTop" fmla="*/ 379440 h 2169360"/>
                <a:gd name="textAreaBottom" fmla="*/ 1572840 h 21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1" stAng="-5400000" swAng="5400000"/>
                  <a:lnTo>
                    <a:pt x="21600" y="11881"/>
                  </a:lnTo>
                  <a:arcTo wR="21600" hR="7561" stAng="0" swAng="2682751"/>
                  <a:lnTo>
                    <a:pt x="7200" y="21168"/>
                  </a:lnTo>
                  <a:lnTo>
                    <a:pt x="0" y="17281"/>
                  </a:lnTo>
                  <a:lnTo>
                    <a:pt x="7200" y="12530"/>
                  </a:lnTo>
                  <a:lnTo>
                    <a:pt x="7200" y="14689"/>
                  </a:lnTo>
                  <a:arcTo wR="21600" hR="7561" stAng="2682751" swAng="-2325318"/>
                  <a:lnTo>
                    <a:pt x="20700" y="9721"/>
                  </a:lnTo>
                  <a:arcTo wR="21600" hR="7561" stAng="-357433" swAng="-5042567"/>
                  <a:close/>
                </a:path>
                <a:path fill="darkenLess" w="21600" h="21600">
                  <a:moveTo>
                    <a:pt x="0" y="0"/>
                  </a:moveTo>
                  <a:arcTo wR="21600" hR="7561" stAng="-5400000" swAng="5400000"/>
                  <a:lnTo>
                    <a:pt x="21600" y="11881"/>
                  </a:lnTo>
                  <a:arcTo wR="21600" hR="7561" stAng="0" swAng="-357433"/>
                  <a:lnTo>
                    <a:pt x="20700" y="9721"/>
                  </a:lnTo>
                  <a:arcTo wR="21600" hR="7561" stAng="-357433" swAng="-5042567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AutoShape 42"/>
            <p:cNvSpPr/>
            <p:nvPr/>
          </p:nvSpPr>
          <p:spPr>
            <a:xfrm>
              <a:off x="3016080" y="5941440"/>
              <a:ext cx="342000" cy="334440"/>
            </a:xfrm>
            <a:prstGeom prst="leftRightArrow">
              <a:avLst>
                <a:gd name="adj1" fmla="val 50000"/>
                <a:gd name="adj2" fmla="val 2037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AutoShape 43"/>
            <p:cNvSpPr/>
            <p:nvPr/>
          </p:nvSpPr>
          <p:spPr>
            <a:xfrm>
              <a:off x="6102000" y="5941440"/>
              <a:ext cx="342000" cy="334440"/>
            </a:xfrm>
            <a:prstGeom prst="leftRightArrow">
              <a:avLst>
                <a:gd name="adj1" fmla="val 50000"/>
                <a:gd name="adj2" fmla="val 2037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Title 1" descr=""/>
          <p:cNvPicPr/>
          <p:nvPr/>
        </p:nvPicPr>
        <p:blipFill>
          <a:blip r:embed="rId1"/>
          <a:stretch/>
        </p:blipFill>
        <p:spPr>
          <a:xfrm>
            <a:off x="407880" y="42840"/>
            <a:ext cx="8564760" cy="78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4" name=""/>
          <p:cNvGraphicFramePr/>
          <p:nvPr/>
        </p:nvGraphicFramePr>
        <p:xfrm>
          <a:off x="611280" y="1773360"/>
          <a:ext cx="8137440" cy="4781520"/>
        </p:xfrm>
        <a:graphic>
          <a:graphicData uri="http://schemas.openxmlformats.org/drawingml/2006/table">
            <a:tbl>
              <a:tblPr/>
              <a:tblGrid>
                <a:gridCol w="1439640"/>
                <a:gridCol w="2808360"/>
                <a:gridCol w="3889440"/>
              </a:tblGrid>
              <a:tr h="4363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кто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949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рам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949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ласти на подкре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9494"/>
                    </a:solidFill>
                  </a:tcPr>
                </a:tc>
              </a:tr>
              <a:tr h="225720">
                <a:tc rowSpan="4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равеопазван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вестиции в човешкия капита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егиони в растеж"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равна инфрастру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Добро управление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-здравеопазван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обряване на качеството на висшето образование в тази сфера, научно-изследователска  инфраструктура в медицина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63760">
                <a:tc rowSpan="4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обряване на качеството на всички нива на образованието, учене през целия живот, образование на маргинализирани и уязвими групи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не през целия живот; професионални обуч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егиони в растеж"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на инфрастру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развитие на селските район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на инфраструктура, професионално обу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49080">
                <a:tc rowSpan="5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ов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Иновации и конкурентоспособност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едряване на иновации, внедряване на технологии и приложни изследвания от бизнеса в партньорство с научните орган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на приложни и научни изследвания и науно-изследователска инфрастру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развитие на селските район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овации в селското стопан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морско дело и рибар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овации в акваквакултурат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3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ни инов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Title 1" descr=""/>
          <p:cNvPicPr/>
          <p:nvPr/>
        </p:nvPicPr>
        <p:blipFill>
          <a:blip r:embed="rId1"/>
          <a:stretch/>
        </p:blipFill>
        <p:spPr>
          <a:xfrm>
            <a:off x="60480" y="189000"/>
            <a:ext cx="9766080" cy="76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6" name=""/>
          <p:cNvGraphicFramePr/>
          <p:nvPr/>
        </p:nvGraphicFramePr>
        <p:xfrm>
          <a:off x="324000" y="981000"/>
          <a:ext cx="8712000" cy="5499000"/>
        </p:xfrm>
        <a:graphic>
          <a:graphicData uri="http://schemas.openxmlformats.org/drawingml/2006/table">
            <a:tbl>
              <a:tblPr/>
              <a:tblGrid>
                <a:gridCol w="1368360"/>
                <a:gridCol w="2950920"/>
                <a:gridCol w="4392720"/>
              </a:tblGrid>
              <a:tr h="30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нефициен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b8b8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рам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b8b8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ласти на подкре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b8b8"/>
                    </a:solidFill>
                  </a:tcPr>
                </a:tc>
              </a:tr>
              <a:tr h="396720">
                <a:tc rowSpan="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СП (бизнес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Иновации и конкурентоспособност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овации, предприемачество, технологично развитие, енергийна ефективност, финансови инструмен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чно-изследователска инфраструктура и изследвания, като партньори на научно-изследователските орган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тиране на бизнес, предприемачески учения, мерки за заетост и квалификация на работната сила, микрофинансиран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развитие на селските район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омагане на б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еса в земеделието, хранително-вкусовата промишленост, технологично развитие, инов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морско дело и рибар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омагане на бизнеса в сектора на аквакултури, преработвателната промишленост, технологично развитие, инов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Добро управление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улаторната и административна рамка, комплексно административно обслужване, е-правител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520">
                <a:tc rowSpan="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уденти 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кторан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ипендии, студентски практики, участие в научни проекти и разработки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ъзможност за стартиране на предприемачество и бизнес, младежка заетост, микрокредитиран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Иновации и конкурентоспособност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ндове за стартиращо финансиран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97080"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язвими груп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на социални предприятия, социални услуги, заетост, социално включване, деинституционализ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9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, насочено към уязвими груп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развитие на селските район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етост, деинституционализация, развитие на инфрастру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егиони в растеж"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институционализация, специализирана и здравна инфрастру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 txBox="1"/>
          <p:nvPr/>
        </p:nvSpPr>
        <p:spPr>
          <a:xfrm>
            <a:off x="323640" y="1413000"/>
            <a:ext cx="8569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СП 3 Свързаност и зелена икономика за устойчив растеж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намаляване на енергийната интензивност на икономиката с минимум 5 кг.н.е на 1000 евро/ БВП до 2023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намалено крайно потребление от жилищни, публични и търговски сград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увеличен дял на пътуванията с обществения градски транспор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увеличен дял на предприятията с нисковъглеродни производства и увеличена енергийна ефективност в рибарските дейности, аквакултурите и преработк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намален риск от свлачища, наводнения и засушаван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изграден Национален център за управление на водите в реално врем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увеличаване на броя жители с достъп до подобрено пречистване на отпадъчните води с 1 130 000 е.ж.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увеличаване на броя жители с достъп до подобрено водоснабдяване с 220 00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завършен конкурентноспособен туристически продукт, базиран на изведени приоритетни туристически обек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създадени условия за екологично устойчиво рибарство; прекратени изхвърляния; постигнат максимален устойчив улов и намалено негативно въздействие от дейности в сектор „Рибно стопанство” върху околната сре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подобрена свързаност на TEN-T мрежа с републиканската пътна мреж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8" name="Title 1" descr=""/>
          <p:cNvPicPr/>
          <p:nvPr/>
        </p:nvPicPr>
        <p:blipFill>
          <a:blip r:embed="rId1"/>
          <a:stretch/>
        </p:blipFill>
        <p:spPr>
          <a:xfrm>
            <a:off x="390600" y="66600"/>
            <a:ext cx="842940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 txBox="1"/>
          <p:nvPr/>
        </p:nvSpPr>
        <p:spPr>
          <a:xfrm>
            <a:off x="324000" y="1484280"/>
            <a:ext cx="849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СП 2 Научни изследвания, иновации и инвестиции за интелигентен растеж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нарастване с 31.10% на предприятията, реализирали иновационна дейнос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30% разходи за НИРД на предприятията, обхванати от програмата за бизне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увеличен дял на селските райони с достъп до и използващи качествени И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увеличение на предприемаческата активност с 10.2% към 2023 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ръст на производителността в аграрния сектор за удовлетворяване на вътрешното търсене на селскостопанска продукц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увеличена брутна добавена стойност от сектора „Рибарство и аквакултури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СП 4 Добро управление и достъп до качествени административни услуги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Намалено време за предоставяне на административни услуги с 50% спрямо 2013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Увеличен дял на електронизираните регистри и увеличен обмен на данни между тях с 20% спрямо 2013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Внедрени механизми за граждански контрол – 10 към 2023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Намаляване на средната продължителност на наказателен и граждански съдебен процес с 10% спрямо 2013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Доизграждане на системата за електронно правосъдие - дял на делата, заведени по електронен път 25% към 2023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0" name="Title 1" descr=""/>
          <p:cNvPicPr/>
          <p:nvPr/>
        </p:nvPicPr>
        <p:blipFill>
          <a:blip r:embed="rId1"/>
          <a:stretch/>
        </p:blipFill>
        <p:spPr>
          <a:xfrm>
            <a:off x="390600" y="133200"/>
            <a:ext cx="84294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 txBox="1"/>
          <p:nvPr/>
        </p:nvSpPr>
        <p:spPr>
          <a:xfrm>
            <a:off x="324000" y="1197000"/>
            <a:ext cx="8712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600" spc="-1" strike="noStrike">
                <a:solidFill>
                  <a:srgbClr val="18077b"/>
                </a:solidFill>
                <a:latin typeface="Calibri"/>
              </a:rPr>
              <a:t>СП 1 Образование , заетост, социално включване и здравеопазване за приобщаващ растеж</a:t>
            </a:r>
            <a:endParaRPr b="0" lang="en-US" sz="1600" spc="-1" strike="noStrike">
              <a:solidFill>
                <a:srgbClr val="2f5897"/>
              </a:solidFill>
              <a:latin typeface="Calibri"/>
            </a:endParaRPr>
          </a:p>
          <a:p>
            <a:pPr lvl="1" marL="539640" indent="-285480" algn="just"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увеличена ефективна и устойчива заетост и повишена ефикасна производителност на труда, особено сред уязвимите групи и в районите със специфични особе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намален брой на хора в институции за социални гриж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увеличен брой на представителите на маргинализираните групи, включително роми с подобрени жилищни услов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увеличен дял на модернизираните здравни заведения; модернизирани центрове за спешна медицинска помощ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2 500 обхванати от процеса на включващо обучение деца и ученици със специални образователни потребности в системата на народната просвета, 100 образователни институции осигурили подкрепяща среда за включващо обуче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подобрено качеството на живот и достъпа до услуги на 1 900 хил. жители на селските райо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600" spc="-1" strike="noStrike">
                <a:solidFill>
                  <a:srgbClr val="18077b"/>
                </a:solidFill>
                <a:latin typeface="Calibri"/>
              </a:rPr>
              <a:t>увеличен дял на модернизираните образователни институ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600" spc="-1" strike="noStrike">
                <a:solidFill>
                  <a:srgbClr val="18077b"/>
                </a:solidFill>
                <a:latin typeface="Calibri"/>
              </a:rPr>
              <a:t>1</a:t>
            </a: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1% дял на преждевременно напусналите училище (ПНУ) от лицата на възраст между 18 и 24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20 000 лица, валидирали знания и умения и компетент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2" name="Title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84297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1"/>
          <p:cNvSpPr/>
          <p:nvPr/>
        </p:nvSpPr>
        <p:spPr>
          <a:xfrm>
            <a:off x="826920" y="2708280"/>
            <a:ext cx="78487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18077b"/>
                </a:solidFill>
                <a:latin typeface="Calibri"/>
              </a:rPr>
              <a:t>ПРИНОС НА ПРОГРАМАТА ЗА РАЗВИТИЕ НА СЕЛСКИТЕ РАЙОНИ И ПРОГРАМАТА ЗА МОРСКО ДЕЛО И РИБАРС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4" name=""/>
          <p:cNvGraphicFramePr/>
          <p:nvPr/>
        </p:nvGraphicFramePr>
        <p:xfrm>
          <a:off x="324000" y="560520"/>
          <a:ext cx="8424720" cy="6270480"/>
        </p:xfrm>
        <a:graphic>
          <a:graphicData uri="http://schemas.openxmlformats.org/drawingml/2006/table">
            <a:tbl>
              <a:tblPr/>
              <a:tblGrid>
                <a:gridCol w="4730760"/>
                <a:gridCol w="1269720"/>
                <a:gridCol w="1128960"/>
                <a:gridCol w="1295280"/>
              </a:tblGrid>
              <a:tr h="28260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ЗФРС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ФМД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36540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 Засилване на научноизследователската дейност, технологичното развитие и иновациит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 805 9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8 008 3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49212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 Подобряване на достъпа до информационни и комуникационни технологии и на тяхното използване и каче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 639 6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 639 6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70308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 Повишаване на конкурентоспособността на малките и средните предприятия и на селскостопанския сектор (за ЕЗФРСР), и на сектора на рибарството и аквакултурите (за ЕФМДР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6 025 04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 545 5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9 438 8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36540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 Подкрепа за преминаването към нисковъглеродна икономика във всички сектор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 403 3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031 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183 401 5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49212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 Насърчаване на адаптацията към изменението на климата и превенцията и управлението на рис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3 211 7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9 960 7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36540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. Съхраняване и опазване на околната среда и насърчаване на ресурсната ефективно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5 315 74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 184 8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36 597 55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65412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. Насърчаване на устойчивия транспорт и премахване на участъците с недостатъчен капацитет във всички ключови мрежови инфраструктур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387 979 7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49212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. Насърчаване на устойчивата и качествена заетост и подкрепа за мобилността на работната си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 292 4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 18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7 510 69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36540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. Насърчаване на социалното приобщаване и борба с бедността и дискриминация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9 571 8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240 232 1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49032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. Инвестиции в образование, обучение и в професионална квалификация за умения и учене през целия живо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 857 1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3 720 58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54936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. Повишаване на институционалния капацитет на публичните органи и заинтересованите страни и ефективна публична администр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1 473 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32724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хническа помо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 661 15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25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1 490 1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32580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38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96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 066 6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 794 453 1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  <p:sp>
        <p:nvSpPr>
          <p:cNvPr id="1045" name="Rectangle 5"/>
          <p:cNvSpPr/>
          <p:nvPr/>
        </p:nvSpPr>
        <p:spPr>
          <a:xfrm>
            <a:off x="507960" y="23760"/>
            <a:ext cx="640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700" spc="-1" strike="noStrike">
                <a:solidFill>
                  <a:srgbClr val="18077b"/>
                </a:solidFill>
                <a:latin typeface="Calibri"/>
              </a:rPr>
              <a:t>Финансов принос на ПРСР и ПМДР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Text Box 2"/>
          <p:cNvSpPr/>
          <p:nvPr/>
        </p:nvSpPr>
        <p:spPr>
          <a:xfrm>
            <a:off x="444600" y="297000"/>
            <a:ext cx="11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 Box 3"/>
          <p:cNvSpPr/>
          <p:nvPr/>
        </p:nvSpPr>
        <p:spPr>
          <a:xfrm>
            <a:off x="108756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Rectangle 4"/>
          <p:cNvSpPr/>
          <p:nvPr/>
        </p:nvSpPr>
        <p:spPr>
          <a:xfrm>
            <a:off x="324000" y="115920"/>
            <a:ext cx="8820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700" spc="-1" strike="noStrike">
                <a:solidFill>
                  <a:srgbClr val="ffffff"/>
                </a:solidFill>
                <a:latin typeface="Calibri"/>
              </a:rPr>
              <a:t>Връзка между тематични цели и приоритети на ЕЗФРСР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Oval 5"/>
          <p:cNvSpPr/>
          <p:nvPr/>
        </p:nvSpPr>
        <p:spPr>
          <a:xfrm>
            <a:off x="5580000" y="1484280"/>
            <a:ext cx="1944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Line 6"/>
          <p:cNvSpPr/>
          <p:nvPr/>
        </p:nvSpPr>
        <p:spPr>
          <a:xfrm flipH="1" flipV="1">
            <a:off x="4788000" y="162864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Line 7"/>
          <p:cNvSpPr/>
          <p:nvPr/>
        </p:nvSpPr>
        <p:spPr>
          <a:xfrm flipH="1">
            <a:off x="4787640" y="1989000"/>
            <a:ext cx="863640" cy="352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2" name="Group 8"/>
          <p:cNvGrpSpPr/>
          <p:nvPr/>
        </p:nvGrpSpPr>
        <p:grpSpPr>
          <a:xfrm>
            <a:off x="1579680" y="1440000"/>
            <a:ext cx="6307560" cy="5182560"/>
            <a:chOff x="1579680" y="1440000"/>
            <a:chExt cx="6307560" cy="5182560"/>
          </a:xfrm>
        </p:grpSpPr>
        <p:grpSp>
          <p:nvGrpSpPr>
            <p:cNvPr id="1053" name="Group 9"/>
            <p:cNvGrpSpPr/>
            <p:nvPr/>
          </p:nvGrpSpPr>
          <p:grpSpPr>
            <a:xfrm>
              <a:off x="1579680" y="1440000"/>
              <a:ext cx="5869440" cy="5182560"/>
              <a:chOff x="1579680" y="1440000"/>
              <a:chExt cx="5869440" cy="5182560"/>
            </a:xfrm>
          </p:grpSpPr>
          <p:sp>
            <p:nvSpPr>
              <p:cNvPr id="1054" name="Line 13"/>
              <p:cNvSpPr/>
              <p:nvPr/>
            </p:nvSpPr>
            <p:spPr>
              <a:xfrm flipH="1">
                <a:off x="3945600" y="2879640"/>
                <a:ext cx="105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4"/>
              <p:cNvSpPr/>
              <p:nvPr/>
            </p:nvSpPr>
            <p:spPr>
              <a:xfrm flipH="1" flipV="1">
                <a:off x="3945600" y="2950920"/>
                <a:ext cx="105048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"/>
              <p:cNvSpPr/>
              <p:nvPr/>
            </p:nvSpPr>
            <p:spPr>
              <a:xfrm flipH="1" flipV="1">
                <a:off x="3945600" y="3600360"/>
                <a:ext cx="1050480" cy="64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16"/>
              <p:cNvSpPr/>
              <p:nvPr/>
            </p:nvSpPr>
            <p:spPr>
              <a:xfrm flipH="1" flipV="1">
                <a:off x="3945600" y="4174920"/>
                <a:ext cx="10504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Text Box 17"/>
              <p:cNvSpPr/>
              <p:nvPr/>
            </p:nvSpPr>
            <p:spPr>
              <a:xfrm>
                <a:off x="4967640" y="1440000"/>
                <a:ext cx="2220840" cy="368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g-BG" sz="900" spc="-1" strike="noStrike">
                    <a:solidFill>
                      <a:srgbClr val="000000"/>
                    </a:solidFill>
                    <a:latin typeface="Calibri"/>
                  </a:rPr>
                  <a:t>Приоритети на ЕС за развитието на селските райони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Text Box 18"/>
              <p:cNvSpPr/>
              <p:nvPr/>
            </p:nvSpPr>
            <p:spPr>
              <a:xfrm>
                <a:off x="4996440" y="2735280"/>
                <a:ext cx="2220840" cy="505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2. </a:t>
                </a:r>
                <a:r>
                  <a:rPr b="1" lang="bg-BG" sz="900" spc="-1" strike="noStrike">
                    <a:solidFill>
                      <a:srgbClr val="000000"/>
                    </a:solidFill>
                    <a:latin typeface="Calibri"/>
                  </a:rPr>
                  <a:t>Конкурентоспособност на всички видове земеделие и жизненост на стопанстват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Text Box 19"/>
              <p:cNvSpPr/>
              <p:nvPr/>
            </p:nvSpPr>
            <p:spPr>
              <a:xfrm>
                <a:off x="4996440" y="3382920"/>
                <a:ext cx="222084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3. </a:t>
                </a:r>
                <a:r>
                  <a:rPr b="1" lang="bg-BG" sz="900" spc="-1" strike="noStrike">
                    <a:solidFill>
                      <a:srgbClr val="000000"/>
                    </a:solidFill>
                    <a:latin typeface="Calibri"/>
                  </a:rPr>
                  <a:t>Организация на продоволствената  верига и управление на риск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Text Box 20"/>
              <p:cNvSpPr/>
              <p:nvPr/>
            </p:nvSpPr>
            <p:spPr>
              <a:xfrm>
                <a:off x="4996440" y="4679640"/>
                <a:ext cx="2220840" cy="505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5. </a:t>
                </a:r>
                <a:r>
                  <a:rPr b="1" lang="bg-BG" sz="900" spc="-1" strike="noStrike">
                    <a:solidFill>
                      <a:srgbClr val="000000"/>
                    </a:solidFill>
                    <a:latin typeface="Calibri"/>
                  </a:rPr>
                  <a:t>Ефективност на ресурсите и преход към ниско въглеродна  и устойчива на климатичните изменения икономик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Text Box 21"/>
              <p:cNvSpPr/>
              <p:nvPr/>
            </p:nvSpPr>
            <p:spPr>
              <a:xfrm>
                <a:off x="4996440" y="4032000"/>
                <a:ext cx="222084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4. </a:t>
                </a:r>
                <a:r>
                  <a:rPr b="1" lang="bg-BG" sz="900" spc="-1" strike="noStrike">
                    <a:solidFill>
                      <a:srgbClr val="000000"/>
                    </a:solidFill>
                    <a:latin typeface="Calibri"/>
                  </a:rPr>
                  <a:t>Възстановяване, запазване и укрепване на екосистемите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Text Box 22"/>
              <p:cNvSpPr/>
              <p:nvPr/>
            </p:nvSpPr>
            <p:spPr>
              <a:xfrm>
                <a:off x="4996440" y="5400360"/>
                <a:ext cx="222084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6. </a:t>
                </a:r>
                <a:r>
                  <a:rPr b="1" lang="bg-BG" sz="900" spc="-1" strike="noStrike">
                    <a:solidFill>
                      <a:srgbClr val="000000"/>
                    </a:solidFill>
                    <a:latin typeface="Calibri"/>
                  </a:rPr>
                  <a:t>Социално приобщаване, намаляване на бедността и икономическо развитие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Rectangle 23"/>
              <p:cNvSpPr/>
              <p:nvPr/>
            </p:nvSpPr>
            <p:spPr>
              <a:xfrm>
                <a:off x="4996440" y="2087280"/>
                <a:ext cx="245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1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Хоризонтален приоритет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: </a:t>
                </a:r>
                <a:r>
                  <a:rPr b="1" lang="bg-BG" sz="900" spc="-1" strike="noStrike">
                    <a:solidFill>
                      <a:srgbClr val="000000"/>
                    </a:solidFill>
                    <a:latin typeface="Calibri"/>
                  </a:rPr>
                  <a:t>Насърчаване на трансфера на знания и иновации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Text Box 24"/>
              <p:cNvSpPr/>
              <p:nvPr/>
            </p:nvSpPr>
            <p:spPr>
              <a:xfrm>
                <a:off x="1931040" y="1871640"/>
                <a:ext cx="19854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1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Изследвания,  иновации и технологично развитие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Text Box 25"/>
              <p:cNvSpPr/>
              <p:nvPr/>
            </p:nvSpPr>
            <p:spPr>
              <a:xfrm>
                <a:off x="1928880" y="2303280"/>
                <a:ext cx="19854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2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Информационни и комуникационни технологии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Text Box 26"/>
              <p:cNvSpPr/>
              <p:nvPr/>
            </p:nvSpPr>
            <p:spPr>
              <a:xfrm>
                <a:off x="1928880" y="2736720"/>
                <a:ext cx="19854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3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Конкурентоспособност на МСП, земеделие и рибарство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Text Box 27"/>
              <p:cNvSpPr/>
              <p:nvPr/>
            </p:nvSpPr>
            <p:spPr>
              <a:xfrm>
                <a:off x="1928880" y="3168360"/>
                <a:ext cx="19854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4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Ниско въглеродна 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               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икономик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Text Box 28"/>
              <p:cNvSpPr/>
              <p:nvPr/>
            </p:nvSpPr>
            <p:spPr>
              <a:xfrm>
                <a:off x="1931040" y="4895640"/>
                <a:ext cx="19854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8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Заетост и мобилност на работната сил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Text Box 29"/>
              <p:cNvSpPr/>
              <p:nvPr/>
            </p:nvSpPr>
            <p:spPr>
              <a:xfrm>
                <a:off x="1931040" y="4032000"/>
                <a:ext cx="19854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6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Околна среда и ефективност на ресурсите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Text Box 30"/>
              <p:cNvSpPr/>
              <p:nvPr/>
            </p:nvSpPr>
            <p:spPr>
              <a:xfrm>
                <a:off x="1931040" y="3456000"/>
                <a:ext cx="1985400" cy="505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5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Приспособяване към промяната на климата, превенция и управление на риска 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Text Box 31"/>
              <p:cNvSpPr/>
              <p:nvPr/>
            </p:nvSpPr>
            <p:spPr>
              <a:xfrm>
                <a:off x="1931040" y="4464000"/>
                <a:ext cx="19854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7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Устойчив транспорт и инфраструктур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Text Box 32"/>
              <p:cNvSpPr/>
              <p:nvPr/>
            </p:nvSpPr>
            <p:spPr>
              <a:xfrm>
                <a:off x="1931040" y="5327640"/>
                <a:ext cx="19854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9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Социално изключване и борба с бедностт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Text Box 33"/>
              <p:cNvSpPr/>
              <p:nvPr/>
            </p:nvSpPr>
            <p:spPr>
              <a:xfrm>
                <a:off x="1931040" y="6192720"/>
                <a:ext cx="19854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11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Институционален капацитет и ефикасна публична администрация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Text Box 34"/>
              <p:cNvSpPr/>
              <p:nvPr/>
            </p:nvSpPr>
            <p:spPr>
              <a:xfrm>
                <a:off x="1931040" y="5759280"/>
                <a:ext cx="19854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10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Образование, умения и  обучение през целия живот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Text Box 35"/>
              <p:cNvSpPr/>
              <p:nvPr/>
            </p:nvSpPr>
            <p:spPr>
              <a:xfrm>
                <a:off x="1928880" y="1440000"/>
                <a:ext cx="1985400" cy="231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g-BG" sz="900" spc="-1" strike="noStrike">
                    <a:solidFill>
                      <a:srgbClr val="000000"/>
                    </a:solidFill>
                    <a:latin typeface="Calibri"/>
                  </a:rPr>
                  <a:t>Тематични цели на ОСР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AutoShape 36"/>
              <p:cNvSpPr/>
              <p:nvPr/>
            </p:nvSpPr>
            <p:spPr>
              <a:xfrm>
                <a:off x="1579680" y="2033280"/>
                <a:ext cx="349200" cy="4302000"/>
              </a:xfrm>
              <a:custGeom>
                <a:avLst/>
                <a:gdLst>
                  <a:gd name="textAreaLeft" fmla="*/ 223200 w 349200"/>
                  <a:gd name="textAreaRight" fmla="*/ 349560 w 349200"/>
                  <a:gd name="textAreaTop" fmla="*/ 111960 h 4302000"/>
                  <a:gd name="textAreaBottom" fmla="*/ 4190040 h 430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27"/>
                    </a:lnTo>
                    <a:cubicBezTo>
                      <a:pt x="10800" y="9927"/>
                      <a:pt x="5400" y="10827"/>
                      <a:pt x="0" y="10827"/>
                    </a:cubicBezTo>
                    <a:cubicBezTo>
                      <a:pt x="5400" y="10827"/>
                      <a:pt x="10800" y="11727"/>
                      <a:pt x="10800" y="12627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37"/>
              <p:cNvSpPr/>
              <p:nvPr/>
            </p:nvSpPr>
            <p:spPr>
              <a:xfrm flipH="1" flipV="1">
                <a:off x="3945600" y="3311280"/>
                <a:ext cx="1050480" cy="158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Line 38"/>
              <p:cNvSpPr/>
              <p:nvPr/>
            </p:nvSpPr>
            <p:spPr>
              <a:xfrm flipH="1" flipV="1">
                <a:off x="3945600" y="3743280"/>
                <a:ext cx="1050480" cy="1152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39"/>
              <p:cNvSpPr/>
              <p:nvPr/>
            </p:nvSpPr>
            <p:spPr>
              <a:xfrm flipH="1" flipV="1">
                <a:off x="3945600" y="4248000"/>
                <a:ext cx="1050480" cy="64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40"/>
              <p:cNvSpPr/>
              <p:nvPr/>
            </p:nvSpPr>
            <p:spPr>
              <a:xfrm flipH="1" flipV="1">
                <a:off x="3945600" y="5111640"/>
                <a:ext cx="1050480" cy="43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41"/>
              <p:cNvSpPr/>
              <p:nvPr/>
            </p:nvSpPr>
            <p:spPr>
              <a:xfrm flipH="1">
                <a:off x="3945600" y="5543280"/>
                <a:ext cx="105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Oval 42"/>
              <p:cNvSpPr/>
              <p:nvPr/>
            </p:nvSpPr>
            <p:spPr>
              <a:xfrm>
                <a:off x="4996440" y="6119640"/>
                <a:ext cx="2365920" cy="502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bg-BG" sz="900" spc="-1" strike="noStrike">
                    <a:solidFill>
                      <a:srgbClr val="000000"/>
                    </a:solidFill>
                    <a:latin typeface="Calibri"/>
                  </a:rPr>
                  <a:t>Техническа помощ и 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bg-BG" sz="900" spc="-1" strike="noStrike">
                    <a:solidFill>
                      <a:srgbClr val="000000"/>
                    </a:solidFill>
                    <a:latin typeface="Calibri"/>
                  </a:rPr>
                  <a:t>предварителни условия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Line 43"/>
              <p:cNvSpPr/>
              <p:nvPr/>
            </p:nvSpPr>
            <p:spPr>
              <a:xfrm flipH="1">
                <a:off x="3945600" y="6408720"/>
                <a:ext cx="105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44"/>
              <p:cNvSpPr/>
              <p:nvPr/>
            </p:nvSpPr>
            <p:spPr>
              <a:xfrm flipH="1" flipV="1">
                <a:off x="3945600" y="2447640"/>
                <a:ext cx="1050480" cy="30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6" name="AutoShape 45"/>
            <p:cNvSpPr/>
            <p:nvPr/>
          </p:nvSpPr>
          <p:spPr>
            <a:xfrm>
              <a:off x="7273800" y="2303280"/>
              <a:ext cx="612360" cy="3384360"/>
            </a:xfrm>
            <a:custGeom>
              <a:avLst/>
              <a:gdLst>
                <a:gd name="textAreaLeft" fmla="*/ 0 w 612360"/>
                <a:gd name="textAreaRight" fmla="*/ 429480 w 612360"/>
                <a:gd name="textAreaTop" fmla="*/ 140760 h 3384360"/>
                <a:gd name="textAreaBottom" fmla="*/ 3243600 h 33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Line 46"/>
            <p:cNvSpPr/>
            <p:nvPr/>
          </p:nvSpPr>
          <p:spPr>
            <a:xfrm flipH="1">
              <a:off x="7273440" y="4895640"/>
              <a:ext cx="61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Line 47"/>
            <p:cNvSpPr/>
            <p:nvPr/>
          </p:nvSpPr>
          <p:spPr>
            <a:xfrm flipH="1">
              <a:off x="7273440" y="2950920"/>
              <a:ext cx="61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Line 48"/>
            <p:cNvSpPr/>
            <p:nvPr/>
          </p:nvSpPr>
          <p:spPr>
            <a:xfrm flipH="1">
              <a:off x="7273440" y="3600360"/>
              <a:ext cx="61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Line 49"/>
            <p:cNvSpPr/>
            <p:nvPr/>
          </p:nvSpPr>
          <p:spPr>
            <a:xfrm flipH="1">
              <a:off x="7273440" y="4248000"/>
              <a:ext cx="61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1" name="Oval 50"/>
          <p:cNvSpPr/>
          <p:nvPr/>
        </p:nvSpPr>
        <p:spPr>
          <a:xfrm>
            <a:off x="5500800" y="4214880"/>
            <a:ext cx="201600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Oval 51"/>
          <p:cNvSpPr/>
          <p:nvPr/>
        </p:nvSpPr>
        <p:spPr>
          <a:xfrm>
            <a:off x="3059280" y="3573360"/>
            <a:ext cx="172872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Oval 52"/>
          <p:cNvSpPr/>
          <p:nvPr/>
        </p:nvSpPr>
        <p:spPr>
          <a:xfrm>
            <a:off x="3059280" y="2708280"/>
            <a:ext cx="172872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 txBox="1"/>
          <p:nvPr/>
        </p:nvSpPr>
        <p:spPr>
          <a:xfrm>
            <a:off x="744120" y="1192320"/>
            <a:ext cx="7931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Принос на ПРСР </a:t>
            </a:r>
            <a:r>
              <a:rPr b="1" lang="en-US" sz="2200" spc="-1" strike="noStrike">
                <a:solidFill>
                  <a:srgbClr val="18077b"/>
                </a:solidFill>
                <a:latin typeface="Calibri"/>
              </a:rPr>
              <a:t>- </a:t>
            </a: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финансирани дейности</a:t>
            </a: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крепа за сформиране и функциониране на оперативни групи в рамките на Европейско партньорство за иновации</a:t>
            </a:r>
            <a:r>
              <a:rPr b="1" lang="en-US" sz="2000" spc="-1" strike="noStrike">
                <a:solidFill>
                  <a:srgbClr val="18077b"/>
                </a:solidFill>
                <a:latin typeface="Calibri"/>
              </a:rPr>
              <a:t>;</a:t>
            </a: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крепа за пилотни проекти и за развитие на нови продукти, практики, процеси и технологии</a:t>
            </a:r>
            <a:r>
              <a:rPr b="1" lang="en-US" sz="2000" spc="-1" strike="noStrike">
                <a:solidFill>
                  <a:srgbClr val="18077b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крепа за хоризонтално и вертикално сътрудничество между участниците във веригата на доставки за изграждането и развитието на къси вериги на доставки и местни пазари.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18077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</p:txBody>
      </p:sp>
      <p:grpSp>
        <p:nvGrpSpPr>
          <p:cNvPr id="1095" name="TextBox 3"/>
          <p:cNvGrpSpPr/>
          <p:nvPr/>
        </p:nvGrpSpPr>
        <p:grpSpPr>
          <a:xfrm>
            <a:off x="749160" y="1182600"/>
            <a:ext cx="7937640" cy="1822680"/>
            <a:chOff x="749160" y="1182600"/>
            <a:chExt cx="7937640" cy="1822680"/>
          </a:xfrm>
        </p:grpSpPr>
        <p:pic>
          <p:nvPicPr>
            <p:cNvPr id="1096" name="TextBox 3" descr=""/>
            <p:cNvPicPr/>
            <p:nvPr/>
          </p:nvPicPr>
          <p:blipFill>
            <a:blip r:embed="rId1"/>
            <a:stretch/>
          </p:blipFill>
          <p:spPr>
            <a:xfrm>
              <a:off x="749160" y="1182600"/>
              <a:ext cx="79376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7" name=""/>
            <p:cNvSpPr/>
            <p:nvPr/>
          </p:nvSpPr>
          <p:spPr>
            <a:xfrm>
              <a:off x="843120" y="1274760"/>
              <a:ext cx="77454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Тематична цел 1:</a:t>
              </a:r>
              <a:r>
                <a:rPr b="1" lang="en-US" sz="2000" spc="-1" strike="noStrike">
                  <a:solidFill>
                    <a:srgbClr val="77420d"/>
                  </a:solidFill>
                  <a:latin typeface="Calibri"/>
                </a:rPr>
                <a:t> 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Засилване на научноизследователската дейност, технологичното развитие и иновациит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Стратегически приоритет 2: Научни изследвания, иновации и инвестиции за интелигентен растеж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 txBox="1"/>
          <p:nvPr/>
        </p:nvSpPr>
        <p:spPr>
          <a:xfrm>
            <a:off x="715680" y="1273320"/>
            <a:ext cx="7931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Принос на ПРСР </a:t>
            </a:r>
            <a:r>
              <a:rPr b="1" lang="en-US" sz="2200" spc="-1" strike="noStrike">
                <a:solidFill>
                  <a:srgbClr val="18077b"/>
                </a:solidFill>
                <a:latin typeface="Calibri"/>
              </a:rPr>
              <a:t>- </a:t>
            </a: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финансирани дейности</a:t>
            </a: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инвестициите в широколентова мрежа </a:t>
            </a:r>
            <a:r>
              <a:rPr b="0" lang="bg-BG" sz="2200" spc="-1" strike="noStrike">
                <a:solidFill>
                  <a:srgbClr val="18077b"/>
                </a:solidFill>
                <a:latin typeface="Calibri"/>
              </a:rPr>
              <a:t>за достъп от следващо поколение в селските райони</a:t>
            </a: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</p:txBody>
      </p:sp>
      <p:grpSp>
        <p:nvGrpSpPr>
          <p:cNvPr id="1099" name="TextBox 3"/>
          <p:cNvGrpSpPr/>
          <p:nvPr/>
        </p:nvGrpSpPr>
        <p:grpSpPr>
          <a:xfrm>
            <a:off x="731880" y="1298520"/>
            <a:ext cx="7942320" cy="1822680"/>
            <a:chOff x="731880" y="1298520"/>
            <a:chExt cx="7942320" cy="1822680"/>
          </a:xfrm>
        </p:grpSpPr>
        <p:pic>
          <p:nvPicPr>
            <p:cNvPr id="1100" name="TextBox 3" descr=""/>
            <p:cNvPicPr/>
            <p:nvPr/>
          </p:nvPicPr>
          <p:blipFill>
            <a:blip r:embed="rId1"/>
            <a:stretch/>
          </p:blipFill>
          <p:spPr>
            <a:xfrm>
              <a:off x="731880" y="1298520"/>
              <a:ext cx="794232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1" name=""/>
            <p:cNvSpPr/>
            <p:nvPr/>
          </p:nvSpPr>
          <p:spPr>
            <a:xfrm>
              <a:off x="826920" y="1395360"/>
              <a:ext cx="77439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Тематична цел 2:</a:t>
              </a:r>
              <a:r>
                <a:rPr b="1" lang="en-US" sz="2000" spc="-1" strike="noStrike">
                  <a:solidFill>
                    <a:srgbClr val="77420d"/>
                  </a:solidFill>
                  <a:latin typeface="Calibri"/>
                </a:rPr>
                <a:t> 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Подобряване на достъпа до информационни и комуникационни технологии и тяхното използване и каче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Стратегически приоритет 2: Научни изследвания, иновации и инвестиции за интелигентен растеж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Title 1" descr=""/>
          <p:cNvPicPr/>
          <p:nvPr/>
        </p:nvPicPr>
        <p:blipFill>
          <a:blip r:embed="rId1"/>
          <a:stretch/>
        </p:blipFill>
        <p:spPr>
          <a:xfrm>
            <a:off x="244440" y="73080"/>
            <a:ext cx="8759880" cy="1317600"/>
          </a:xfrm>
          <a:prstGeom prst="rect">
            <a:avLst/>
          </a:prstGeom>
          <a:ln w="0">
            <a:noFill/>
          </a:ln>
        </p:spPr>
      </p:pic>
      <p:grpSp>
        <p:nvGrpSpPr>
          <p:cNvPr id="808" name="Lekerekített téglalap 22"/>
          <p:cNvGrpSpPr/>
          <p:nvPr/>
        </p:nvGrpSpPr>
        <p:grpSpPr>
          <a:xfrm>
            <a:off x="384120" y="1176480"/>
            <a:ext cx="871560" cy="5541840"/>
            <a:chOff x="384120" y="1176480"/>
            <a:chExt cx="871560" cy="5541840"/>
          </a:xfrm>
        </p:grpSpPr>
        <p:pic>
          <p:nvPicPr>
            <p:cNvPr id="809" name="Lekerekített téglalap 22" descr=""/>
            <p:cNvPicPr/>
            <p:nvPr/>
          </p:nvPicPr>
          <p:blipFill>
            <a:blip r:embed="rId2"/>
            <a:stretch/>
          </p:blipFill>
          <p:spPr>
            <a:xfrm>
              <a:off x="384120" y="1176480"/>
              <a:ext cx="871560" cy="55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 rot="16200000">
              <a:off x="-1893600" y="3631680"/>
              <a:ext cx="53658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277182"/>
                  </a:solidFill>
                  <a:latin typeface="Tahoma"/>
                  <a:ea typeface="Tahoma"/>
                </a:rPr>
                <a:t>Национална програма за развитие</a:t>
              </a:r>
              <a:r>
                <a:rPr b="1" lang="en-US" sz="1800" spc="-1" strike="noStrike">
                  <a:solidFill>
                    <a:srgbClr val="277182"/>
                  </a:solidFill>
                  <a:latin typeface="Tahoma"/>
                  <a:ea typeface="Tahoma"/>
                </a:rPr>
                <a:t>: </a:t>
              </a:r>
              <a:r>
                <a:rPr b="1" lang="bg-BG" sz="1800" spc="-1" strike="noStrike">
                  <a:solidFill>
                    <a:srgbClr val="277182"/>
                  </a:solidFill>
                  <a:latin typeface="Tahoma"/>
                  <a:ea typeface="Tahoma"/>
                </a:rPr>
                <a:t>България  </a:t>
              </a:r>
              <a:r>
                <a:rPr b="1" lang="en-US" sz="1800" spc="-1" strike="noStrike">
                  <a:solidFill>
                    <a:srgbClr val="277182"/>
                  </a:solidFill>
                  <a:latin typeface="Tahoma"/>
                  <a:ea typeface="Tahoma"/>
                </a:rPr>
                <a:t>20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1" name="Lekerekített téglalap 22"/>
          <p:cNvGrpSpPr/>
          <p:nvPr/>
        </p:nvGrpSpPr>
        <p:grpSpPr>
          <a:xfrm>
            <a:off x="8369280" y="871560"/>
            <a:ext cx="689040" cy="5662440"/>
            <a:chOff x="8369280" y="871560"/>
            <a:chExt cx="689040" cy="5662440"/>
          </a:xfrm>
        </p:grpSpPr>
        <p:pic>
          <p:nvPicPr>
            <p:cNvPr id="812" name="Lekerekített téglalap 22" descr=""/>
            <p:cNvPicPr/>
            <p:nvPr/>
          </p:nvPicPr>
          <p:blipFill>
            <a:blip r:embed="rId3"/>
            <a:stretch/>
          </p:blipFill>
          <p:spPr>
            <a:xfrm>
              <a:off x="8369280" y="871560"/>
              <a:ext cx="689040" cy="56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 rot="5400000">
              <a:off x="5966640" y="3420360"/>
              <a:ext cx="5492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5400"/>
                  </a:solidFill>
                  <a:latin typeface="Tahoma"/>
                  <a:ea typeface="Tahoma"/>
                </a:rPr>
                <a:t>Споразумение за партньорств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4" name="Lekerekített téglalap 10"/>
          <p:cNvGrpSpPr/>
          <p:nvPr/>
        </p:nvGrpSpPr>
        <p:grpSpPr>
          <a:xfrm>
            <a:off x="1127160" y="1073160"/>
            <a:ext cx="3835440" cy="888840"/>
            <a:chOff x="1127160" y="1073160"/>
            <a:chExt cx="3835440" cy="888840"/>
          </a:xfrm>
        </p:grpSpPr>
        <p:pic>
          <p:nvPicPr>
            <p:cNvPr id="815" name="Lekerekített téglalap 10" descr=""/>
            <p:cNvPicPr/>
            <p:nvPr/>
          </p:nvPicPr>
          <p:blipFill>
            <a:blip r:embed="rId4"/>
            <a:stretch/>
          </p:blipFill>
          <p:spPr>
            <a:xfrm>
              <a:off x="1127160" y="1073160"/>
              <a:ext cx="383544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1219320" y="1142640"/>
              <a:ext cx="364968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300" spc="-1" strike="noStrike">
                  <a:solidFill>
                    <a:srgbClr val="00b050"/>
                  </a:solidFill>
                  <a:latin typeface="Tahoma"/>
                  <a:ea typeface="Tahoma"/>
                </a:rPr>
                <a:t>1.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300" spc="-1" strike="noStrike">
                  <a:solidFill>
                    <a:srgbClr val="00b050"/>
                  </a:solidFill>
                  <a:latin typeface="Tahoma"/>
                  <a:ea typeface="Tahoma"/>
                </a:rPr>
                <a:t>Подобряване на достъпа и повишаване на качеството на образованието и обучението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7" name="Lekerekített téglalap 10"/>
          <p:cNvGrpSpPr/>
          <p:nvPr/>
        </p:nvGrpSpPr>
        <p:grpSpPr>
          <a:xfrm>
            <a:off x="1170000" y="1968480"/>
            <a:ext cx="3792600" cy="665280"/>
            <a:chOff x="1170000" y="1968480"/>
            <a:chExt cx="3792600" cy="665280"/>
          </a:xfrm>
        </p:grpSpPr>
        <p:pic>
          <p:nvPicPr>
            <p:cNvPr id="818" name="Lekerekített téglalap 10" descr=""/>
            <p:cNvPicPr/>
            <p:nvPr/>
          </p:nvPicPr>
          <p:blipFill>
            <a:blip r:embed="rId5"/>
            <a:stretch/>
          </p:blipFill>
          <p:spPr>
            <a:xfrm>
              <a:off x="1170000" y="1968480"/>
              <a:ext cx="379260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/>
            <p:nvPr/>
          </p:nvSpPr>
          <p:spPr>
            <a:xfrm>
              <a:off x="1270080" y="2025360"/>
              <a:ext cx="354816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300" spc="-1" strike="noStrike">
                  <a:solidFill>
                    <a:srgbClr val="00b050"/>
                  </a:solidFill>
                  <a:latin typeface="Tahoma"/>
                  <a:ea typeface="Tahoma"/>
                </a:rPr>
                <a:t>2. </a:t>
              </a:r>
              <a:r>
                <a:rPr b="1" lang="ru-RU" sz="1300" spc="-1" strike="noStrike">
                  <a:solidFill>
                    <a:srgbClr val="00b050"/>
                  </a:solidFill>
                  <a:latin typeface="Tahoma"/>
                  <a:ea typeface="Tahoma"/>
                </a:rPr>
                <a:t>Намаляване на бедността и насърчаване на социалното включване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Right Arrow 45"/>
          <p:cNvSpPr/>
          <p:nvPr/>
        </p:nvSpPr>
        <p:spPr>
          <a:xfrm>
            <a:off x="5056200" y="1094040"/>
            <a:ext cx="3348000" cy="1728720"/>
          </a:xfrm>
          <a:prstGeom prst="rightArrow">
            <a:avLst>
              <a:gd name="adj1" fmla="val 50000"/>
              <a:gd name="adj2" fmla="val 48740"/>
            </a:avLst>
          </a:prstGeom>
          <a:solidFill>
            <a:srgbClr val="00b050"/>
          </a:solidFill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ffffff"/>
                </a:solidFill>
                <a:latin typeface="Tahoma"/>
                <a:ea typeface="Tahoma"/>
              </a:rPr>
              <a:t>СП 1: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bg-BG" sz="1300" spc="-1" strike="noStrike">
                <a:solidFill>
                  <a:srgbClr val="ffffff"/>
                </a:solidFill>
                <a:latin typeface="Tahoma"/>
                <a:ea typeface="Tahoma"/>
              </a:rPr>
              <a:t> Образование, заетост, социално включване и здравеопазване за приобщаващ растеж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1" name="Lekerekített téglalap 10"/>
          <p:cNvGrpSpPr/>
          <p:nvPr/>
        </p:nvGrpSpPr>
        <p:grpSpPr>
          <a:xfrm>
            <a:off x="1109520" y="2610000"/>
            <a:ext cx="3956040" cy="876240"/>
            <a:chOff x="1109520" y="2610000"/>
            <a:chExt cx="3956040" cy="876240"/>
          </a:xfrm>
        </p:grpSpPr>
        <p:pic>
          <p:nvPicPr>
            <p:cNvPr id="822" name="Lekerekített téglalap 10" descr=""/>
            <p:cNvPicPr/>
            <p:nvPr/>
          </p:nvPicPr>
          <p:blipFill>
            <a:blip r:embed="rId6"/>
            <a:stretch/>
          </p:blipFill>
          <p:spPr>
            <a:xfrm>
              <a:off x="1109520" y="2610000"/>
              <a:ext cx="395604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203480" y="2677320"/>
              <a:ext cx="374328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300" spc="-1" strike="noStrike">
                  <a:solidFill>
                    <a:srgbClr val="b5b925"/>
                  </a:solidFill>
                  <a:latin typeface="Tahoma"/>
                  <a:ea typeface="Tahoma"/>
                </a:rPr>
                <a:t>3.</a:t>
              </a:r>
              <a:r>
                <a:rPr b="1" lang="en-US" sz="1300" spc="-1" strike="noStrike">
                  <a:solidFill>
                    <a:srgbClr val="b5b925"/>
                  </a:solidFill>
                  <a:latin typeface="Tahoma"/>
                  <a:ea typeface="Tahoma"/>
                </a:rPr>
                <a:t> </a:t>
              </a:r>
              <a:r>
                <a:rPr b="1" lang="ru-RU" sz="1300" spc="-1" strike="noStrike">
                  <a:solidFill>
                    <a:srgbClr val="b5b925"/>
                  </a:solidFill>
                  <a:latin typeface="Tahoma"/>
                  <a:ea typeface="Tahoma"/>
                </a:rPr>
                <a:t>Иновационни и инвестиционни дейности за повишаване на конкурентоспособността на икономиката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4" name="Lekerekített téglalap 10"/>
          <p:cNvGrpSpPr/>
          <p:nvPr/>
        </p:nvGrpSpPr>
        <p:grpSpPr>
          <a:xfrm>
            <a:off x="1206360" y="3402000"/>
            <a:ext cx="3706920" cy="663480"/>
            <a:chOff x="1206360" y="3402000"/>
            <a:chExt cx="3706920" cy="663480"/>
          </a:xfrm>
        </p:grpSpPr>
        <p:pic>
          <p:nvPicPr>
            <p:cNvPr id="825" name="Lekerekített téglalap 10" descr=""/>
            <p:cNvPicPr/>
            <p:nvPr/>
          </p:nvPicPr>
          <p:blipFill>
            <a:blip r:embed="rId7"/>
            <a:stretch/>
          </p:blipFill>
          <p:spPr>
            <a:xfrm>
              <a:off x="1206360" y="3402000"/>
              <a:ext cx="37069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"/>
            <p:cNvSpPr/>
            <p:nvPr/>
          </p:nvSpPr>
          <p:spPr>
            <a:xfrm>
              <a:off x="1285920" y="3456000"/>
              <a:ext cx="354816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300" spc="-1" strike="noStrike">
                  <a:solidFill>
                    <a:srgbClr val="953735"/>
                  </a:solidFill>
                  <a:latin typeface="Tahoma"/>
                  <a:ea typeface="Tahoma"/>
                </a:rPr>
                <a:t>4. </a:t>
              </a:r>
              <a:r>
                <a:rPr b="1" lang="ru-RU" sz="1300" spc="-1" strike="noStrike">
                  <a:solidFill>
                    <a:srgbClr val="953735"/>
                  </a:solidFill>
                  <a:latin typeface="Tahoma"/>
                  <a:ea typeface="Tahoma"/>
                </a:rPr>
                <a:t>Енергийна сигурност и повишаване на ресурсната ефективност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7" name="Lekerekített téglalap 10"/>
          <p:cNvGrpSpPr/>
          <p:nvPr/>
        </p:nvGrpSpPr>
        <p:grpSpPr>
          <a:xfrm>
            <a:off x="1206360" y="4048200"/>
            <a:ext cx="3706920" cy="663480"/>
            <a:chOff x="1206360" y="4048200"/>
            <a:chExt cx="3706920" cy="663480"/>
          </a:xfrm>
        </p:grpSpPr>
        <p:pic>
          <p:nvPicPr>
            <p:cNvPr id="828" name="Lekerekített téglalap 10" descr=""/>
            <p:cNvPicPr/>
            <p:nvPr/>
          </p:nvPicPr>
          <p:blipFill>
            <a:blip r:embed="rId8"/>
            <a:stretch/>
          </p:blipFill>
          <p:spPr>
            <a:xfrm>
              <a:off x="1206360" y="4048200"/>
              <a:ext cx="37069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>
              <a:off x="1285920" y="4104360"/>
              <a:ext cx="354816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300" spc="-1" strike="noStrike">
                  <a:solidFill>
                    <a:srgbClr val="953735"/>
                  </a:solidFill>
                  <a:latin typeface="Tahoma"/>
                  <a:ea typeface="Tahoma"/>
                </a:rPr>
                <a:t>5.</a:t>
              </a:r>
              <a:r>
                <a:rPr b="1" lang="en-US" sz="1300" spc="-1" strike="noStrike">
                  <a:solidFill>
                    <a:srgbClr val="953735"/>
                  </a:solidFill>
                  <a:latin typeface="Tahoma"/>
                  <a:ea typeface="Tahoma"/>
                </a:rPr>
                <a:t> </a:t>
              </a:r>
              <a:r>
                <a:rPr b="1" lang="ru-RU" sz="1300" spc="-1" strike="noStrike">
                  <a:solidFill>
                    <a:srgbClr val="953735"/>
                  </a:solidFill>
                  <a:latin typeface="Tahoma"/>
                  <a:ea typeface="Tahoma"/>
                </a:rPr>
                <a:t>Подобряване на транспортната свързаност и достъпа до пазари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0" name="Lekerekített téglalap 10"/>
          <p:cNvGrpSpPr/>
          <p:nvPr/>
        </p:nvGrpSpPr>
        <p:grpSpPr>
          <a:xfrm>
            <a:off x="1255680" y="4632480"/>
            <a:ext cx="3657600" cy="877680"/>
            <a:chOff x="1255680" y="4632480"/>
            <a:chExt cx="3657600" cy="877680"/>
          </a:xfrm>
        </p:grpSpPr>
        <p:pic>
          <p:nvPicPr>
            <p:cNvPr id="831" name="Lekerekített téglalap 10" descr=""/>
            <p:cNvPicPr/>
            <p:nvPr/>
          </p:nvPicPr>
          <p:blipFill>
            <a:blip r:embed="rId9"/>
            <a:stretch/>
          </p:blipFill>
          <p:spPr>
            <a:xfrm>
              <a:off x="1255680" y="4632480"/>
              <a:ext cx="365760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"/>
            <p:cNvSpPr/>
            <p:nvPr/>
          </p:nvSpPr>
          <p:spPr>
            <a:xfrm>
              <a:off x="1347840" y="4703040"/>
              <a:ext cx="347652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300" spc="-1" strike="noStrike">
                  <a:solidFill>
                    <a:srgbClr val="376092"/>
                  </a:solidFill>
                  <a:latin typeface="Tahoma"/>
                  <a:ea typeface="Tahoma"/>
                </a:rPr>
                <a:t>6.</a:t>
              </a:r>
              <a:r>
                <a:rPr b="1" lang="en-US" sz="1300" spc="-1" strike="noStrike">
                  <a:solidFill>
                    <a:srgbClr val="376092"/>
                  </a:solidFill>
                  <a:latin typeface="Tahoma"/>
                  <a:ea typeface="Tahoma"/>
                </a:rPr>
                <a:t> </a:t>
              </a:r>
              <a:r>
                <a:rPr b="1" lang="bg-BG" sz="1300" spc="-1" strike="noStrike">
                  <a:solidFill>
                    <a:srgbClr val="376092"/>
                  </a:solidFill>
                  <a:latin typeface="Tahoma"/>
                  <a:ea typeface="Tahoma"/>
                </a:rPr>
                <a:t>П</a:t>
              </a:r>
              <a:r>
                <a:rPr b="1" lang="ru-RU" sz="1300" spc="-1" strike="noStrike">
                  <a:solidFill>
                    <a:srgbClr val="376092"/>
                  </a:solidFill>
                  <a:latin typeface="Tahoma"/>
                  <a:ea typeface="Tahoma"/>
                </a:rPr>
                <a:t>о-висока ефективност на публичните услуги за гражданите и бизнеса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3" name="Lekerekített téglalap 10"/>
          <p:cNvGrpSpPr/>
          <p:nvPr/>
        </p:nvGrpSpPr>
        <p:grpSpPr>
          <a:xfrm>
            <a:off x="1200240" y="5450040"/>
            <a:ext cx="3792600" cy="664920"/>
            <a:chOff x="1200240" y="5450040"/>
            <a:chExt cx="3792600" cy="664920"/>
          </a:xfrm>
        </p:grpSpPr>
        <p:pic>
          <p:nvPicPr>
            <p:cNvPr id="834" name="Lekerekített téglalap 10" descr=""/>
            <p:cNvPicPr/>
            <p:nvPr/>
          </p:nvPicPr>
          <p:blipFill>
            <a:blip r:embed="rId10"/>
            <a:stretch/>
          </p:blipFill>
          <p:spPr>
            <a:xfrm>
              <a:off x="1200240" y="5450040"/>
              <a:ext cx="379260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1314360" y="5506200"/>
              <a:ext cx="35197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300" spc="-1" strike="noStrike">
                  <a:solidFill>
                    <a:srgbClr val="cc6600"/>
                  </a:solidFill>
                  <a:latin typeface="Tahoma"/>
                  <a:ea typeface="Tahoma"/>
                </a:rPr>
                <a:t>7.</a:t>
              </a:r>
              <a:r>
                <a:rPr b="1" lang="en-US" sz="1300" spc="-1" strike="noStrike">
                  <a:solidFill>
                    <a:srgbClr val="cc6600"/>
                  </a:solidFill>
                  <a:latin typeface="Tahoma"/>
                  <a:ea typeface="Tahoma"/>
                </a:rPr>
                <a:t> </a:t>
              </a:r>
              <a:r>
                <a:rPr b="1" lang="ru-RU" sz="1300" spc="-1" strike="noStrike">
                  <a:solidFill>
                    <a:srgbClr val="cc6600"/>
                  </a:solidFill>
                  <a:latin typeface="Tahoma"/>
                  <a:ea typeface="Tahoma"/>
                </a:rPr>
                <a:t>Постигане на устойчиво интегрирано регионално развити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Right Arrow 51"/>
          <p:cNvSpPr/>
          <p:nvPr/>
        </p:nvSpPr>
        <p:spPr>
          <a:xfrm>
            <a:off x="5056200" y="2378160"/>
            <a:ext cx="3348000" cy="1332720"/>
          </a:xfrm>
          <a:prstGeom prst="rightArrow">
            <a:avLst>
              <a:gd name="adj1" fmla="val 50000"/>
              <a:gd name="adj2" fmla="val 48743"/>
            </a:avLst>
          </a:prstGeom>
          <a:solidFill>
            <a:srgbClr val="b5b925"/>
          </a:solidFill>
          <a:ln cap="rnd" w="25560">
            <a:solidFill>
              <a:srgbClr val="b5b9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ffffff"/>
                </a:solidFill>
                <a:latin typeface="Tahoma"/>
                <a:ea typeface="Tahoma"/>
              </a:rPr>
              <a:t>СП 2: Научни изследвания, иновации и инвестиции за интелигентен растеж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Right Arrow 52"/>
          <p:cNvSpPr/>
          <p:nvPr/>
        </p:nvSpPr>
        <p:spPr>
          <a:xfrm>
            <a:off x="5076720" y="3661920"/>
            <a:ext cx="3327480" cy="936360"/>
          </a:xfrm>
          <a:prstGeom prst="rightArrow">
            <a:avLst>
              <a:gd name="adj1" fmla="val 50000"/>
              <a:gd name="adj2" fmla="val 67223"/>
            </a:avLst>
          </a:prstGeom>
          <a:solidFill>
            <a:srgbClr val="953735"/>
          </a:solidFill>
          <a:ln cap="rnd"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ffffff"/>
                </a:solidFill>
                <a:latin typeface="Tahoma"/>
                <a:ea typeface="Tahoma"/>
              </a:rPr>
              <a:t>СП 3: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bg-BG" sz="1300" spc="-1" strike="noStrike">
                <a:solidFill>
                  <a:srgbClr val="ffffff"/>
                </a:solidFill>
                <a:latin typeface="Tahoma"/>
                <a:ea typeface="Tahoma"/>
              </a:rPr>
              <a:t>Свързаност и зелена икономика за устойчив растеж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Right Arrow 53"/>
          <p:cNvSpPr/>
          <p:nvPr/>
        </p:nvSpPr>
        <p:spPr>
          <a:xfrm>
            <a:off x="5056200" y="4480200"/>
            <a:ext cx="3348000" cy="1332720"/>
          </a:xfrm>
          <a:prstGeom prst="rightArrow">
            <a:avLst>
              <a:gd name="adj1" fmla="val 50000"/>
              <a:gd name="adj2" fmla="val 48743"/>
            </a:avLst>
          </a:prstGeom>
          <a:solidFill>
            <a:srgbClr val="376092"/>
          </a:solidFill>
          <a:ln cap="rnd"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ffffff"/>
                </a:solidFill>
                <a:latin typeface="Tahoma"/>
                <a:ea typeface="Tahoma"/>
              </a:rPr>
              <a:t>СП 4: Добро управление и достъп до качествени административни услуг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9" name="Lekerekített téglalap 10"/>
          <p:cNvGrpSpPr/>
          <p:nvPr/>
        </p:nvGrpSpPr>
        <p:grpSpPr>
          <a:xfrm>
            <a:off x="1219320" y="6035760"/>
            <a:ext cx="3681360" cy="457200"/>
            <a:chOff x="1219320" y="6035760"/>
            <a:chExt cx="3681360" cy="457200"/>
          </a:xfrm>
        </p:grpSpPr>
        <p:pic>
          <p:nvPicPr>
            <p:cNvPr id="840" name="Lekerekített téglalap 10" descr=""/>
            <p:cNvPicPr/>
            <p:nvPr/>
          </p:nvPicPr>
          <p:blipFill>
            <a:blip r:embed="rId11"/>
            <a:stretch/>
          </p:blipFill>
          <p:spPr>
            <a:xfrm>
              <a:off x="1219320" y="6035760"/>
              <a:ext cx="36813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>
              <a:off x="1289160" y="6080400"/>
              <a:ext cx="354168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300" spc="-1" strike="noStrike">
                  <a:solidFill>
                    <a:srgbClr val="cc6600"/>
                  </a:solidFill>
                  <a:latin typeface="Tahoma"/>
                  <a:ea typeface="Tahoma"/>
                </a:rPr>
                <a:t>8.</a:t>
              </a:r>
              <a:r>
                <a:rPr b="1" lang="en-US" sz="1300" spc="-1" strike="noStrike">
                  <a:solidFill>
                    <a:srgbClr val="cc6600"/>
                  </a:solidFill>
                  <a:latin typeface="Tahoma"/>
                  <a:ea typeface="Tahoma"/>
                </a:rPr>
                <a:t> </a:t>
              </a:r>
              <a:r>
                <a:rPr b="1" lang="bg-BG" sz="1300" spc="-1" strike="noStrike">
                  <a:solidFill>
                    <a:srgbClr val="cc6600"/>
                  </a:solidFill>
                  <a:latin typeface="Tahoma"/>
                  <a:ea typeface="Tahoma"/>
                </a:rPr>
                <a:t>Развитие на аграрния отрасъл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42" name="Elbow Connector 40"/>
          <p:cNvCxnSpPr/>
          <p:nvPr/>
        </p:nvCxnSpPr>
        <p:spPr>
          <a:xfrm flipV="1">
            <a:off x="6776640" y="5478120"/>
            <a:ext cx="5400" cy="721440"/>
          </a:xfrm>
          <a:prstGeom prst="straightConnector1">
            <a:avLst/>
          </a:prstGeom>
          <a:ln w="28440">
            <a:solidFill>
              <a:srgbClr val="ffcc99"/>
            </a:solidFill>
            <a:miter/>
            <a:tailEnd len="med" type="arrow" w="med"/>
          </a:ln>
        </p:spPr>
      </p:cxnSp>
      <p:cxnSp>
        <p:nvCxnSpPr>
          <p:cNvPr id="843" name="Elbow Connector 40"/>
          <p:cNvCxnSpPr/>
          <p:nvPr/>
        </p:nvCxnSpPr>
        <p:spPr>
          <a:xfrm flipV="1">
            <a:off x="6749640" y="2495160"/>
            <a:ext cx="1080" cy="284400"/>
          </a:xfrm>
          <a:prstGeom prst="straightConnector1">
            <a:avLst/>
          </a:prstGeom>
          <a:ln w="28440">
            <a:solidFill>
              <a:srgbClr val="ffcc99"/>
            </a:solidFill>
            <a:miter/>
            <a:tailEnd len="med" type="arrow" w="med"/>
          </a:ln>
        </p:spPr>
      </p:cxnSp>
      <p:cxnSp>
        <p:nvCxnSpPr>
          <p:cNvPr id="844" name="Elbow Connector 40"/>
          <p:cNvCxnSpPr/>
          <p:nvPr/>
        </p:nvCxnSpPr>
        <p:spPr>
          <a:xfrm flipV="1">
            <a:off x="6749640" y="4488840"/>
            <a:ext cx="1080" cy="276840"/>
          </a:xfrm>
          <a:prstGeom prst="straightConnector1">
            <a:avLst/>
          </a:prstGeom>
          <a:ln w="28440">
            <a:solidFill>
              <a:srgbClr val="ffcc99"/>
            </a:solidFill>
            <a:miter/>
            <a:tailEnd len="med" type="arrow" w="med"/>
          </a:ln>
        </p:spPr>
      </p:cxnSp>
      <p:cxnSp>
        <p:nvCxnSpPr>
          <p:cNvPr id="845" name="Elbow Connector 40"/>
          <p:cNvCxnSpPr/>
          <p:nvPr/>
        </p:nvCxnSpPr>
        <p:spPr>
          <a:xfrm flipV="1">
            <a:off x="6778440" y="3429720"/>
            <a:ext cx="1080" cy="283320"/>
          </a:xfrm>
          <a:prstGeom prst="straightConnector1">
            <a:avLst/>
          </a:prstGeom>
          <a:ln w="28440">
            <a:solidFill>
              <a:srgbClr val="ffcc99"/>
            </a:solidFill>
            <a:miter/>
            <a:tailEnd len="med" type="arrow" w="med"/>
          </a:ln>
        </p:spPr>
      </p:cxnSp>
      <p:cxnSp>
        <p:nvCxnSpPr>
          <p:cNvPr id="846" name="Elbow Connector 40"/>
          <p:cNvCxnSpPr/>
          <p:nvPr/>
        </p:nvCxnSpPr>
        <p:spPr>
          <a:xfrm>
            <a:off x="5076720" y="5800320"/>
            <a:ext cx="1705680" cy="1080"/>
          </a:xfrm>
          <a:prstGeom prst="straightConnector1">
            <a:avLst/>
          </a:prstGeom>
          <a:ln w="28440">
            <a:solidFill>
              <a:srgbClr val="ffcc99"/>
            </a:solidFill>
            <a:miter/>
          </a:ln>
        </p:spPr>
      </p:cxnSp>
      <p:cxnSp>
        <p:nvCxnSpPr>
          <p:cNvPr id="847" name="Elbow Connector 40"/>
          <p:cNvCxnSpPr/>
          <p:nvPr/>
        </p:nvCxnSpPr>
        <p:spPr>
          <a:xfrm>
            <a:off x="5076360" y="6216120"/>
            <a:ext cx="1740600" cy="1080"/>
          </a:xfrm>
          <a:prstGeom prst="straightConnector1">
            <a:avLst/>
          </a:prstGeom>
          <a:ln w="28440">
            <a:solidFill>
              <a:srgbClr val="ffcc99"/>
            </a:solidFill>
            <a:miter/>
          </a:ln>
        </p:spPr>
      </p:cxn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 txBox="1"/>
          <p:nvPr/>
        </p:nvSpPr>
        <p:spPr>
          <a:xfrm>
            <a:off x="738360" y="809280"/>
            <a:ext cx="7930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18077b"/>
                </a:solidFill>
                <a:latin typeface="Calibri"/>
              </a:rPr>
              <a:t>Принос на ПРСР </a:t>
            </a:r>
            <a:r>
              <a:rPr b="1" lang="en-US" sz="1900" spc="-1" strike="noStrike">
                <a:solidFill>
                  <a:srgbClr val="18077b"/>
                </a:solidFill>
                <a:latin typeface="Calibri"/>
              </a:rPr>
              <a:t>- </a:t>
            </a:r>
            <a:r>
              <a:rPr b="1" lang="bg-BG" sz="1900" spc="-1" strike="noStrike">
                <a:solidFill>
                  <a:srgbClr val="18077b"/>
                </a:solidFill>
                <a:latin typeface="Calibri"/>
              </a:rPr>
              <a:t>финансирани дейности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18077b"/>
                </a:solidFill>
                <a:latin typeface="Calibri"/>
              </a:rPr>
              <a:t>подкрепа за разнообразяване на икономическите дейности, продукти и услуги на МСП в селските райони и земеделските стопанства;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18077b"/>
                </a:solidFill>
                <a:latin typeface="Calibri"/>
              </a:rPr>
              <a:t>преструктуриране в областта на земеделието чрез развитие на малките стопанства, младите фермери и подсекторите животновъдство, плодове и зеленчуци, биологично производство, етерично-маслени и медицински култури;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18077b"/>
                </a:solidFill>
                <a:latin typeface="Calibri"/>
              </a:rPr>
              <a:t>създаване на групи производители, къси вериги на доставка, развитие на пазари на местно ниво, както и за управлението на риска;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18077b"/>
                </a:solidFill>
                <a:latin typeface="Calibri"/>
              </a:rPr>
              <a:t>подкрепа за напояване с цел подобряване конкурентоспособността на стопанствата и отводняването.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</p:txBody>
      </p:sp>
      <p:grpSp>
        <p:nvGrpSpPr>
          <p:cNvPr id="1103" name="TextBox 3"/>
          <p:cNvGrpSpPr/>
          <p:nvPr/>
        </p:nvGrpSpPr>
        <p:grpSpPr>
          <a:xfrm>
            <a:off x="749160" y="396720"/>
            <a:ext cx="7937640" cy="2163960"/>
            <a:chOff x="749160" y="396720"/>
            <a:chExt cx="7937640" cy="2163960"/>
          </a:xfrm>
        </p:grpSpPr>
        <p:pic>
          <p:nvPicPr>
            <p:cNvPr id="1104" name="TextBox 3" descr=""/>
            <p:cNvPicPr/>
            <p:nvPr/>
          </p:nvPicPr>
          <p:blipFill>
            <a:blip r:embed="rId1"/>
            <a:stretch/>
          </p:blipFill>
          <p:spPr>
            <a:xfrm>
              <a:off x="749160" y="396720"/>
              <a:ext cx="793764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5" name=""/>
            <p:cNvSpPr/>
            <p:nvPr/>
          </p:nvSpPr>
          <p:spPr>
            <a:xfrm>
              <a:off x="860400" y="509760"/>
              <a:ext cx="77122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Тематична цел 3:</a:t>
              </a:r>
              <a:r>
                <a:rPr b="1" lang="en-US" sz="2000" spc="-1" strike="noStrike">
                  <a:solidFill>
                    <a:srgbClr val="77420d"/>
                  </a:solidFill>
                  <a:latin typeface="Calibri"/>
                </a:rPr>
                <a:t> 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Повишаване на конкурентоспособността на малките и средни предприятия и на селскостопанския сектор (за ЕЗФРСР), и на сектора на рибарството и аквакултурите (за ЕФМДР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Стратегически приоритет 2: Научни изследвания, иновации и инвестиции за интелигентен растеж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 txBox="1"/>
          <p:nvPr/>
        </p:nvSpPr>
        <p:spPr>
          <a:xfrm>
            <a:off x="539640" y="980640"/>
            <a:ext cx="8353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Принос на ПМДР </a:t>
            </a:r>
            <a:r>
              <a:rPr b="1" lang="en-US" sz="1800" spc="-1" strike="noStrike">
                <a:solidFill>
                  <a:srgbClr val="18077b"/>
                </a:solidFill>
                <a:latin typeface="Calibri"/>
              </a:rPr>
              <a:t>- </a:t>
            </a: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финансирани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00"/>
              </a:spcBef>
              <a:buClr>
                <a:srgbClr val="7097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подкрепа за решаване на структурния проблем с българския риболовен флот- подпомагането на окончателното преустановяване на риболовни дейности;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подкрепа на допустими инвестиции за модернизация на риболовните кораби, които не водят до увеличаване на риболовния капацитет;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насърчаване на иновациите, целящи разработването или въвеждането на нови или значително подобрени продукти на риболова, нови или подобрени процеси и техники, както и на нови или подобрени системи за управление;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инвестиции, които добавят стойност към продуктите на риболова, по-специално като позволяват на рибарите да извършват преработване, предлагане на пазара и пряка продажба на собствения улов;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преминаване към нови дейности, различни от търговския риболов, дейности по преквалификация и допълнителни инвестиции на борда за предоставяне на екологични услуги, образователни дейности, туризъм и други;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</p:txBody>
      </p:sp>
      <p:grpSp>
        <p:nvGrpSpPr>
          <p:cNvPr id="1107" name="TextBox 3"/>
          <p:cNvGrpSpPr/>
          <p:nvPr/>
        </p:nvGrpSpPr>
        <p:grpSpPr>
          <a:xfrm>
            <a:off x="731880" y="755640"/>
            <a:ext cx="7942320" cy="1994040"/>
            <a:chOff x="731880" y="755640"/>
            <a:chExt cx="7942320" cy="1994040"/>
          </a:xfrm>
        </p:grpSpPr>
        <p:pic>
          <p:nvPicPr>
            <p:cNvPr id="1108" name="TextBox 3" descr=""/>
            <p:cNvPicPr/>
            <p:nvPr/>
          </p:nvPicPr>
          <p:blipFill>
            <a:blip r:embed="rId1"/>
            <a:stretch/>
          </p:blipFill>
          <p:spPr>
            <a:xfrm>
              <a:off x="731880" y="755640"/>
              <a:ext cx="79423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"/>
            <p:cNvSpPr/>
            <p:nvPr/>
          </p:nvSpPr>
          <p:spPr>
            <a:xfrm>
              <a:off x="835200" y="860400"/>
              <a:ext cx="7727760" cy="17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Тематична цел 3:</a:t>
              </a:r>
              <a:r>
                <a:rPr b="1" lang="en-US" sz="2000" spc="-1" strike="noStrike">
                  <a:solidFill>
                    <a:srgbClr val="77420d"/>
                  </a:solidFill>
                  <a:latin typeface="Calibri"/>
                </a:rPr>
                <a:t> 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Повишаване на конкурентоспособността на малките и средни предприятия и на селскостопанския сектор (за ЕЗФРСР), и на сектора на рибарството и аквакултурите (за ЕФМДР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Стратегически приоритет 2: Научни изследвания, иновации и инвестиции за интелигентен растеж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 txBox="1"/>
          <p:nvPr/>
        </p:nvSpPr>
        <p:spPr>
          <a:xfrm>
            <a:off x="468000" y="188640"/>
            <a:ext cx="84963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Принос на ПМДР </a:t>
            </a:r>
            <a:r>
              <a:rPr b="1" lang="en-US" sz="1800" spc="-1" strike="noStrike">
                <a:solidFill>
                  <a:srgbClr val="18077b"/>
                </a:solidFill>
                <a:latin typeface="Calibri"/>
              </a:rPr>
              <a:t>- </a:t>
            </a: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финансирани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подкрепа за решаване на структурния проблем с българския риболовен флот - по отношение на аквакултурата, подпомагане на  инвестиции за разширяване и модернизиране на съществуващи стопанства и за диверсификация на производството на нови видове, като ще бъдат подпомагани редица дейности, свързани с подобряването на производствената ефективност – добавяне на стойност към продукцията, оползотворяване на отпадъците;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подкрепа за стартиращи МСП в областта на сладководната и соленоводната аквакултура  в съответствие с Многогодишния национален стратегически план за аквакултурите (2014-2020). Подкрепа за биотехнологии; подкрепата за преработване на продуктите от аквакултурите и предоставянето на възможност за застраховане на запасите от аквакултури; диверсификация на дейностите;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развитие на "синята икономика" основно чрез подкрепа в сектора на аквакултурата, рибарството и свързаната с тях преработка, подкрепа за  развитието на сините биотехнологии; 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подпомагане създаването на организации на производителите в риболовството и аквакултурите.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</p:txBody>
      </p:sp>
      <p:grpSp>
        <p:nvGrpSpPr>
          <p:cNvPr id="1111" name="TextBox 3"/>
          <p:cNvGrpSpPr/>
          <p:nvPr/>
        </p:nvGrpSpPr>
        <p:grpSpPr>
          <a:xfrm>
            <a:off x="712800" y="103320"/>
            <a:ext cx="7937640" cy="1993680"/>
            <a:chOff x="712800" y="103320"/>
            <a:chExt cx="7937640" cy="1993680"/>
          </a:xfrm>
        </p:grpSpPr>
        <p:pic>
          <p:nvPicPr>
            <p:cNvPr id="1112" name="TextBox 3" descr=""/>
            <p:cNvPicPr/>
            <p:nvPr/>
          </p:nvPicPr>
          <p:blipFill>
            <a:blip r:embed="rId1"/>
            <a:stretch/>
          </p:blipFill>
          <p:spPr>
            <a:xfrm>
              <a:off x="712800" y="103320"/>
              <a:ext cx="793764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"/>
            <p:cNvSpPr/>
            <p:nvPr/>
          </p:nvSpPr>
          <p:spPr>
            <a:xfrm>
              <a:off x="816120" y="204840"/>
              <a:ext cx="7727760" cy="17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Тематична цел 3:</a:t>
              </a:r>
              <a:r>
                <a:rPr b="1" lang="en-US" sz="2000" spc="-1" strike="noStrike">
                  <a:solidFill>
                    <a:srgbClr val="77420d"/>
                  </a:solidFill>
                  <a:latin typeface="Calibri"/>
                </a:rPr>
                <a:t> 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Повишаване на конкурентоспособността на малките и средни предприятия и на селскостопанския сектор (за ЕЗФРСР), и на сектора на рибарството и аквакултурите (за ЕФМДР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Стратегически приоритет 2: Научни изследвания, иновации и инвестиции за интелигентен растеж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 txBox="1"/>
          <p:nvPr/>
        </p:nvSpPr>
        <p:spPr>
          <a:xfrm>
            <a:off x="480600" y="549360"/>
            <a:ext cx="8425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Принос на ПРСР </a:t>
            </a:r>
            <a:r>
              <a:rPr b="1" lang="en-US" sz="2000" spc="-1" strike="noStrike">
                <a:solidFill>
                  <a:srgbClr val="0b0189"/>
                </a:solidFill>
                <a:latin typeface="Calibri"/>
              </a:rPr>
              <a:t>- </a:t>
            </a: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финансирани дейност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крепа за енергийно-ефективни сгради и оборудване в селското стопанство и преработвателната промишленост, както и производството на енергия от ВИ за собствено потребление;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крепа за използването на остатъчни продукти от земеделието (растителни и животински отпадъци) и обработката на отпадъчна дървесина за енергийни цели;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помагане за залесяване и съхранение на горския фонд и превенция срещу горските пожари ще допринася за намаляване на вредните емисии от въглерод;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инвестиции в селското стопанство включват и инвестиции за намаляване и/или оптимизиране на емисиите от парникови газове от сектор селско стопанство. 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</p:txBody>
      </p:sp>
      <p:grpSp>
        <p:nvGrpSpPr>
          <p:cNvPr id="1115" name="TextBox 3"/>
          <p:cNvGrpSpPr/>
          <p:nvPr/>
        </p:nvGrpSpPr>
        <p:grpSpPr>
          <a:xfrm>
            <a:off x="603360" y="828720"/>
            <a:ext cx="8229600" cy="1652400"/>
            <a:chOff x="603360" y="828720"/>
            <a:chExt cx="8229600" cy="1652400"/>
          </a:xfrm>
        </p:grpSpPr>
        <p:pic>
          <p:nvPicPr>
            <p:cNvPr id="1116" name="TextBox 3" descr=""/>
            <p:cNvPicPr/>
            <p:nvPr/>
          </p:nvPicPr>
          <p:blipFill>
            <a:blip r:embed="rId1"/>
            <a:stretch/>
          </p:blipFill>
          <p:spPr>
            <a:xfrm>
              <a:off x="603360" y="828720"/>
              <a:ext cx="8229600" cy="16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7" name=""/>
            <p:cNvSpPr/>
            <p:nvPr/>
          </p:nvSpPr>
          <p:spPr>
            <a:xfrm>
              <a:off x="690480" y="915840"/>
              <a:ext cx="8050320" cy="14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Тематична цел 4: Подкрепа за преминаването към нисковъглеродна икономика във всички сектор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Стратегически приоритет 3: Свързаност и зелена икономика за устойчив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 txBox="1"/>
          <p:nvPr/>
        </p:nvSpPr>
        <p:spPr>
          <a:xfrm>
            <a:off x="395280" y="189000"/>
            <a:ext cx="842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Принос на ПМДР </a:t>
            </a:r>
            <a:r>
              <a:rPr b="1" lang="en-US" sz="2000" spc="-1" strike="noStrike">
                <a:solidFill>
                  <a:srgbClr val="0b0189"/>
                </a:solidFill>
                <a:latin typeface="Calibri"/>
              </a:rPr>
              <a:t>- </a:t>
            </a: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финансирани дейност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5897"/>
              </a:solidFill>
              <a:latin typeface="Calibri"/>
            </a:endParaRPr>
          </a:p>
          <a:p>
            <a:pPr lvl="2" marL="343080" indent="-343080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крепа за енергийната ефективност в рибарство и аквакулту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подпомагане на окончателното преустановяване на риболовна дейнос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иновации, насочени към разработването и внедряването на по-добри риболовни техники и по-висока избирателност на риболовните уред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инвестиции в оборудване за подобряване на избирателността на риболовните уреди, ограничаване на въздействието на риболова, намаляване на нежелания улов, защита на риболовните уреди от защитени бозайници и птиц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модернизиране на флота, включително повишаване на ефективността на корабите без  да се увеличава капацитета 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9" name="TextBox 3"/>
          <p:cNvGrpSpPr/>
          <p:nvPr/>
        </p:nvGrpSpPr>
        <p:grpSpPr>
          <a:xfrm>
            <a:off x="506520" y="828720"/>
            <a:ext cx="8229600" cy="1652400"/>
            <a:chOff x="506520" y="828720"/>
            <a:chExt cx="8229600" cy="1652400"/>
          </a:xfrm>
        </p:grpSpPr>
        <p:pic>
          <p:nvPicPr>
            <p:cNvPr id="1120" name="TextBox 3" descr=""/>
            <p:cNvPicPr/>
            <p:nvPr/>
          </p:nvPicPr>
          <p:blipFill>
            <a:blip r:embed="rId1"/>
            <a:stretch/>
          </p:blipFill>
          <p:spPr>
            <a:xfrm>
              <a:off x="506520" y="828720"/>
              <a:ext cx="8229600" cy="16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"/>
            <p:cNvSpPr/>
            <p:nvPr/>
          </p:nvSpPr>
          <p:spPr>
            <a:xfrm>
              <a:off x="593640" y="915840"/>
              <a:ext cx="8048880" cy="14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Тематична цел 4: Подкрепа за преминаването към нисковъглеродна икономика във всички сектор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Стратегически приоритет 3: Свързаност и зелена икономика за устойчив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 txBox="1"/>
          <p:nvPr/>
        </p:nvSpPr>
        <p:spPr>
          <a:xfrm>
            <a:off x="395280" y="189000"/>
            <a:ext cx="842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Принос на ПРСР </a:t>
            </a:r>
            <a:r>
              <a:rPr b="1" lang="en-US" sz="2000" spc="-1" strike="noStrike">
                <a:solidFill>
                  <a:srgbClr val="0b0189"/>
                </a:solidFill>
                <a:latin typeface="Calibri"/>
              </a:rPr>
              <a:t>- </a:t>
            </a: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финансирани дейност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крепа за  въвеждане на по–добри технологии / практики за обработване на почвите, създаване и поддържане на буферни зони;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насърчаване на по-малкото използване на азотни торове и пестициди, подобряване на практиките за управление на животновъдството с оглед третиране на животинските отпадъци, както и подпомагане редуването на културите в зависимост от климата; инвестиране в органично земеделие;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крепа за управление и подобряване на качеството на почвите, включително и чрез използване на по-малко интензивни земеделски практики;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изграждане на съоръжения за оползотворяване на отделения биогаз;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крепа за поддържане и опазване на горските ресурси и управление на горите чрез създаване и управление на защитни горски пояси срещу ерозия и пожар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</p:txBody>
      </p:sp>
      <p:grpSp>
        <p:nvGrpSpPr>
          <p:cNvPr id="1123" name="TextBox 3"/>
          <p:cNvGrpSpPr/>
          <p:nvPr/>
        </p:nvGrpSpPr>
        <p:grpSpPr>
          <a:xfrm>
            <a:off x="506520" y="182520"/>
            <a:ext cx="8229600" cy="1652760"/>
            <a:chOff x="506520" y="182520"/>
            <a:chExt cx="8229600" cy="1652760"/>
          </a:xfrm>
        </p:grpSpPr>
        <p:pic>
          <p:nvPicPr>
            <p:cNvPr id="1124" name="TextBox 3" descr=""/>
            <p:cNvPicPr/>
            <p:nvPr/>
          </p:nvPicPr>
          <p:blipFill>
            <a:blip r:embed="rId1"/>
            <a:stretch/>
          </p:blipFill>
          <p:spPr>
            <a:xfrm>
              <a:off x="506520" y="182520"/>
              <a:ext cx="82296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>
              <a:off x="593640" y="268200"/>
              <a:ext cx="8048880" cy="14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Тематична цел 5: Насърчаване на адаптацията към изменението на климата и превенцията и управлението на рис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Стратегически приоритет 3: Свързаност и зелена икономика за устойчив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 txBox="1"/>
          <p:nvPr/>
        </p:nvSpPr>
        <p:spPr>
          <a:xfrm>
            <a:off x="355320" y="115560"/>
            <a:ext cx="8569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Принос на ПРСР </a:t>
            </a:r>
            <a:r>
              <a:rPr b="1" lang="en-US" sz="2000" spc="-1" strike="noStrike">
                <a:solidFill>
                  <a:srgbClr val="0b0189"/>
                </a:solidFill>
                <a:latin typeface="Calibri"/>
              </a:rPr>
              <a:t>- </a:t>
            </a: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финансирани дейност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f5897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25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18077b"/>
                </a:solidFill>
                <a:latin typeface="Calibri"/>
              </a:rPr>
              <a:t>инвестиции в управлението на водите, в агломерации с под 2 000 е.ж. там, където пречистването на отпадъчните води е крайно необходимо като допълваща мярка за постигане на добро състояние на водите, съобразно ПУРБ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25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18077b"/>
                </a:solidFill>
                <a:latin typeface="Calibri"/>
              </a:rPr>
              <a:t>подкрепа за намаляване употребата на вода за напояване чрез рехабилитация на напоителни съоръжения с цел намаляване на водните течове от първичната и вторична напоителна мрежа. Инвестициите в напояване ще бъдат в съответствие с идентифицираните нужди и приоритетите, които ще бъдат посочени в стратегията за хидромелиорациит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25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18077b"/>
                </a:solidFill>
                <a:latin typeface="Calibri"/>
              </a:rPr>
              <a:t>мерки за  опазване на природното богатство - биологично разнообразие и НАТУРА 2000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25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18077b"/>
                </a:solidFill>
                <a:latin typeface="Calibri"/>
              </a:rPr>
              <a:t>поддържане на ландшафта и извършване на земеделска дейност в необлагодетелстваните район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25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18077b"/>
                </a:solidFill>
                <a:latin typeface="Calibri"/>
              </a:rPr>
              <a:t>помощ за поддържане на традиционните екстензивни земеделски практики, предотвратяване на ерозионни процеси в почвата и опазване на почвеното плодородие.; непродуктивни инвестиции и инвестиции за изграждане на съоръжения за съхранение на оборски тор и правилното му оползотворяване съобразно Нитратната директив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25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18077b"/>
                </a:solidFill>
                <a:latin typeface="Calibri"/>
              </a:rPr>
              <a:t>залесяване и устойчиво управление на горските ресурси , превенция на горите от пожари, опазването на биоразнообразието при спазване на изискванията на НАТУРА 2000 за гор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25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18077b"/>
                </a:solidFill>
                <a:latin typeface="Calibri"/>
              </a:rPr>
              <a:t>финансиране на пилотни и демонстрационни проекти, свързани с прилагането на земеделски дейности, целящи опазването на околната среда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7" name="TextBox 3"/>
          <p:cNvGrpSpPr/>
          <p:nvPr/>
        </p:nvGrpSpPr>
        <p:grpSpPr>
          <a:xfrm>
            <a:off x="317520" y="109440"/>
            <a:ext cx="8839080" cy="1262160"/>
            <a:chOff x="317520" y="109440"/>
            <a:chExt cx="8839080" cy="1262160"/>
          </a:xfrm>
        </p:grpSpPr>
        <p:pic>
          <p:nvPicPr>
            <p:cNvPr id="1128" name="TextBox 3" descr=""/>
            <p:cNvPicPr/>
            <p:nvPr/>
          </p:nvPicPr>
          <p:blipFill>
            <a:blip r:embed="rId1"/>
            <a:stretch/>
          </p:blipFill>
          <p:spPr>
            <a:xfrm>
              <a:off x="317520" y="109440"/>
              <a:ext cx="88390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9" name=""/>
            <p:cNvSpPr/>
            <p:nvPr/>
          </p:nvSpPr>
          <p:spPr>
            <a:xfrm>
              <a:off x="384120" y="177840"/>
              <a:ext cx="8699400" cy="11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900" spc="-1" strike="noStrike">
                  <a:solidFill>
                    <a:srgbClr val="314510"/>
                  </a:solidFill>
                  <a:latin typeface="Calibri"/>
                </a:rPr>
                <a:t>Тематична цел 6: Съхраняване и опазване на околната среда и насърчаване на ресурсната ефективност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900" spc="-1" strike="noStrike">
                  <a:solidFill>
                    <a:srgbClr val="314510"/>
                  </a:solidFill>
                  <a:latin typeface="Calibri"/>
                </a:rPr>
                <a:t>Стратегически приоритет 3: Свързаност и зелена икономика за устойчив растеж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449280" y="1267920"/>
            <a:ext cx="856944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Принос на ПМДР </a:t>
            </a:r>
            <a:r>
              <a:rPr b="1" lang="en-US" sz="2000" spc="-1" strike="noStrike">
                <a:solidFill>
                  <a:srgbClr val="0b0189"/>
                </a:solidFill>
                <a:latin typeface="Calibri"/>
              </a:rPr>
              <a:t>- </a:t>
            </a: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финансирани дейност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f5897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25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защита на биоразнообразието и природните ресурс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мерки за насърчаване на опазването, рационалното и отговорно използване на ресурсит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помагане събирането на отпадъци; изграждането и модернизацията на съоръжения за опазване на морската флора и фау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готовка на планове за опазване по отношение на обекти по „Натура 2000“, повишаването на осведомеността по въпросите на околната среда и друг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1" name="TextBox 3"/>
          <p:cNvGrpSpPr/>
          <p:nvPr/>
        </p:nvGrpSpPr>
        <p:grpSpPr>
          <a:xfrm>
            <a:off x="317520" y="828720"/>
            <a:ext cx="8839080" cy="1262160"/>
            <a:chOff x="317520" y="828720"/>
            <a:chExt cx="8839080" cy="1262160"/>
          </a:xfrm>
        </p:grpSpPr>
        <p:pic>
          <p:nvPicPr>
            <p:cNvPr id="1132" name="TextBox 3" descr=""/>
            <p:cNvPicPr/>
            <p:nvPr/>
          </p:nvPicPr>
          <p:blipFill>
            <a:blip r:embed="rId1"/>
            <a:stretch/>
          </p:blipFill>
          <p:spPr>
            <a:xfrm>
              <a:off x="317520" y="828720"/>
              <a:ext cx="88390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"/>
            <p:cNvSpPr/>
            <p:nvPr/>
          </p:nvSpPr>
          <p:spPr>
            <a:xfrm>
              <a:off x="384120" y="896760"/>
              <a:ext cx="8699400" cy="11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900" spc="-1" strike="noStrike">
                  <a:solidFill>
                    <a:srgbClr val="314510"/>
                  </a:solidFill>
                  <a:latin typeface="Calibri"/>
                </a:rPr>
                <a:t>Тематична цел 6: Съхраняване и опазване на околната среда и насърчаване на ресурсната ефективност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900" spc="-1" strike="noStrike">
                  <a:solidFill>
                    <a:srgbClr val="314510"/>
                  </a:solidFill>
                  <a:latin typeface="Calibri"/>
                </a:rPr>
                <a:t>Стратегически приоритет 3: Свързаност и зелена икономика за устойчив растеж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360360" y="620280"/>
            <a:ext cx="842328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Принос на ПРСР </a:t>
            </a:r>
            <a:r>
              <a:rPr b="1" lang="en-US" sz="2000" spc="-1" strike="noStrike">
                <a:solidFill>
                  <a:srgbClr val="0b0189"/>
                </a:solidFill>
                <a:latin typeface="Calibri"/>
              </a:rPr>
              <a:t>- </a:t>
            </a: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финансирани дейност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Мерки за насърчаване на заетост в земеделието и селските райони: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инвестиционна подкрепа както за подпомагане на устойчиви структури на млади земеделски стопани и малки земеделски стопанства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, така и за развитие на селскостопански сектори с традиции и потенциал за осигуряване на  работни места – животновъдство, зеленчукопроизводство, овощарство и лозарство, етерично-маслени култур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диверсификация на икономиката 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в селските райони чрез подкрепа за стартиране и развитие на неземеделски бизнес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5" name="TextBox 4"/>
          <p:cNvGrpSpPr/>
          <p:nvPr/>
        </p:nvGrpSpPr>
        <p:grpSpPr>
          <a:xfrm>
            <a:off x="603360" y="901800"/>
            <a:ext cx="7943760" cy="1652400"/>
            <a:chOff x="603360" y="901800"/>
            <a:chExt cx="7943760" cy="1652400"/>
          </a:xfrm>
        </p:grpSpPr>
        <p:pic>
          <p:nvPicPr>
            <p:cNvPr id="1136" name="TextBox 4" descr=""/>
            <p:cNvPicPr/>
            <p:nvPr/>
          </p:nvPicPr>
          <p:blipFill>
            <a:blip r:embed="rId1"/>
            <a:stretch/>
          </p:blipFill>
          <p:spPr>
            <a:xfrm>
              <a:off x="603360" y="901800"/>
              <a:ext cx="7943760" cy="16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>
              <a:off x="690480" y="988920"/>
              <a:ext cx="7763040" cy="14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Тематична цел 8: Насърчаване на устойчивата и качествена заетост и подкрепа за мобилността на работната сил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Стратегически приоритет 1: Образование, заетост, социално включване и здравеопазване за приобщаващ растеж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250920" y="1700280"/>
            <a:ext cx="842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Принос на ПМДР </a:t>
            </a:r>
            <a:r>
              <a:rPr b="1" lang="en-US" sz="2000" spc="-1" strike="noStrike">
                <a:solidFill>
                  <a:srgbClr val="0b0189"/>
                </a:solidFill>
                <a:latin typeface="Calibri"/>
              </a:rPr>
              <a:t>- </a:t>
            </a: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финансирани дейност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5897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в областта на </a:t>
            </a: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рибното стопанство 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– подкрепа за увеличаване на видовото разнообразие и създаване на нови аквакултурни стопанства и разширяване на съществуващит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добавяне на стойност към първичните производства и стимулиране преработката и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9" name="TextBox 4"/>
          <p:cNvGrpSpPr/>
          <p:nvPr/>
        </p:nvGrpSpPr>
        <p:grpSpPr>
          <a:xfrm>
            <a:off x="566640" y="2054160"/>
            <a:ext cx="7937640" cy="1652760"/>
            <a:chOff x="566640" y="2054160"/>
            <a:chExt cx="7937640" cy="1652760"/>
          </a:xfrm>
        </p:grpSpPr>
        <p:pic>
          <p:nvPicPr>
            <p:cNvPr id="1140" name="TextBox 4" descr=""/>
            <p:cNvPicPr/>
            <p:nvPr/>
          </p:nvPicPr>
          <p:blipFill>
            <a:blip r:embed="rId1"/>
            <a:stretch/>
          </p:blipFill>
          <p:spPr>
            <a:xfrm>
              <a:off x="566640" y="2054160"/>
              <a:ext cx="793764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1" name=""/>
            <p:cNvSpPr/>
            <p:nvPr/>
          </p:nvSpPr>
          <p:spPr>
            <a:xfrm>
              <a:off x="650880" y="2139840"/>
              <a:ext cx="7761240" cy="14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Тематична цел 8: Насърчаване на устойчивата и качествена заетост и подкрепа за мобилността на работната сил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Стратегически приоритет 1: Образование, заетост, социално включване и здравеопазване за приобщаващ растеж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itle 1" descr=""/>
          <p:cNvPicPr/>
          <p:nvPr/>
        </p:nvPicPr>
        <p:blipFill>
          <a:blip r:embed="rId1"/>
          <a:stretch/>
        </p:blipFill>
        <p:spPr>
          <a:xfrm>
            <a:off x="390600" y="109440"/>
            <a:ext cx="8223120" cy="108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9" name=""/>
          <p:cNvGraphicFramePr/>
          <p:nvPr/>
        </p:nvGraphicFramePr>
        <p:xfrm>
          <a:off x="574560" y="1052640"/>
          <a:ext cx="8101080" cy="5051160"/>
        </p:xfrm>
        <a:graphic>
          <a:graphicData uri="http://schemas.openxmlformats.org/drawingml/2006/table">
            <a:tbl>
              <a:tblPr/>
              <a:tblGrid>
                <a:gridCol w="5040360"/>
                <a:gridCol w="3060720"/>
              </a:tblGrid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лн. евро (текущи цен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427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вропейско финансира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427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те оперативни програми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морско дело и рибарст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развитие на селските район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а сума по С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 8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38dd5"/>
                    </a:solidFill>
                  </a:tcPr>
                </a:tc>
              </a:tr>
              <a:tr h="6177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нд за европейско подпомагане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най-нуждаещите се лиц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ректни плащания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ханизъм за свързване на Евро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4132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вропейско териториално сътрудниче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о за Българи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 8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8dd5"/>
                    </a:solidFill>
                  </a:tcPr>
                </a:tc>
              </a:tr>
              <a:tr h="159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 gridSpan="2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Включва и специалната алокация по Инициативата за младежка заетост в размер на </a:t>
                      </a:r>
                      <a:r>
                        <a:rPr b="0" lang="bg-BG" sz="1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5</a:t>
                      </a: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bg-BG" sz="1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.19 евр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280">
                <a:tc gridSpan="2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ата за 2014 г. е съгласно таблица 2, параграф 4 от Приложение ІІ на Регламент (ЕС) 1310/2013, а за периода 2015-2020 е съгласно приложение ІІ  от Регламент (ЕС) 1307/20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 txBox="1"/>
          <p:nvPr/>
        </p:nvSpPr>
        <p:spPr>
          <a:xfrm>
            <a:off x="468360" y="836640"/>
            <a:ext cx="8207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Принос на ПРСР </a:t>
            </a:r>
            <a:r>
              <a:rPr b="1" lang="en-US" sz="2000" spc="-1" strike="noStrike">
                <a:solidFill>
                  <a:srgbClr val="0b0189"/>
                </a:solidFill>
                <a:latin typeface="Calibri"/>
              </a:rPr>
              <a:t>- </a:t>
            </a: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финансирани дейност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5897"/>
              </a:solidFill>
              <a:latin typeface="Calibri"/>
            </a:endParaRPr>
          </a:p>
          <a:p>
            <a:pPr lvl="2" marL="343080" indent="-343080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Инвестиции в инфраструктура в селските райони, с оглед постигане на растеж и заетост, икономическо съживяване на селските райони и борба с обезлюдяването. Те ще бъдат концентрирани в населени места, които имат потенциал да предоставят необходимите базови услуги за околните периферни и отдалечени от центровете населени места и с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сновни услуги за хората -  здравеопазване, образ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Публична инфраструктура – пътища, Ви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Инвестиции  в селските райони в качествени социални услуг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ВОМР ще се използва за покриване на местните нужди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3" name="TextBox 4"/>
          <p:cNvGrpSpPr/>
          <p:nvPr/>
        </p:nvGrpSpPr>
        <p:grpSpPr>
          <a:xfrm>
            <a:off x="603360" y="974880"/>
            <a:ext cx="7943760" cy="1652400"/>
            <a:chOff x="603360" y="974880"/>
            <a:chExt cx="7943760" cy="1652400"/>
          </a:xfrm>
        </p:grpSpPr>
        <p:pic>
          <p:nvPicPr>
            <p:cNvPr id="1144" name="TextBox 4" descr=""/>
            <p:cNvPicPr/>
            <p:nvPr/>
          </p:nvPicPr>
          <p:blipFill>
            <a:blip r:embed="rId1"/>
            <a:stretch/>
          </p:blipFill>
          <p:spPr>
            <a:xfrm>
              <a:off x="603360" y="974880"/>
              <a:ext cx="7943760" cy="16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5" name=""/>
            <p:cNvSpPr/>
            <p:nvPr/>
          </p:nvSpPr>
          <p:spPr>
            <a:xfrm>
              <a:off x="690480" y="1060560"/>
              <a:ext cx="7763040" cy="14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Тематична цел 9: Н</a:t>
              </a:r>
              <a:r>
                <a:rPr b="1" lang="ru-RU" sz="2000" spc="-1" strike="noStrike">
                  <a:solidFill>
                    <a:srgbClr val="234271"/>
                  </a:solidFill>
                  <a:latin typeface="Calibri"/>
                </a:rPr>
                <a:t>асърчаване на социалното приобщаване, борба с бедността и всяка форма на дискриминац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Стратегически приоритет 1: Образование, заетост, социално включване и здравеопазване за приобщаващ растеж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Title 1" descr=""/>
          <p:cNvPicPr/>
          <p:nvPr/>
        </p:nvPicPr>
        <p:blipFill>
          <a:blip r:embed="rId1"/>
          <a:stretch/>
        </p:blipFill>
        <p:spPr>
          <a:xfrm>
            <a:off x="-396720" y="139680"/>
            <a:ext cx="5114880" cy="153684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 txBox="1"/>
          <p:nvPr/>
        </p:nvSpPr>
        <p:spPr>
          <a:xfrm>
            <a:off x="324000" y="155700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Развитие на селските райони, земеделие, горско и рибно стопанство 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Основни интервенции 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2" marL="343080" indent="-343080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развитие на аквакултурата 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чрез инвестиции за разширяване и модернизиране на съществуващи стопанства и за диверсификация на производството на нови видове, добавяне на стойност към продукцията, оползотворяване на отпадъците, подобряване условията на труд</a:t>
            </a: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крепа за стартиращи МСП 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в областта на сладководната и соленоводната аквакултура</a:t>
            </a: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развитие на "синята икономика" 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сновно чрез подкрепа в сектора на аквакултурата, рибарството и свързаната с тях преработка</a:t>
            </a: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b0189"/>
                </a:solidFill>
                <a:latin typeface="Calibri"/>
              </a:rPr>
              <a:t>Основно предизвикателство: Приемане на Многогодишния национален стратегически план за аквакултурите (2014-2020)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/>
          </p:nvPr>
        </p:nvSpPr>
        <p:spPr>
          <a:xfrm>
            <a:off x="1116000" y="2781000"/>
            <a:ext cx="7238880" cy="10256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8077b"/>
                </a:solidFill>
                <a:latin typeface="Calibri"/>
              </a:rPr>
              <a:t>ДРУГИ ЕЛЕМЕНТИ НА СПОРАЗУМЕНИЕТО ЗА ПАРТНЬОРСТВО</a:t>
            </a:r>
            <a:endParaRPr b="0" lang="en-US" sz="30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 txBox="1"/>
          <p:nvPr/>
        </p:nvSpPr>
        <p:spPr>
          <a:xfrm>
            <a:off x="1187280" y="692280"/>
            <a:ext cx="74678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100" spc="-1" strike="noStrike">
                <a:solidFill>
                  <a:srgbClr val="ffffff"/>
                </a:solidFill>
                <a:latin typeface="Calibri"/>
              </a:rPr>
              <a:t>Раздел І</a:t>
            </a:r>
            <a:endParaRPr b="0" lang="en-US" sz="3100" spc="-1" strike="noStrike">
              <a:solidFill>
                <a:srgbClr val="2f5897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f5897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f5897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f5897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400" spc="-1" strike="noStrike">
                <a:solidFill>
                  <a:srgbClr val="18077b"/>
                </a:solidFill>
                <a:latin typeface="Calibri"/>
              </a:rPr>
              <a:t>Резюме на предварителната оценка</a:t>
            </a:r>
            <a:endParaRPr b="0" lang="en-US" sz="2400" spc="-1" strike="noStrike">
              <a:solidFill>
                <a:srgbClr val="2f5897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400" spc="-1" strike="noStrike">
                <a:solidFill>
                  <a:srgbClr val="18077b"/>
                </a:solidFill>
                <a:latin typeface="Calibri"/>
              </a:rPr>
              <a:t>Хоризонтални принципи:</a:t>
            </a:r>
            <a:endParaRPr b="0" lang="en-US" sz="24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18077b"/>
                </a:solidFill>
                <a:latin typeface="Calibri"/>
              </a:rPr>
              <a:t>Партньор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18077b"/>
                </a:solidFill>
                <a:latin typeface="Calibri"/>
              </a:rPr>
              <a:t>Равенство между мъжете и жените, недопускане на дискриминация и достъпнос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18077b"/>
                </a:solidFill>
                <a:latin typeface="Calibri"/>
              </a:rPr>
              <a:t>Устойчиво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0" name="Content Placeholder 2" descr=""/>
          <p:cNvPicPr/>
          <p:nvPr/>
        </p:nvPicPr>
        <p:blipFill>
          <a:blip r:embed="rId1"/>
          <a:stretch/>
        </p:blipFill>
        <p:spPr>
          <a:xfrm>
            <a:off x="554040" y="298440"/>
            <a:ext cx="816912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 txBox="1"/>
          <p:nvPr/>
        </p:nvSpPr>
        <p:spPr>
          <a:xfrm>
            <a:off x="468360" y="170028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18077b"/>
                </a:solidFill>
                <a:latin typeface="Calibri"/>
              </a:rPr>
              <a:t>създаване на стабилна и предсказуема среда за изпълнение на програмите, съфинансирани от ЕСИФ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18077b"/>
                </a:solidFill>
                <a:latin typeface="Calibri"/>
              </a:rPr>
              <a:t>въвеждане на максимална електронизация на комуникацията между бенефициентите и У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18077b"/>
                </a:solidFill>
                <a:latin typeface="Calibri"/>
              </a:rPr>
              <a:t>оптимизиране на административните процедур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18077b"/>
                </a:solidFill>
                <a:latin typeface="Calibri"/>
              </a:rPr>
              <a:t>премахване на ненужните задължения за бенефициентите и унифициране на правил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176040" y="109440"/>
            <a:ext cx="4469040" cy="1774800"/>
          </a:xfrm>
          <a:prstGeom prst="rect">
            <a:avLst/>
          </a:prstGeom>
          <a:ln w="0">
            <a:noFill/>
          </a:ln>
        </p:spPr>
      </p:pic>
      <p:sp>
        <p:nvSpPr>
          <p:cNvPr id="1153" name="TextBox 5"/>
          <p:cNvSpPr/>
          <p:nvPr/>
        </p:nvSpPr>
        <p:spPr>
          <a:xfrm>
            <a:off x="8136000" y="5784840"/>
            <a:ext cx="5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4" name="Picture 4" descr=""/>
          <p:cNvPicPr/>
          <p:nvPr/>
        </p:nvPicPr>
        <p:blipFill>
          <a:blip r:embed="rId2"/>
          <a:stretch/>
        </p:blipFill>
        <p:spPr>
          <a:xfrm>
            <a:off x="5364000" y="4437000"/>
            <a:ext cx="3780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 txBox="1"/>
          <p:nvPr/>
        </p:nvSpPr>
        <p:spPr>
          <a:xfrm>
            <a:off x="395280" y="1557360"/>
            <a:ext cx="8352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Документи и документооборо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въвеждане на типизирани формуляри за кандидатстване и отчит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птимизиране на документооборота – електронно подаване и отчитане; еднократно подаване на едни и същи докумен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Подготовка на проектни предлож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специфициране на изискванията според размера на финансирането и сложността на проекта, чрез определяне на стойностен пра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сигуряване на възможност за разработване на интегрирани проектни предложения– един формуляр за кандидатстване, една оценка от обща оценителна комис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Оценка на проектни предложения, предоставяне на БФП и изпълнение на проек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минимални изисквания по отношение на качеството на проекти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разширяване на възможностите за обезпечаване на авансовите плащания при нисък риск от неизпълнение на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простяване на процедурата за директно предоставя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6" name="Title 1" descr=""/>
          <p:cNvPicPr/>
          <p:nvPr/>
        </p:nvPicPr>
        <p:blipFill>
          <a:blip r:embed="rId1"/>
          <a:stretch/>
        </p:blipFill>
        <p:spPr>
          <a:xfrm>
            <a:off x="189000" y="122400"/>
            <a:ext cx="502920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 txBox="1"/>
          <p:nvPr/>
        </p:nvSpPr>
        <p:spPr>
          <a:xfrm>
            <a:off x="324000" y="1773360"/>
            <a:ext cx="82072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Процедури за избор на изпълните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ясна регламентация на избора на изпълнител, която изключва възможността за нейното по-рестриктивно интерпретиране от страна на УО и контролни орга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прилагане на опростен ред за избор на изпълнител, съгласно нормативните изиск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Верификация и плаща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прилагането на правилата за отчитане на опростените разходи, включително по всички програми, съфинансирани от ЕСИ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унифициране на процедурите по верификация и възстановяване на разходите по отделните програми в максимално възможната степ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Контр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сигуряване на координация на становищата на отделните контролни органи и проверките, извършвани от тях с оглед избягване припокриване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8" name="Title 1" descr=""/>
          <p:cNvPicPr/>
          <p:nvPr/>
        </p:nvPicPr>
        <p:blipFill>
          <a:blip r:embed="rId1"/>
          <a:stretch/>
        </p:blipFill>
        <p:spPr>
          <a:xfrm>
            <a:off x="189000" y="122400"/>
            <a:ext cx="5102280" cy="1699920"/>
          </a:xfrm>
          <a:prstGeom prst="rect">
            <a:avLst/>
          </a:prstGeom>
          <a:ln w="0">
            <a:noFill/>
          </a:ln>
        </p:spPr>
      </p:pic>
      <p:sp>
        <p:nvSpPr>
          <p:cNvPr id="1159" name="TextBox 5"/>
          <p:cNvSpPr/>
          <p:nvPr/>
        </p:nvSpPr>
        <p:spPr>
          <a:xfrm>
            <a:off x="8136000" y="5784840"/>
            <a:ext cx="5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/>
          </p:nvPr>
        </p:nvSpPr>
        <p:spPr>
          <a:xfrm>
            <a:off x="1332000" y="3212640"/>
            <a:ext cx="7238880" cy="10256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8077b"/>
                </a:solidFill>
                <a:latin typeface="Calibri"/>
              </a:rPr>
              <a:t>ИНТЕГРИРАН ПОДХОД ЗА ТЕРИТОРИАЛНО РАЗВИТИЕ</a:t>
            </a:r>
            <a:endParaRPr b="0" lang="en-US" sz="30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 txBox="1"/>
          <p:nvPr/>
        </p:nvSpPr>
        <p:spPr>
          <a:xfrm>
            <a:off x="684000" y="1628640"/>
            <a:ext cx="80787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308520" indent="-30852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18077b"/>
                </a:solidFill>
                <a:latin typeface="Calibri"/>
              </a:rPr>
              <a:t>Прилагане на Водено от общността местно развитие, включително с многофондово финансиране, чрез програмиране и прилагане на иновативни интегрирани многосекторни стратегии за местно развит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18077b"/>
                </a:solidFill>
                <a:latin typeface="Calibri"/>
              </a:rPr>
              <a:t>Продължаващи инвестиции за стимулиране на устойчиво традско развитие въз основа на интегрирани планове за градско възстановяване и за развитие на дефинирани опорни центрове за растеж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200" spc="-1" strike="noStrike">
                <a:solidFill>
                  <a:srgbClr val="18077b"/>
                </a:solidFill>
                <a:latin typeface="Calibri"/>
              </a:rPr>
              <a:t>Продължаване прилагането на европейско териториално сътрудничеств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Title 1" descr=""/>
          <p:cNvPicPr/>
          <p:nvPr/>
        </p:nvPicPr>
        <p:blipFill>
          <a:blip r:embed="rId1"/>
          <a:stretch/>
        </p:blipFill>
        <p:spPr>
          <a:xfrm>
            <a:off x="390600" y="133200"/>
            <a:ext cx="789444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1" name=""/>
          <p:cNvGraphicFramePr/>
          <p:nvPr/>
        </p:nvGraphicFramePr>
        <p:xfrm>
          <a:off x="468360" y="981000"/>
          <a:ext cx="8207280" cy="5399280"/>
        </p:xfrm>
        <a:graphic>
          <a:graphicData uri="http://schemas.openxmlformats.org/drawingml/2006/table">
            <a:tbl>
              <a:tblPr/>
              <a:tblGrid>
                <a:gridCol w="4581360"/>
                <a:gridCol w="1812960"/>
                <a:gridCol w="1812960"/>
              </a:tblGrid>
              <a:tr h="3016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Програ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Фон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Обща сум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110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ОП Региони в расте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ЕФР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1 311.70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</a:tr>
              <a:tr h="301680">
                <a:tc row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ОП Развитие на човешките ресурс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ЕС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883.48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</a:tr>
              <a:tr h="30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ИМ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55.19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</a:tr>
              <a:tr h="301320">
                <a:tc row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ОП Наука и образование за интелигентен расте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ЕС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352.62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ЕФР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243.38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</a:tr>
              <a:tr h="59076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ОП Иновации и конкурентоспособно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ЕФР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1 181.62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</a:tr>
              <a:tr h="301680">
                <a:tc row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ОП Транспорт и транспортна инфраструкту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К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1 144.69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</a:tr>
              <a:tr h="30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ЕФР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459.76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</a:tr>
              <a:tr h="300240">
                <a:tc row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ОП Околна сре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К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1 133.62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ЕФР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371.20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</a:tr>
              <a:tr h="3016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ОП Добро управ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ЕС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285.53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</a:tr>
              <a:tr h="5918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Програма за морско дело и рибар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ЕФМД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  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88.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</a:tr>
              <a:tr h="59076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Програма за развитие на селските райо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ЕЗФРС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2 338.78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</a:tr>
              <a:tr h="3016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Общ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</a:t>
                      </a: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9 849.64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Title 1" descr=""/>
          <p:cNvPicPr/>
          <p:nvPr/>
        </p:nvPicPr>
        <p:blipFill>
          <a:blip r:embed="rId1"/>
          <a:stretch/>
        </p:blipFill>
        <p:spPr>
          <a:xfrm>
            <a:off x="176040" y="189000"/>
            <a:ext cx="8643960" cy="96984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 txBox="1"/>
          <p:nvPr/>
        </p:nvSpPr>
        <p:spPr>
          <a:xfrm>
            <a:off x="250920" y="1506600"/>
            <a:ext cx="8640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200" spc="-1" strike="noStrike">
                <a:solidFill>
                  <a:srgbClr val="18077b"/>
                </a:solidFill>
                <a:latin typeface="Calibri"/>
              </a:rPr>
              <a:t>Прилагане </a:t>
            </a: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отдолу – нагор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200" spc="-1" strike="noStrike">
                <a:solidFill>
                  <a:srgbClr val="18077b"/>
                </a:solidFill>
                <a:latin typeface="Calibri"/>
              </a:rPr>
              <a:t>Ще се прилага на територията на селските райони, рибарските райони и териториите със специфични характеристики (съгласно НКПР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200" spc="-1" strike="noStrike">
                <a:solidFill>
                  <a:srgbClr val="18077b"/>
                </a:solidFill>
                <a:latin typeface="Calibri"/>
              </a:rPr>
              <a:t>Финансиране от всички ЕСИФ без Кохезионен фон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Финансов ресурс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 – до 5% от ПРСР, ОПИК, ОПРЧР, ОПНОИР, ОПОС и до 17% от ПМД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4" name="Group 8"/>
          <p:cNvGrpSpPr/>
          <p:nvPr/>
        </p:nvGrpSpPr>
        <p:grpSpPr>
          <a:xfrm>
            <a:off x="2050920" y="3573360"/>
            <a:ext cx="6442200" cy="2924280"/>
            <a:chOff x="2050920" y="3573360"/>
            <a:chExt cx="6442200" cy="2924280"/>
          </a:xfrm>
        </p:grpSpPr>
        <p:sp>
          <p:nvSpPr>
            <p:cNvPr id="1165" name="AutoShape 7"/>
            <p:cNvSpPr/>
            <p:nvPr/>
          </p:nvSpPr>
          <p:spPr>
            <a:xfrm>
              <a:off x="2050920" y="3573360"/>
              <a:ext cx="6442200" cy="29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Rectangle 9"/>
            <p:cNvSpPr/>
            <p:nvPr/>
          </p:nvSpPr>
          <p:spPr>
            <a:xfrm>
              <a:off x="2976480" y="5926320"/>
              <a:ext cx="3689280" cy="213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Freeform 10"/>
            <p:cNvSpPr/>
            <p:nvPr/>
          </p:nvSpPr>
          <p:spPr>
            <a:xfrm>
              <a:off x="2973960" y="5923800"/>
              <a:ext cx="3695040" cy="217800"/>
            </a:xfrm>
            <a:custGeom>
              <a:avLst/>
              <a:gdLst>
                <a:gd name="textAreaLeft" fmla="*/ 0 w 3695040"/>
                <a:gd name="textAreaRight" fmla="*/ 3695400 w 369504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3325" h="196">
                  <a:moveTo>
                    <a:pt x="0" y="0"/>
                  </a:moveTo>
                  <a:lnTo>
                    <a:pt x="3325" y="0"/>
                  </a:lnTo>
                  <a:lnTo>
                    <a:pt x="3325" y="196"/>
                  </a:lnTo>
                  <a:lnTo>
                    <a:pt x="0" y="196"/>
                  </a:lnTo>
                  <a:lnTo>
                    <a:pt x="0" y="0"/>
                  </a:lnTo>
                  <a:close/>
                  <a:moveTo>
                    <a:pt x="5" y="194"/>
                  </a:moveTo>
                  <a:lnTo>
                    <a:pt x="2" y="192"/>
                  </a:lnTo>
                  <a:lnTo>
                    <a:pt x="3322" y="192"/>
                  </a:lnTo>
                  <a:lnTo>
                    <a:pt x="3319" y="194"/>
                  </a:lnTo>
                  <a:lnTo>
                    <a:pt x="3319" y="2"/>
                  </a:lnTo>
                  <a:lnTo>
                    <a:pt x="3322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Rectangle 11"/>
            <p:cNvSpPr/>
            <p:nvPr/>
          </p:nvSpPr>
          <p:spPr>
            <a:xfrm>
              <a:off x="3755880" y="5955120"/>
              <a:ext cx="223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16489f"/>
                  </a:solidFill>
                  <a:latin typeface="Arial"/>
                  <a:ea typeface="Arial"/>
                </a:rPr>
                <a:t>МЕСТНА ИНИЦИАТИВНА ГРУП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Freeform 12"/>
            <p:cNvSpPr/>
            <p:nvPr/>
          </p:nvSpPr>
          <p:spPr>
            <a:xfrm>
              <a:off x="2194200" y="4926960"/>
              <a:ext cx="1118880" cy="355320"/>
            </a:xfrm>
            <a:custGeom>
              <a:avLst/>
              <a:gdLst>
                <a:gd name="textAreaLeft" fmla="*/ 0 w 1118880"/>
                <a:gd name="textAreaRight" fmla="*/ 1119240 w 111888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8728" h="3520">
                  <a:moveTo>
                    <a:pt x="0" y="587"/>
                  </a:moveTo>
                  <a:cubicBezTo>
                    <a:pt x="0" y="263"/>
                    <a:pt x="263" y="0"/>
                    <a:pt x="587" y="0"/>
                  </a:cubicBezTo>
                  <a:lnTo>
                    <a:pt x="8142" y="0"/>
                  </a:lnTo>
                  <a:cubicBezTo>
                    <a:pt x="8466" y="0"/>
                    <a:pt x="8728" y="263"/>
                    <a:pt x="8728" y="587"/>
                  </a:cubicBezTo>
                  <a:lnTo>
                    <a:pt x="8728" y="2934"/>
                  </a:lnTo>
                  <a:cubicBezTo>
                    <a:pt x="8728" y="3258"/>
                    <a:pt x="8466" y="3520"/>
                    <a:pt x="8142" y="3520"/>
                  </a:cubicBezTo>
                  <a:lnTo>
                    <a:pt x="587" y="3520"/>
                  </a:lnTo>
                  <a:cubicBezTo>
                    <a:pt x="263" y="3520"/>
                    <a:pt x="0" y="3258"/>
                    <a:pt x="0" y="2934"/>
                  </a:cubicBezTo>
                  <a:lnTo>
                    <a:pt x="0" y="587"/>
                  </a:lnTo>
                  <a:close/>
                </a:path>
              </a:pathLst>
            </a:custGeom>
            <a:solidFill>
              <a:srgbClr val="c7949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Freeform 13"/>
            <p:cNvSpPr/>
            <p:nvPr/>
          </p:nvSpPr>
          <p:spPr>
            <a:xfrm>
              <a:off x="2190600" y="4925880"/>
              <a:ext cx="1124640" cy="361440"/>
            </a:xfrm>
            <a:custGeom>
              <a:avLst/>
              <a:gdLst>
                <a:gd name="textAreaLeft" fmla="*/ 0 w 1124640"/>
                <a:gd name="textAreaRight" fmla="*/ 1125000 w 11246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12" h="325">
                  <a:moveTo>
                    <a:pt x="0" y="56"/>
                  </a:moveTo>
                  <a:lnTo>
                    <a:pt x="0" y="50"/>
                  </a:lnTo>
                  <a:lnTo>
                    <a:pt x="2" y="45"/>
                  </a:lnTo>
                  <a:lnTo>
                    <a:pt x="3" y="39"/>
                  </a:lnTo>
                  <a:lnTo>
                    <a:pt x="6" y="34"/>
                  </a:lnTo>
                  <a:lnTo>
                    <a:pt x="9" y="29"/>
                  </a:lnTo>
                  <a:lnTo>
                    <a:pt x="12" y="25"/>
                  </a:lnTo>
                  <a:lnTo>
                    <a:pt x="16" y="21"/>
                  </a:lnTo>
                  <a:lnTo>
                    <a:pt x="21" y="17"/>
                  </a:lnTo>
                  <a:lnTo>
                    <a:pt x="26" y="13"/>
                  </a:lnTo>
                  <a:lnTo>
                    <a:pt x="31" y="10"/>
                  </a:lnTo>
                  <a:lnTo>
                    <a:pt x="37" y="7"/>
                  </a:lnTo>
                  <a:lnTo>
                    <a:pt x="43" y="5"/>
                  </a:lnTo>
                  <a:lnTo>
                    <a:pt x="50" y="3"/>
                  </a:lnTo>
                  <a:lnTo>
                    <a:pt x="56" y="1"/>
                  </a:lnTo>
                  <a:lnTo>
                    <a:pt x="63" y="1"/>
                  </a:lnTo>
                  <a:lnTo>
                    <a:pt x="70" y="0"/>
                  </a:lnTo>
                  <a:lnTo>
                    <a:pt x="941" y="0"/>
                  </a:lnTo>
                  <a:lnTo>
                    <a:pt x="948" y="0"/>
                  </a:lnTo>
                  <a:lnTo>
                    <a:pt x="955" y="1"/>
                  </a:lnTo>
                  <a:lnTo>
                    <a:pt x="962" y="3"/>
                  </a:lnTo>
                  <a:lnTo>
                    <a:pt x="969" y="5"/>
                  </a:lnTo>
                  <a:lnTo>
                    <a:pt x="975" y="7"/>
                  </a:lnTo>
                  <a:lnTo>
                    <a:pt x="981" y="10"/>
                  </a:lnTo>
                  <a:lnTo>
                    <a:pt x="986" y="13"/>
                  </a:lnTo>
                  <a:lnTo>
                    <a:pt x="991" y="16"/>
                  </a:lnTo>
                  <a:lnTo>
                    <a:pt x="996" y="20"/>
                  </a:lnTo>
                  <a:lnTo>
                    <a:pt x="1000" y="25"/>
                  </a:lnTo>
                  <a:lnTo>
                    <a:pt x="1003" y="29"/>
                  </a:lnTo>
                  <a:lnTo>
                    <a:pt x="1006" y="34"/>
                  </a:lnTo>
                  <a:lnTo>
                    <a:pt x="1009" y="39"/>
                  </a:lnTo>
                  <a:lnTo>
                    <a:pt x="1010" y="45"/>
                  </a:lnTo>
                  <a:lnTo>
                    <a:pt x="1011" y="50"/>
                  </a:lnTo>
                  <a:lnTo>
                    <a:pt x="1012" y="56"/>
                  </a:lnTo>
                  <a:lnTo>
                    <a:pt x="1012" y="269"/>
                  </a:lnTo>
                  <a:lnTo>
                    <a:pt x="1011" y="275"/>
                  </a:lnTo>
                  <a:lnTo>
                    <a:pt x="1010" y="280"/>
                  </a:lnTo>
                  <a:lnTo>
                    <a:pt x="1009" y="286"/>
                  </a:lnTo>
                  <a:lnTo>
                    <a:pt x="1006" y="291"/>
                  </a:lnTo>
                  <a:lnTo>
                    <a:pt x="1003" y="296"/>
                  </a:lnTo>
                  <a:lnTo>
                    <a:pt x="1000" y="300"/>
                  </a:lnTo>
                  <a:lnTo>
                    <a:pt x="996" y="305"/>
                  </a:lnTo>
                  <a:lnTo>
                    <a:pt x="991" y="309"/>
                  </a:lnTo>
                  <a:lnTo>
                    <a:pt x="986" y="312"/>
                  </a:lnTo>
                  <a:lnTo>
                    <a:pt x="981" y="315"/>
                  </a:lnTo>
                  <a:lnTo>
                    <a:pt x="975" y="318"/>
                  </a:lnTo>
                  <a:lnTo>
                    <a:pt x="969" y="320"/>
                  </a:lnTo>
                  <a:lnTo>
                    <a:pt x="962" y="322"/>
                  </a:lnTo>
                  <a:lnTo>
                    <a:pt x="956" y="324"/>
                  </a:lnTo>
                  <a:lnTo>
                    <a:pt x="949" y="325"/>
                  </a:lnTo>
                  <a:lnTo>
                    <a:pt x="941" y="325"/>
                  </a:lnTo>
                  <a:lnTo>
                    <a:pt x="70" y="325"/>
                  </a:lnTo>
                  <a:lnTo>
                    <a:pt x="63" y="325"/>
                  </a:lnTo>
                  <a:lnTo>
                    <a:pt x="57" y="324"/>
                  </a:lnTo>
                  <a:lnTo>
                    <a:pt x="50" y="322"/>
                  </a:lnTo>
                  <a:lnTo>
                    <a:pt x="43" y="321"/>
                  </a:lnTo>
                  <a:lnTo>
                    <a:pt x="37" y="318"/>
                  </a:lnTo>
                  <a:lnTo>
                    <a:pt x="31" y="315"/>
                  </a:lnTo>
                  <a:lnTo>
                    <a:pt x="26" y="312"/>
                  </a:lnTo>
                  <a:lnTo>
                    <a:pt x="21" y="309"/>
                  </a:lnTo>
                  <a:lnTo>
                    <a:pt x="16" y="305"/>
                  </a:lnTo>
                  <a:lnTo>
                    <a:pt x="12" y="300"/>
                  </a:lnTo>
                  <a:lnTo>
                    <a:pt x="9" y="296"/>
                  </a:lnTo>
                  <a:lnTo>
                    <a:pt x="6" y="291"/>
                  </a:lnTo>
                  <a:lnTo>
                    <a:pt x="3" y="286"/>
                  </a:lnTo>
                  <a:lnTo>
                    <a:pt x="2" y="281"/>
                  </a:lnTo>
                  <a:lnTo>
                    <a:pt x="1" y="275"/>
                  </a:lnTo>
                  <a:lnTo>
                    <a:pt x="0" y="269"/>
                  </a:lnTo>
                  <a:lnTo>
                    <a:pt x="0" y="56"/>
                  </a:lnTo>
                  <a:close/>
                  <a:moveTo>
                    <a:pt x="6" y="269"/>
                  </a:moveTo>
                  <a:lnTo>
                    <a:pt x="6" y="274"/>
                  </a:lnTo>
                  <a:lnTo>
                    <a:pt x="7" y="280"/>
                  </a:lnTo>
                  <a:lnTo>
                    <a:pt x="9" y="284"/>
                  </a:lnTo>
                  <a:lnTo>
                    <a:pt x="11" y="289"/>
                  </a:lnTo>
                  <a:lnTo>
                    <a:pt x="13" y="294"/>
                  </a:lnTo>
                  <a:lnTo>
                    <a:pt x="17" y="298"/>
                  </a:lnTo>
                  <a:lnTo>
                    <a:pt x="20" y="302"/>
                  </a:lnTo>
                  <a:lnTo>
                    <a:pt x="25" y="305"/>
                  </a:lnTo>
                  <a:lnTo>
                    <a:pt x="29" y="309"/>
                  </a:lnTo>
                  <a:lnTo>
                    <a:pt x="34" y="312"/>
                  </a:lnTo>
                  <a:lnTo>
                    <a:pt x="40" y="314"/>
                  </a:lnTo>
                  <a:lnTo>
                    <a:pt x="45" y="316"/>
                  </a:lnTo>
                  <a:lnTo>
                    <a:pt x="51" y="318"/>
                  </a:lnTo>
                  <a:lnTo>
                    <a:pt x="57" y="319"/>
                  </a:lnTo>
                  <a:lnTo>
                    <a:pt x="64" y="320"/>
                  </a:lnTo>
                  <a:lnTo>
                    <a:pt x="70" y="320"/>
                  </a:lnTo>
                  <a:lnTo>
                    <a:pt x="941" y="320"/>
                  </a:lnTo>
                  <a:lnTo>
                    <a:pt x="948" y="320"/>
                  </a:lnTo>
                  <a:lnTo>
                    <a:pt x="954" y="319"/>
                  </a:lnTo>
                  <a:lnTo>
                    <a:pt x="960" y="318"/>
                  </a:lnTo>
                  <a:lnTo>
                    <a:pt x="966" y="317"/>
                  </a:lnTo>
                  <a:lnTo>
                    <a:pt x="972" y="314"/>
                  </a:lnTo>
                  <a:lnTo>
                    <a:pt x="977" y="312"/>
                  </a:lnTo>
                  <a:lnTo>
                    <a:pt x="982" y="309"/>
                  </a:lnTo>
                  <a:lnTo>
                    <a:pt x="987" y="306"/>
                  </a:lnTo>
                  <a:lnTo>
                    <a:pt x="991" y="302"/>
                  </a:lnTo>
                  <a:lnTo>
                    <a:pt x="995" y="298"/>
                  </a:lnTo>
                  <a:lnTo>
                    <a:pt x="998" y="294"/>
                  </a:lnTo>
                  <a:lnTo>
                    <a:pt x="1001" y="289"/>
                  </a:lnTo>
                  <a:lnTo>
                    <a:pt x="1003" y="285"/>
                  </a:lnTo>
                  <a:lnTo>
                    <a:pt x="1005" y="280"/>
                  </a:lnTo>
                  <a:lnTo>
                    <a:pt x="1006" y="275"/>
                  </a:lnTo>
                  <a:lnTo>
                    <a:pt x="1006" y="269"/>
                  </a:lnTo>
                  <a:lnTo>
                    <a:pt x="1006" y="56"/>
                  </a:lnTo>
                  <a:lnTo>
                    <a:pt x="1006" y="51"/>
                  </a:lnTo>
                  <a:lnTo>
                    <a:pt x="1005" y="46"/>
                  </a:lnTo>
                  <a:lnTo>
                    <a:pt x="1003" y="41"/>
                  </a:lnTo>
                  <a:lnTo>
                    <a:pt x="1001" y="36"/>
                  </a:lnTo>
                  <a:lnTo>
                    <a:pt x="998" y="32"/>
                  </a:lnTo>
                  <a:lnTo>
                    <a:pt x="995" y="27"/>
                  </a:lnTo>
                  <a:lnTo>
                    <a:pt x="991" y="23"/>
                  </a:lnTo>
                  <a:lnTo>
                    <a:pt x="987" y="20"/>
                  </a:lnTo>
                  <a:lnTo>
                    <a:pt x="983" y="16"/>
                  </a:lnTo>
                  <a:lnTo>
                    <a:pt x="978" y="13"/>
                  </a:lnTo>
                  <a:lnTo>
                    <a:pt x="972" y="11"/>
                  </a:lnTo>
                  <a:lnTo>
                    <a:pt x="967" y="9"/>
                  </a:lnTo>
                  <a:lnTo>
                    <a:pt x="961" y="7"/>
                  </a:lnTo>
                  <a:lnTo>
                    <a:pt x="954" y="6"/>
                  </a:lnTo>
                  <a:lnTo>
                    <a:pt x="948" y="5"/>
                  </a:lnTo>
                  <a:lnTo>
                    <a:pt x="941" y="5"/>
                  </a:lnTo>
                  <a:lnTo>
                    <a:pt x="71" y="5"/>
                  </a:lnTo>
                  <a:lnTo>
                    <a:pt x="64" y="5"/>
                  </a:lnTo>
                  <a:lnTo>
                    <a:pt x="58" y="6"/>
                  </a:lnTo>
                  <a:lnTo>
                    <a:pt x="51" y="7"/>
                  </a:lnTo>
                  <a:lnTo>
                    <a:pt x="45" y="9"/>
                  </a:lnTo>
                  <a:lnTo>
                    <a:pt x="40" y="11"/>
                  </a:lnTo>
                  <a:lnTo>
                    <a:pt x="34" y="13"/>
                  </a:lnTo>
                  <a:lnTo>
                    <a:pt x="29" y="16"/>
                  </a:lnTo>
                  <a:lnTo>
                    <a:pt x="25" y="20"/>
                  </a:lnTo>
                  <a:lnTo>
                    <a:pt x="21" y="23"/>
                  </a:lnTo>
                  <a:lnTo>
                    <a:pt x="17" y="27"/>
                  </a:lnTo>
                  <a:lnTo>
                    <a:pt x="14" y="31"/>
                  </a:lnTo>
                  <a:lnTo>
                    <a:pt x="11" y="36"/>
                  </a:lnTo>
                  <a:lnTo>
                    <a:pt x="9" y="41"/>
                  </a:lnTo>
                  <a:lnTo>
                    <a:pt x="7" y="45"/>
                  </a:lnTo>
                  <a:lnTo>
                    <a:pt x="6" y="51"/>
                  </a:lnTo>
                  <a:lnTo>
                    <a:pt x="6" y="56"/>
                  </a:lnTo>
                  <a:lnTo>
                    <a:pt x="6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Rectangle 14"/>
            <p:cNvSpPr/>
            <p:nvPr/>
          </p:nvSpPr>
          <p:spPr>
            <a:xfrm>
              <a:off x="2593080" y="4975920"/>
              <a:ext cx="39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16489f"/>
                  </a:solidFill>
                  <a:latin typeface="Arial"/>
                  <a:ea typeface="Arial"/>
                </a:rPr>
                <a:t>ЕФРР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Freeform 15"/>
            <p:cNvSpPr/>
            <p:nvPr/>
          </p:nvSpPr>
          <p:spPr>
            <a:xfrm>
              <a:off x="2194200" y="4287600"/>
              <a:ext cx="1118880" cy="284400"/>
            </a:xfrm>
            <a:custGeom>
              <a:avLst/>
              <a:gdLst>
                <a:gd name="textAreaLeft" fmla="*/ 0 w 1118880"/>
                <a:gd name="textAreaRight" fmla="*/ 1119240 w 111888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17456" h="5632">
                  <a:moveTo>
                    <a:pt x="0" y="939"/>
                  </a:moveTo>
                  <a:cubicBezTo>
                    <a:pt x="0" y="421"/>
                    <a:pt x="421" y="0"/>
                    <a:pt x="939" y="0"/>
                  </a:cubicBezTo>
                  <a:lnTo>
                    <a:pt x="16518" y="0"/>
                  </a:lnTo>
                  <a:cubicBezTo>
                    <a:pt x="17036" y="0"/>
                    <a:pt x="17456" y="421"/>
                    <a:pt x="17456" y="939"/>
                  </a:cubicBezTo>
                  <a:lnTo>
                    <a:pt x="17456" y="4694"/>
                  </a:lnTo>
                  <a:cubicBezTo>
                    <a:pt x="17456" y="5212"/>
                    <a:pt x="17036" y="5632"/>
                    <a:pt x="16518" y="5632"/>
                  </a:cubicBezTo>
                  <a:lnTo>
                    <a:pt x="939" y="5632"/>
                  </a:lnTo>
                  <a:cubicBezTo>
                    <a:pt x="421" y="5632"/>
                    <a:pt x="0" y="5212"/>
                    <a:pt x="0" y="4694"/>
                  </a:cubicBezTo>
                  <a:lnTo>
                    <a:pt x="0" y="939"/>
                  </a:lnTo>
                  <a:close/>
                </a:path>
              </a:pathLst>
            </a:custGeom>
            <a:solidFill>
              <a:srgbClr val="4a671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Freeform 16"/>
            <p:cNvSpPr/>
            <p:nvPr/>
          </p:nvSpPr>
          <p:spPr>
            <a:xfrm>
              <a:off x="2190600" y="4285440"/>
              <a:ext cx="1124640" cy="289080"/>
            </a:xfrm>
            <a:custGeom>
              <a:avLst/>
              <a:gdLst>
                <a:gd name="textAreaLeft" fmla="*/ 0 w 1124640"/>
                <a:gd name="textAreaRight" fmla="*/ 1125000 w 112464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012" h="260">
                  <a:moveTo>
                    <a:pt x="0" y="45"/>
                  </a:moveTo>
                  <a:lnTo>
                    <a:pt x="0" y="40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7" y="23"/>
                  </a:lnTo>
                  <a:lnTo>
                    <a:pt x="10" y="20"/>
                  </a:lnTo>
                  <a:lnTo>
                    <a:pt x="13" y="16"/>
                  </a:lnTo>
                  <a:lnTo>
                    <a:pt x="17" y="13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30" y="5"/>
                  </a:lnTo>
                  <a:lnTo>
                    <a:pt x="35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955" y="0"/>
                  </a:lnTo>
                  <a:lnTo>
                    <a:pt x="961" y="0"/>
                  </a:lnTo>
                  <a:lnTo>
                    <a:pt x="966" y="1"/>
                  </a:lnTo>
                  <a:lnTo>
                    <a:pt x="972" y="2"/>
                  </a:lnTo>
                  <a:lnTo>
                    <a:pt x="977" y="3"/>
                  </a:lnTo>
                  <a:lnTo>
                    <a:pt x="982" y="5"/>
                  </a:lnTo>
                  <a:lnTo>
                    <a:pt x="987" y="7"/>
                  </a:lnTo>
                  <a:lnTo>
                    <a:pt x="991" y="10"/>
                  </a:lnTo>
                  <a:lnTo>
                    <a:pt x="995" y="13"/>
                  </a:lnTo>
                  <a:lnTo>
                    <a:pt x="999" y="16"/>
                  </a:lnTo>
                  <a:lnTo>
                    <a:pt x="1002" y="20"/>
                  </a:lnTo>
                  <a:lnTo>
                    <a:pt x="1005" y="23"/>
                  </a:lnTo>
                  <a:lnTo>
                    <a:pt x="1007" y="27"/>
                  </a:lnTo>
                  <a:lnTo>
                    <a:pt x="1009" y="31"/>
                  </a:lnTo>
                  <a:lnTo>
                    <a:pt x="1010" y="36"/>
                  </a:lnTo>
                  <a:lnTo>
                    <a:pt x="1011" y="40"/>
                  </a:lnTo>
                  <a:lnTo>
                    <a:pt x="1012" y="45"/>
                  </a:lnTo>
                  <a:lnTo>
                    <a:pt x="1012" y="216"/>
                  </a:lnTo>
                  <a:lnTo>
                    <a:pt x="1011" y="220"/>
                  </a:lnTo>
                  <a:lnTo>
                    <a:pt x="1011" y="224"/>
                  </a:lnTo>
                  <a:lnTo>
                    <a:pt x="1009" y="229"/>
                  </a:lnTo>
                  <a:lnTo>
                    <a:pt x="1007" y="233"/>
                  </a:lnTo>
                  <a:lnTo>
                    <a:pt x="1005" y="237"/>
                  </a:lnTo>
                  <a:lnTo>
                    <a:pt x="1002" y="240"/>
                  </a:lnTo>
                  <a:lnTo>
                    <a:pt x="999" y="244"/>
                  </a:lnTo>
                  <a:lnTo>
                    <a:pt x="995" y="247"/>
                  </a:lnTo>
                  <a:lnTo>
                    <a:pt x="991" y="250"/>
                  </a:lnTo>
                  <a:lnTo>
                    <a:pt x="987" y="253"/>
                  </a:lnTo>
                  <a:lnTo>
                    <a:pt x="982" y="255"/>
                  </a:lnTo>
                  <a:lnTo>
                    <a:pt x="977" y="257"/>
                  </a:lnTo>
                  <a:lnTo>
                    <a:pt x="972" y="258"/>
                  </a:lnTo>
                  <a:lnTo>
                    <a:pt x="966" y="259"/>
                  </a:lnTo>
                  <a:lnTo>
                    <a:pt x="961" y="260"/>
                  </a:lnTo>
                  <a:lnTo>
                    <a:pt x="955" y="260"/>
                  </a:lnTo>
                  <a:lnTo>
                    <a:pt x="57" y="260"/>
                  </a:lnTo>
                  <a:lnTo>
                    <a:pt x="51" y="260"/>
                  </a:lnTo>
                  <a:lnTo>
                    <a:pt x="46" y="259"/>
                  </a:lnTo>
                  <a:lnTo>
                    <a:pt x="40" y="258"/>
                  </a:lnTo>
                  <a:lnTo>
                    <a:pt x="35" y="257"/>
                  </a:lnTo>
                  <a:lnTo>
                    <a:pt x="30" y="255"/>
                  </a:lnTo>
                  <a:lnTo>
                    <a:pt x="25" y="253"/>
                  </a:lnTo>
                  <a:lnTo>
                    <a:pt x="21" y="250"/>
                  </a:lnTo>
                  <a:lnTo>
                    <a:pt x="17" y="247"/>
                  </a:lnTo>
                  <a:lnTo>
                    <a:pt x="13" y="244"/>
                  </a:lnTo>
                  <a:lnTo>
                    <a:pt x="10" y="241"/>
                  </a:lnTo>
                  <a:lnTo>
                    <a:pt x="7" y="237"/>
                  </a:lnTo>
                  <a:lnTo>
                    <a:pt x="5" y="233"/>
                  </a:lnTo>
                  <a:lnTo>
                    <a:pt x="3" y="229"/>
                  </a:lnTo>
                  <a:lnTo>
                    <a:pt x="1" y="225"/>
                  </a:lnTo>
                  <a:lnTo>
                    <a:pt x="0" y="220"/>
                  </a:lnTo>
                  <a:lnTo>
                    <a:pt x="0" y="216"/>
                  </a:lnTo>
                  <a:lnTo>
                    <a:pt x="0" y="45"/>
                  </a:lnTo>
                  <a:close/>
                  <a:moveTo>
                    <a:pt x="6" y="215"/>
                  </a:moveTo>
                  <a:lnTo>
                    <a:pt x="6" y="220"/>
                  </a:lnTo>
                  <a:lnTo>
                    <a:pt x="7" y="224"/>
                  </a:lnTo>
                  <a:lnTo>
                    <a:pt x="8" y="227"/>
                  </a:lnTo>
                  <a:lnTo>
                    <a:pt x="10" y="231"/>
                  </a:lnTo>
                  <a:lnTo>
                    <a:pt x="12" y="235"/>
                  </a:lnTo>
                  <a:lnTo>
                    <a:pt x="14" y="238"/>
                  </a:lnTo>
                  <a:lnTo>
                    <a:pt x="17" y="241"/>
                  </a:lnTo>
                  <a:lnTo>
                    <a:pt x="21" y="244"/>
                  </a:lnTo>
                  <a:lnTo>
                    <a:pt x="24" y="247"/>
                  </a:lnTo>
                  <a:lnTo>
                    <a:pt x="28" y="249"/>
                  </a:lnTo>
                  <a:lnTo>
                    <a:pt x="32" y="251"/>
                  </a:lnTo>
                  <a:lnTo>
                    <a:pt x="37" y="253"/>
                  </a:lnTo>
                  <a:lnTo>
                    <a:pt x="42" y="254"/>
                  </a:lnTo>
                  <a:lnTo>
                    <a:pt x="47" y="255"/>
                  </a:lnTo>
                  <a:lnTo>
                    <a:pt x="52" y="256"/>
                  </a:lnTo>
                  <a:lnTo>
                    <a:pt x="57" y="256"/>
                  </a:lnTo>
                  <a:lnTo>
                    <a:pt x="955" y="256"/>
                  </a:lnTo>
                  <a:lnTo>
                    <a:pt x="960" y="256"/>
                  </a:lnTo>
                  <a:lnTo>
                    <a:pt x="965" y="255"/>
                  </a:lnTo>
                  <a:lnTo>
                    <a:pt x="970" y="254"/>
                  </a:lnTo>
                  <a:lnTo>
                    <a:pt x="975" y="253"/>
                  </a:lnTo>
                  <a:lnTo>
                    <a:pt x="979" y="251"/>
                  </a:lnTo>
                  <a:lnTo>
                    <a:pt x="983" y="249"/>
                  </a:lnTo>
                  <a:lnTo>
                    <a:pt x="987" y="247"/>
                  </a:lnTo>
                  <a:lnTo>
                    <a:pt x="991" y="244"/>
                  </a:lnTo>
                  <a:lnTo>
                    <a:pt x="994" y="241"/>
                  </a:lnTo>
                  <a:lnTo>
                    <a:pt x="997" y="238"/>
                  </a:lnTo>
                  <a:lnTo>
                    <a:pt x="1000" y="235"/>
                  </a:lnTo>
                  <a:lnTo>
                    <a:pt x="1002" y="231"/>
                  </a:lnTo>
                  <a:lnTo>
                    <a:pt x="1004" y="228"/>
                  </a:lnTo>
                  <a:lnTo>
                    <a:pt x="1005" y="224"/>
                  </a:lnTo>
                  <a:lnTo>
                    <a:pt x="1006" y="220"/>
                  </a:lnTo>
                  <a:lnTo>
                    <a:pt x="1006" y="216"/>
                  </a:lnTo>
                  <a:lnTo>
                    <a:pt x="1006" y="45"/>
                  </a:lnTo>
                  <a:lnTo>
                    <a:pt x="1006" y="41"/>
                  </a:lnTo>
                  <a:lnTo>
                    <a:pt x="1005" y="37"/>
                  </a:lnTo>
                  <a:lnTo>
                    <a:pt x="1004" y="33"/>
                  </a:lnTo>
                  <a:lnTo>
                    <a:pt x="1002" y="29"/>
                  </a:lnTo>
                  <a:lnTo>
                    <a:pt x="1000" y="26"/>
                  </a:lnTo>
                  <a:lnTo>
                    <a:pt x="997" y="22"/>
                  </a:lnTo>
                  <a:lnTo>
                    <a:pt x="995" y="19"/>
                  </a:lnTo>
                  <a:lnTo>
                    <a:pt x="991" y="16"/>
                  </a:lnTo>
                  <a:lnTo>
                    <a:pt x="988" y="14"/>
                  </a:lnTo>
                  <a:lnTo>
                    <a:pt x="984" y="11"/>
                  </a:lnTo>
                  <a:lnTo>
                    <a:pt x="979" y="9"/>
                  </a:lnTo>
                  <a:lnTo>
                    <a:pt x="975" y="7"/>
                  </a:lnTo>
                  <a:lnTo>
                    <a:pt x="970" y="6"/>
                  </a:lnTo>
                  <a:lnTo>
                    <a:pt x="965" y="5"/>
                  </a:lnTo>
                  <a:lnTo>
                    <a:pt x="960" y="4"/>
                  </a:lnTo>
                  <a:lnTo>
                    <a:pt x="955" y="4"/>
                  </a:lnTo>
                  <a:lnTo>
                    <a:pt x="57" y="4"/>
                  </a:lnTo>
                  <a:lnTo>
                    <a:pt x="52" y="4"/>
                  </a:lnTo>
                  <a:lnTo>
                    <a:pt x="47" y="5"/>
                  </a:lnTo>
                  <a:lnTo>
                    <a:pt x="42" y="6"/>
                  </a:lnTo>
                  <a:lnTo>
                    <a:pt x="37" y="7"/>
                  </a:lnTo>
                  <a:lnTo>
                    <a:pt x="33" y="9"/>
                  </a:lnTo>
                  <a:lnTo>
                    <a:pt x="28" y="11"/>
                  </a:lnTo>
                  <a:lnTo>
                    <a:pt x="24" y="13"/>
                  </a:lnTo>
                  <a:lnTo>
                    <a:pt x="21" y="16"/>
                  </a:lnTo>
                  <a:lnTo>
                    <a:pt x="17" y="19"/>
                  </a:lnTo>
                  <a:lnTo>
                    <a:pt x="14" y="22"/>
                  </a:lnTo>
                  <a:lnTo>
                    <a:pt x="12" y="25"/>
                  </a:lnTo>
                  <a:lnTo>
                    <a:pt x="10" y="29"/>
                  </a:lnTo>
                  <a:lnTo>
                    <a:pt x="8" y="33"/>
                  </a:lnTo>
                  <a:lnTo>
                    <a:pt x="7" y="36"/>
                  </a:lnTo>
                  <a:lnTo>
                    <a:pt x="6" y="40"/>
                  </a:lnTo>
                  <a:lnTo>
                    <a:pt x="6" y="45"/>
                  </a:lnTo>
                  <a:lnTo>
                    <a:pt x="6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Rectangle 17"/>
            <p:cNvSpPr/>
            <p:nvPr/>
          </p:nvSpPr>
          <p:spPr>
            <a:xfrm>
              <a:off x="2638800" y="4332240"/>
              <a:ext cx="31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ЕСФ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Freeform 18"/>
            <p:cNvSpPr/>
            <p:nvPr/>
          </p:nvSpPr>
          <p:spPr>
            <a:xfrm>
              <a:off x="6554880" y="4287600"/>
              <a:ext cx="1117800" cy="284400"/>
            </a:xfrm>
            <a:custGeom>
              <a:avLst/>
              <a:gdLst>
                <a:gd name="textAreaLeft" fmla="*/ 0 w 1117800"/>
                <a:gd name="textAreaRight" fmla="*/ 1118160 w 111780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4364" h="1408">
                  <a:moveTo>
                    <a:pt x="0" y="235"/>
                  </a:moveTo>
                  <a:cubicBezTo>
                    <a:pt x="0" y="106"/>
                    <a:pt x="106" y="0"/>
                    <a:pt x="235" y="0"/>
                  </a:cubicBezTo>
                  <a:lnTo>
                    <a:pt x="4130" y="0"/>
                  </a:lnTo>
                  <a:cubicBezTo>
                    <a:pt x="4259" y="0"/>
                    <a:pt x="4364" y="106"/>
                    <a:pt x="4364" y="235"/>
                  </a:cubicBezTo>
                  <a:lnTo>
                    <a:pt x="4364" y="1174"/>
                  </a:lnTo>
                  <a:cubicBezTo>
                    <a:pt x="4364" y="1303"/>
                    <a:pt x="4259" y="1408"/>
                    <a:pt x="4130" y="1408"/>
                  </a:cubicBezTo>
                  <a:lnTo>
                    <a:pt x="235" y="1408"/>
                  </a:lnTo>
                  <a:cubicBezTo>
                    <a:pt x="106" y="1408"/>
                    <a:pt x="0" y="1303"/>
                    <a:pt x="0" y="1174"/>
                  </a:cubicBezTo>
                  <a:lnTo>
                    <a:pt x="0" y="235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Freeform 19"/>
            <p:cNvSpPr/>
            <p:nvPr/>
          </p:nvSpPr>
          <p:spPr>
            <a:xfrm>
              <a:off x="6551640" y="4285440"/>
              <a:ext cx="1123200" cy="289080"/>
            </a:xfrm>
            <a:custGeom>
              <a:avLst/>
              <a:gdLst>
                <a:gd name="textAreaLeft" fmla="*/ 0 w 1123200"/>
                <a:gd name="textAreaRight" fmla="*/ 1123560 w 11232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011" h="260">
                  <a:moveTo>
                    <a:pt x="0" y="45"/>
                  </a:moveTo>
                  <a:lnTo>
                    <a:pt x="0" y="40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7" y="23"/>
                  </a:lnTo>
                  <a:lnTo>
                    <a:pt x="9" y="20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30" y="5"/>
                  </a:lnTo>
                  <a:lnTo>
                    <a:pt x="35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955" y="0"/>
                  </a:lnTo>
                  <a:lnTo>
                    <a:pt x="960" y="0"/>
                  </a:lnTo>
                  <a:lnTo>
                    <a:pt x="966" y="1"/>
                  </a:lnTo>
                  <a:lnTo>
                    <a:pt x="972" y="2"/>
                  </a:lnTo>
                  <a:lnTo>
                    <a:pt x="977" y="3"/>
                  </a:lnTo>
                  <a:lnTo>
                    <a:pt x="982" y="5"/>
                  </a:lnTo>
                  <a:lnTo>
                    <a:pt x="986" y="8"/>
                  </a:lnTo>
                  <a:lnTo>
                    <a:pt x="991" y="10"/>
                  </a:lnTo>
                  <a:lnTo>
                    <a:pt x="995" y="13"/>
                  </a:lnTo>
                  <a:lnTo>
                    <a:pt x="998" y="16"/>
                  </a:lnTo>
                  <a:lnTo>
                    <a:pt x="1002" y="20"/>
                  </a:lnTo>
                  <a:lnTo>
                    <a:pt x="1004" y="23"/>
                  </a:lnTo>
                  <a:lnTo>
                    <a:pt x="1007" y="27"/>
                  </a:lnTo>
                  <a:lnTo>
                    <a:pt x="1009" y="31"/>
                  </a:lnTo>
                  <a:lnTo>
                    <a:pt x="1010" y="36"/>
                  </a:lnTo>
                  <a:lnTo>
                    <a:pt x="1011" y="40"/>
                  </a:lnTo>
                  <a:lnTo>
                    <a:pt x="1011" y="45"/>
                  </a:lnTo>
                  <a:lnTo>
                    <a:pt x="1011" y="216"/>
                  </a:lnTo>
                  <a:lnTo>
                    <a:pt x="1011" y="220"/>
                  </a:lnTo>
                  <a:lnTo>
                    <a:pt x="1010" y="225"/>
                  </a:lnTo>
                  <a:lnTo>
                    <a:pt x="1009" y="229"/>
                  </a:lnTo>
                  <a:lnTo>
                    <a:pt x="1007" y="233"/>
                  </a:lnTo>
                  <a:lnTo>
                    <a:pt x="1005" y="237"/>
                  </a:lnTo>
                  <a:lnTo>
                    <a:pt x="1002" y="241"/>
                  </a:lnTo>
                  <a:lnTo>
                    <a:pt x="999" y="244"/>
                  </a:lnTo>
                  <a:lnTo>
                    <a:pt x="995" y="247"/>
                  </a:lnTo>
                  <a:lnTo>
                    <a:pt x="991" y="250"/>
                  </a:lnTo>
                  <a:lnTo>
                    <a:pt x="986" y="253"/>
                  </a:lnTo>
                  <a:lnTo>
                    <a:pt x="982" y="255"/>
                  </a:lnTo>
                  <a:lnTo>
                    <a:pt x="977" y="257"/>
                  </a:lnTo>
                  <a:lnTo>
                    <a:pt x="972" y="258"/>
                  </a:lnTo>
                  <a:lnTo>
                    <a:pt x="966" y="259"/>
                  </a:lnTo>
                  <a:lnTo>
                    <a:pt x="961" y="260"/>
                  </a:lnTo>
                  <a:lnTo>
                    <a:pt x="955" y="260"/>
                  </a:lnTo>
                  <a:lnTo>
                    <a:pt x="57" y="260"/>
                  </a:lnTo>
                  <a:lnTo>
                    <a:pt x="51" y="260"/>
                  </a:lnTo>
                  <a:lnTo>
                    <a:pt x="45" y="260"/>
                  </a:lnTo>
                  <a:lnTo>
                    <a:pt x="40" y="259"/>
                  </a:lnTo>
                  <a:lnTo>
                    <a:pt x="35" y="257"/>
                  </a:lnTo>
                  <a:lnTo>
                    <a:pt x="30" y="255"/>
                  </a:lnTo>
                  <a:lnTo>
                    <a:pt x="25" y="253"/>
                  </a:lnTo>
                  <a:lnTo>
                    <a:pt x="21" y="250"/>
                  </a:lnTo>
                  <a:lnTo>
                    <a:pt x="17" y="247"/>
                  </a:lnTo>
                  <a:lnTo>
                    <a:pt x="13" y="244"/>
                  </a:lnTo>
                  <a:lnTo>
                    <a:pt x="10" y="241"/>
                  </a:lnTo>
                  <a:lnTo>
                    <a:pt x="7" y="237"/>
                  </a:lnTo>
                  <a:lnTo>
                    <a:pt x="4" y="233"/>
                  </a:lnTo>
                  <a:lnTo>
                    <a:pt x="3" y="229"/>
                  </a:lnTo>
                  <a:lnTo>
                    <a:pt x="1" y="225"/>
                  </a:lnTo>
                  <a:lnTo>
                    <a:pt x="0" y="220"/>
                  </a:lnTo>
                  <a:lnTo>
                    <a:pt x="0" y="216"/>
                  </a:lnTo>
                  <a:lnTo>
                    <a:pt x="0" y="45"/>
                  </a:lnTo>
                  <a:close/>
                  <a:moveTo>
                    <a:pt x="5" y="215"/>
                  </a:moveTo>
                  <a:lnTo>
                    <a:pt x="6" y="220"/>
                  </a:lnTo>
                  <a:lnTo>
                    <a:pt x="6" y="224"/>
                  </a:lnTo>
                  <a:lnTo>
                    <a:pt x="8" y="228"/>
                  </a:lnTo>
                  <a:lnTo>
                    <a:pt x="9" y="231"/>
                  </a:lnTo>
                  <a:lnTo>
                    <a:pt x="12" y="235"/>
                  </a:lnTo>
                  <a:lnTo>
                    <a:pt x="14" y="238"/>
                  </a:lnTo>
                  <a:lnTo>
                    <a:pt x="17" y="241"/>
                  </a:lnTo>
                  <a:lnTo>
                    <a:pt x="20" y="244"/>
                  </a:lnTo>
                  <a:lnTo>
                    <a:pt x="24" y="247"/>
                  </a:lnTo>
                  <a:lnTo>
                    <a:pt x="28" y="249"/>
                  </a:lnTo>
                  <a:lnTo>
                    <a:pt x="32" y="251"/>
                  </a:lnTo>
                  <a:lnTo>
                    <a:pt x="37" y="253"/>
                  </a:lnTo>
                  <a:lnTo>
                    <a:pt x="41" y="254"/>
                  </a:lnTo>
                  <a:lnTo>
                    <a:pt x="46" y="255"/>
                  </a:lnTo>
                  <a:lnTo>
                    <a:pt x="51" y="256"/>
                  </a:lnTo>
                  <a:lnTo>
                    <a:pt x="57" y="256"/>
                  </a:lnTo>
                  <a:lnTo>
                    <a:pt x="954" y="256"/>
                  </a:lnTo>
                  <a:lnTo>
                    <a:pt x="960" y="256"/>
                  </a:lnTo>
                  <a:lnTo>
                    <a:pt x="965" y="255"/>
                  </a:lnTo>
                  <a:lnTo>
                    <a:pt x="970" y="254"/>
                  </a:lnTo>
                  <a:lnTo>
                    <a:pt x="975" y="253"/>
                  </a:lnTo>
                  <a:lnTo>
                    <a:pt x="979" y="251"/>
                  </a:lnTo>
                  <a:lnTo>
                    <a:pt x="983" y="249"/>
                  </a:lnTo>
                  <a:lnTo>
                    <a:pt x="987" y="247"/>
                  </a:lnTo>
                  <a:lnTo>
                    <a:pt x="991" y="244"/>
                  </a:lnTo>
                  <a:lnTo>
                    <a:pt x="994" y="241"/>
                  </a:lnTo>
                  <a:lnTo>
                    <a:pt x="997" y="238"/>
                  </a:lnTo>
                  <a:lnTo>
                    <a:pt x="1000" y="235"/>
                  </a:lnTo>
                  <a:lnTo>
                    <a:pt x="1002" y="231"/>
                  </a:lnTo>
                  <a:lnTo>
                    <a:pt x="1004" y="228"/>
                  </a:lnTo>
                  <a:lnTo>
                    <a:pt x="1005" y="224"/>
                  </a:lnTo>
                  <a:lnTo>
                    <a:pt x="1006" y="220"/>
                  </a:lnTo>
                  <a:lnTo>
                    <a:pt x="1006" y="216"/>
                  </a:lnTo>
                  <a:lnTo>
                    <a:pt x="1006" y="45"/>
                  </a:lnTo>
                  <a:lnTo>
                    <a:pt x="1006" y="41"/>
                  </a:lnTo>
                  <a:lnTo>
                    <a:pt x="1005" y="37"/>
                  </a:lnTo>
                  <a:lnTo>
                    <a:pt x="1004" y="33"/>
                  </a:lnTo>
                  <a:lnTo>
                    <a:pt x="1002" y="29"/>
                  </a:lnTo>
                  <a:lnTo>
                    <a:pt x="1000" y="26"/>
                  </a:lnTo>
                  <a:lnTo>
                    <a:pt x="997" y="22"/>
                  </a:lnTo>
                  <a:lnTo>
                    <a:pt x="994" y="19"/>
                  </a:lnTo>
                  <a:lnTo>
                    <a:pt x="991" y="16"/>
                  </a:lnTo>
                  <a:lnTo>
                    <a:pt x="987" y="14"/>
                  </a:lnTo>
                  <a:lnTo>
                    <a:pt x="984" y="11"/>
                  </a:lnTo>
                  <a:lnTo>
                    <a:pt x="979" y="9"/>
                  </a:lnTo>
                  <a:lnTo>
                    <a:pt x="975" y="7"/>
                  </a:lnTo>
                  <a:lnTo>
                    <a:pt x="970" y="6"/>
                  </a:lnTo>
                  <a:lnTo>
                    <a:pt x="965" y="5"/>
                  </a:lnTo>
                  <a:lnTo>
                    <a:pt x="960" y="5"/>
                  </a:lnTo>
                  <a:lnTo>
                    <a:pt x="955" y="4"/>
                  </a:lnTo>
                  <a:lnTo>
                    <a:pt x="57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42" y="6"/>
                  </a:lnTo>
                  <a:lnTo>
                    <a:pt x="37" y="7"/>
                  </a:lnTo>
                  <a:lnTo>
                    <a:pt x="33" y="9"/>
                  </a:lnTo>
                  <a:lnTo>
                    <a:pt x="28" y="11"/>
                  </a:lnTo>
                  <a:lnTo>
                    <a:pt x="24" y="13"/>
                  </a:lnTo>
                  <a:lnTo>
                    <a:pt x="21" y="16"/>
                  </a:lnTo>
                  <a:lnTo>
                    <a:pt x="17" y="19"/>
                  </a:lnTo>
                  <a:lnTo>
                    <a:pt x="14" y="22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5" y="45"/>
                  </a:lnTo>
                  <a:lnTo>
                    <a:pt x="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Rectangle 20"/>
            <p:cNvSpPr/>
            <p:nvPr/>
          </p:nvSpPr>
          <p:spPr>
            <a:xfrm>
              <a:off x="6912000" y="4332240"/>
              <a:ext cx="58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16489f"/>
                  </a:solidFill>
                  <a:latin typeface="Arial"/>
                  <a:ea typeface="Arial"/>
                </a:rPr>
                <a:t>ЕЗФРСР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Freeform 21"/>
            <p:cNvSpPr/>
            <p:nvPr/>
          </p:nvSpPr>
          <p:spPr>
            <a:xfrm>
              <a:off x="6554880" y="4928040"/>
              <a:ext cx="1117800" cy="285480"/>
            </a:xfrm>
            <a:custGeom>
              <a:avLst/>
              <a:gdLst>
                <a:gd name="textAreaLeft" fmla="*/ 0 w 1117800"/>
                <a:gd name="textAreaRight" fmla="*/ 1118160 w 11178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4364" h="1408">
                  <a:moveTo>
                    <a:pt x="0" y="235"/>
                  </a:moveTo>
                  <a:cubicBezTo>
                    <a:pt x="0" y="106"/>
                    <a:pt x="106" y="0"/>
                    <a:pt x="235" y="0"/>
                  </a:cubicBezTo>
                  <a:lnTo>
                    <a:pt x="4130" y="0"/>
                  </a:lnTo>
                  <a:cubicBezTo>
                    <a:pt x="4259" y="0"/>
                    <a:pt x="4364" y="106"/>
                    <a:pt x="4364" y="235"/>
                  </a:cubicBezTo>
                  <a:lnTo>
                    <a:pt x="4364" y="1174"/>
                  </a:lnTo>
                  <a:cubicBezTo>
                    <a:pt x="4364" y="1303"/>
                    <a:pt x="4259" y="1408"/>
                    <a:pt x="4130" y="1408"/>
                  </a:cubicBezTo>
                  <a:lnTo>
                    <a:pt x="235" y="1408"/>
                  </a:lnTo>
                  <a:cubicBezTo>
                    <a:pt x="106" y="1408"/>
                    <a:pt x="0" y="1303"/>
                    <a:pt x="0" y="1174"/>
                  </a:cubicBezTo>
                  <a:lnTo>
                    <a:pt x="0" y="235"/>
                  </a:lnTo>
                  <a:close/>
                </a:path>
              </a:pathLst>
            </a:custGeom>
            <a:solidFill>
              <a:srgbClr val="00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Freeform 22"/>
            <p:cNvSpPr/>
            <p:nvPr/>
          </p:nvSpPr>
          <p:spPr>
            <a:xfrm>
              <a:off x="6551640" y="4925880"/>
              <a:ext cx="1123200" cy="289800"/>
            </a:xfrm>
            <a:custGeom>
              <a:avLst/>
              <a:gdLst>
                <a:gd name="textAreaLeft" fmla="*/ 0 w 1123200"/>
                <a:gd name="textAreaRight" fmla="*/ 1123560 w 112320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1011" h="261">
                  <a:moveTo>
                    <a:pt x="0" y="45"/>
                  </a:moveTo>
                  <a:lnTo>
                    <a:pt x="0" y="41"/>
                  </a:lnTo>
                  <a:lnTo>
                    <a:pt x="1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7" y="24"/>
                  </a:lnTo>
                  <a:lnTo>
                    <a:pt x="9" y="20"/>
                  </a:lnTo>
                  <a:lnTo>
                    <a:pt x="13" y="17"/>
                  </a:lnTo>
                  <a:lnTo>
                    <a:pt x="16" y="13"/>
                  </a:lnTo>
                  <a:lnTo>
                    <a:pt x="21" y="11"/>
                  </a:lnTo>
                  <a:lnTo>
                    <a:pt x="25" y="8"/>
                  </a:lnTo>
                  <a:lnTo>
                    <a:pt x="30" y="6"/>
                  </a:lnTo>
                  <a:lnTo>
                    <a:pt x="35" y="4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1" y="1"/>
                  </a:lnTo>
                  <a:lnTo>
                    <a:pt x="57" y="0"/>
                  </a:lnTo>
                  <a:lnTo>
                    <a:pt x="955" y="0"/>
                  </a:lnTo>
                  <a:lnTo>
                    <a:pt x="960" y="1"/>
                  </a:lnTo>
                  <a:lnTo>
                    <a:pt x="966" y="1"/>
                  </a:lnTo>
                  <a:lnTo>
                    <a:pt x="972" y="2"/>
                  </a:lnTo>
                  <a:lnTo>
                    <a:pt x="977" y="4"/>
                  </a:lnTo>
                  <a:lnTo>
                    <a:pt x="982" y="6"/>
                  </a:lnTo>
                  <a:lnTo>
                    <a:pt x="986" y="8"/>
                  </a:lnTo>
                  <a:lnTo>
                    <a:pt x="991" y="11"/>
                  </a:lnTo>
                  <a:lnTo>
                    <a:pt x="995" y="13"/>
                  </a:lnTo>
                  <a:lnTo>
                    <a:pt x="998" y="17"/>
                  </a:lnTo>
                  <a:lnTo>
                    <a:pt x="1002" y="20"/>
                  </a:lnTo>
                  <a:lnTo>
                    <a:pt x="1004" y="24"/>
                  </a:lnTo>
                  <a:lnTo>
                    <a:pt x="1007" y="28"/>
                  </a:lnTo>
                  <a:lnTo>
                    <a:pt x="1009" y="32"/>
                  </a:lnTo>
                  <a:lnTo>
                    <a:pt x="1010" y="36"/>
                  </a:lnTo>
                  <a:lnTo>
                    <a:pt x="1011" y="40"/>
                  </a:lnTo>
                  <a:lnTo>
                    <a:pt x="1011" y="45"/>
                  </a:lnTo>
                  <a:lnTo>
                    <a:pt x="1011" y="216"/>
                  </a:lnTo>
                  <a:lnTo>
                    <a:pt x="1011" y="221"/>
                  </a:lnTo>
                  <a:lnTo>
                    <a:pt x="1010" y="225"/>
                  </a:lnTo>
                  <a:lnTo>
                    <a:pt x="1009" y="229"/>
                  </a:lnTo>
                  <a:lnTo>
                    <a:pt x="1007" y="233"/>
                  </a:lnTo>
                  <a:lnTo>
                    <a:pt x="1005" y="237"/>
                  </a:lnTo>
                  <a:lnTo>
                    <a:pt x="1002" y="241"/>
                  </a:lnTo>
                  <a:lnTo>
                    <a:pt x="999" y="244"/>
                  </a:lnTo>
                  <a:lnTo>
                    <a:pt x="995" y="248"/>
                  </a:lnTo>
                  <a:lnTo>
                    <a:pt x="991" y="251"/>
                  </a:lnTo>
                  <a:lnTo>
                    <a:pt x="986" y="253"/>
                  </a:lnTo>
                  <a:lnTo>
                    <a:pt x="982" y="255"/>
                  </a:lnTo>
                  <a:lnTo>
                    <a:pt x="977" y="257"/>
                  </a:lnTo>
                  <a:lnTo>
                    <a:pt x="972" y="259"/>
                  </a:lnTo>
                  <a:lnTo>
                    <a:pt x="966" y="260"/>
                  </a:lnTo>
                  <a:lnTo>
                    <a:pt x="961" y="261"/>
                  </a:lnTo>
                  <a:lnTo>
                    <a:pt x="955" y="261"/>
                  </a:lnTo>
                  <a:lnTo>
                    <a:pt x="57" y="261"/>
                  </a:lnTo>
                  <a:lnTo>
                    <a:pt x="51" y="261"/>
                  </a:lnTo>
                  <a:lnTo>
                    <a:pt x="45" y="260"/>
                  </a:lnTo>
                  <a:lnTo>
                    <a:pt x="40" y="259"/>
                  </a:lnTo>
                  <a:lnTo>
                    <a:pt x="35" y="257"/>
                  </a:lnTo>
                  <a:lnTo>
                    <a:pt x="30" y="255"/>
                  </a:lnTo>
                  <a:lnTo>
                    <a:pt x="25" y="253"/>
                  </a:lnTo>
                  <a:lnTo>
                    <a:pt x="21" y="251"/>
                  </a:lnTo>
                  <a:lnTo>
                    <a:pt x="17" y="248"/>
                  </a:lnTo>
                  <a:lnTo>
                    <a:pt x="13" y="245"/>
                  </a:lnTo>
                  <a:lnTo>
                    <a:pt x="10" y="241"/>
                  </a:lnTo>
                  <a:lnTo>
                    <a:pt x="7" y="237"/>
                  </a:lnTo>
                  <a:lnTo>
                    <a:pt x="4" y="233"/>
                  </a:lnTo>
                  <a:lnTo>
                    <a:pt x="3" y="229"/>
                  </a:lnTo>
                  <a:lnTo>
                    <a:pt x="1" y="225"/>
                  </a:lnTo>
                  <a:lnTo>
                    <a:pt x="0" y="221"/>
                  </a:lnTo>
                  <a:lnTo>
                    <a:pt x="0" y="216"/>
                  </a:lnTo>
                  <a:lnTo>
                    <a:pt x="0" y="45"/>
                  </a:lnTo>
                  <a:close/>
                  <a:moveTo>
                    <a:pt x="5" y="216"/>
                  </a:moveTo>
                  <a:lnTo>
                    <a:pt x="6" y="220"/>
                  </a:lnTo>
                  <a:lnTo>
                    <a:pt x="6" y="224"/>
                  </a:lnTo>
                  <a:lnTo>
                    <a:pt x="8" y="228"/>
                  </a:lnTo>
                  <a:lnTo>
                    <a:pt x="9" y="232"/>
                  </a:lnTo>
                  <a:lnTo>
                    <a:pt x="12" y="235"/>
                  </a:lnTo>
                  <a:lnTo>
                    <a:pt x="14" y="239"/>
                  </a:lnTo>
                  <a:lnTo>
                    <a:pt x="17" y="242"/>
                  </a:lnTo>
                  <a:lnTo>
                    <a:pt x="20" y="245"/>
                  </a:lnTo>
                  <a:lnTo>
                    <a:pt x="24" y="247"/>
                  </a:lnTo>
                  <a:lnTo>
                    <a:pt x="28" y="249"/>
                  </a:lnTo>
                  <a:lnTo>
                    <a:pt x="32" y="251"/>
                  </a:lnTo>
                  <a:lnTo>
                    <a:pt x="37" y="253"/>
                  </a:lnTo>
                  <a:lnTo>
                    <a:pt x="41" y="255"/>
                  </a:lnTo>
                  <a:lnTo>
                    <a:pt x="46" y="256"/>
                  </a:lnTo>
                  <a:lnTo>
                    <a:pt x="51" y="256"/>
                  </a:lnTo>
                  <a:lnTo>
                    <a:pt x="57" y="256"/>
                  </a:lnTo>
                  <a:lnTo>
                    <a:pt x="954" y="256"/>
                  </a:lnTo>
                  <a:lnTo>
                    <a:pt x="960" y="256"/>
                  </a:lnTo>
                  <a:lnTo>
                    <a:pt x="965" y="256"/>
                  </a:lnTo>
                  <a:lnTo>
                    <a:pt x="970" y="255"/>
                  </a:lnTo>
                  <a:lnTo>
                    <a:pt x="975" y="253"/>
                  </a:lnTo>
                  <a:lnTo>
                    <a:pt x="979" y="252"/>
                  </a:lnTo>
                  <a:lnTo>
                    <a:pt x="983" y="250"/>
                  </a:lnTo>
                  <a:lnTo>
                    <a:pt x="987" y="247"/>
                  </a:lnTo>
                  <a:lnTo>
                    <a:pt x="991" y="245"/>
                  </a:lnTo>
                  <a:lnTo>
                    <a:pt x="994" y="242"/>
                  </a:lnTo>
                  <a:lnTo>
                    <a:pt x="997" y="239"/>
                  </a:lnTo>
                  <a:lnTo>
                    <a:pt x="1000" y="235"/>
                  </a:lnTo>
                  <a:lnTo>
                    <a:pt x="1002" y="232"/>
                  </a:lnTo>
                  <a:lnTo>
                    <a:pt x="1004" y="228"/>
                  </a:lnTo>
                  <a:lnTo>
                    <a:pt x="1005" y="224"/>
                  </a:lnTo>
                  <a:lnTo>
                    <a:pt x="1006" y="220"/>
                  </a:lnTo>
                  <a:lnTo>
                    <a:pt x="1006" y="216"/>
                  </a:lnTo>
                  <a:lnTo>
                    <a:pt x="1006" y="45"/>
                  </a:lnTo>
                  <a:lnTo>
                    <a:pt x="1006" y="41"/>
                  </a:lnTo>
                  <a:lnTo>
                    <a:pt x="1005" y="37"/>
                  </a:lnTo>
                  <a:lnTo>
                    <a:pt x="1004" y="33"/>
                  </a:lnTo>
                  <a:lnTo>
                    <a:pt x="1002" y="30"/>
                  </a:lnTo>
                  <a:lnTo>
                    <a:pt x="1000" y="26"/>
                  </a:lnTo>
                  <a:lnTo>
                    <a:pt x="997" y="23"/>
                  </a:lnTo>
                  <a:lnTo>
                    <a:pt x="994" y="20"/>
                  </a:lnTo>
                  <a:lnTo>
                    <a:pt x="991" y="17"/>
                  </a:lnTo>
                  <a:lnTo>
                    <a:pt x="987" y="14"/>
                  </a:lnTo>
                  <a:lnTo>
                    <a:pt x="984" y="12"/>
                  </a:lnTo>
                  <a:lnTo>
                    <a:pt x="979" y="10"/>
                  </a:lnTo>
                  <a:lnTo>
                    <a:pt x="975" y="8"/>
                  </a:lnTo>
                  <a:lnTo>
                    <a:pt x="970" y="7"/>
                  </a:lnTo>
                  <a:lnTo>
                    <a:pt x="965" y="5"/>
                  </a:lnTo>
                  <a:lnTo>
                    <a:pt x="960" y="5"/>
                  </a:lnTo>
                  <a:lnTo>
                    <a:pt x="955" y="5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42" y="6"/>
                  </a:lnTo>
                  <a:lnTo>
                    <a:pt x="37" y="8"/>
                  </a:lnTo>
                  <a:lnTo>
                    <a:pt x="33" y="9"/>
                  </a:lnTo>
                  <a:lnTo>
                    <a:pt x="28" y="11"/>
                  </a:lnTo>
                  <a:lnTo>
                    <a:pt x="24" y="14"/>
                  </a:lnTo>
                  <a:lnTo>
                    <a:pt x="21" y="16"/>
                  </a:lnTo>
                  <a:lnTo>
                    <a:pt x="17" y="19"/>
                  </a:lnTo>
                  <a:lnTo>
                    <a:pt x="14" y="22"/>
                  </a:lnTo>
                  <a:lnTo>
                    <a:pt x="12" y="26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5" y="45"/>
                  </a:lnTo>
                  <a:lnTo>
                    <a:pt x="5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Rectangle 23"/>
            <p:cNvSpPr/>
            <p:nvPr/>
          </p:nvSpPr>
          <p:spPr>
            <a:xfrm>
              <a:off x="6951960" y="4971240"/>
              <a:ext cx="52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16489f"/>
                  </a:solidFill>
                  <a:latin typeface="Arial"/>
                  <a:ea typeface="Arial"/>
                </a:rPr>
                <a:t>ЕФМДР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Rectangle 24"/>
            <p:cNvSpPr/>
            <p:nvPr/>
          </p:nvSpPr>
          <p:spPr>
            <a:xfrm>
              <a:off x="2081880" y="6210720"/>
              <a:ext cx="1676880" cy="284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Freeform 25"/>
            <p:cNvSpPr/>
            <p:nvPr/>
          </p:nvSpPr>
          <p:spPr>
            <a:xfrm>
              <a:off x="2079360" y="6208560"/>
              <a:ext cx="1682640" cy="28908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514" h="260">
                  <a:moveTo>
                    <a:pt x="0" y="0"/>
                  </a:moveTo>
                  <a:lnTo>
                    <a:pt x="1514" y="0"/>
                  </a:lnTo>
                  <a:lnTo>
                    <a:pt x="1514" y="260"/>
                  </a:lnTo>
                  <a:lnTo>
                    <a:pt x="0" y="260"/>
                  </a:lnTo>
                  <a:lnTo>
                    <a:pt x="0" y="0"/>
                  </a:lnTo>
                  <a:close/>
                  <a:moveTo>
                    <a:pt x="5" y="258"/>
                  </a:moveTo>
                  <a:lnTo>
                    <a:pt x="2" y="256"/>
                  </a:lnTo>
                  <a:lnTo>
                    <a:pt x="1511" y="256"/>
                  </a:lnTo>
                  <a:lnTo>
                    <a:pt x="1508" y="258"/>
                  </a:lnTo>
                  <a:lnTo>
                    <a:pt x="1508" y="2"/>
                  </a:lnTo>
                  <a:lnTo>
                    <a:pt x="1511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Rectangle 26"/>
            <p:cNvSpPr/>
            <p:nvPr/>
          </p:nvSpPr>
          <p:spPr>
            <a:xfrm>
              <a:off x="2375280" y="6239880"/>
              <a:ext cx="1026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16489f"/>
                  </a:solidFill>
                  <a:latin typeface="Arial"/>
                  <a:ea typeface="Arial"/>
                </a:rPr>
                <a:t>местни власти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Rectangle 27"/>
            <p:cNvSpPr/>
            <p:nvPr/>
          </p:nvSpPr>
          <p:spPr>
            <a:xfrm>
              <a:off x="3758760" y="6210720"/>
              <a:ext cx="2124720" cy="284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Freeform 28"/>
            <p:cNvSpPr/>
            <p:nvPr/>
          </p:nvSpPr>
          <p:spPr>
            <a:xfrm>
              <a:off x="3755520" y="6208560"/>
              <a:ext cx="2130480" cy="28908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917" h="260">
                  <a:moveTo>
                    <a:pt x="0" y="0"/>
                  </a:moveTo>
                  <a:lnTo>
                    <a:pt x="1917" y="0"/>
                  </a:lnTo>
                  <a:lnTo>
                    <a:pt x="1917" y="260"/>
                  </a:lnTo>
                  <a:lnTo>
                    <a:pt x="0" y="260"/>
                  </a:lnTo>
                  <a:lnTo>
                    <a:pt x="0" y="0"/>
                  </a:lnTo>
                  <a:close/>
                  <a:moveTo>
                    <a:pt x="6" y="258"/>
                  </a:moveTo>
                  <a:lnTo>
                    <a:pt x="3" y="256"/>
                  </a:lnTo>
                  <a:lnTo>
                    <a:pt x="1915" y="256"/>
                  </a:lnTo>
                  <a:lnTo>
                    <a:pt x="1912" y="258"/>
                  </a:lnTo>
                  <a:lnTo>
                    <a:pt x="1912" y="2"/>
                  </a:lnTo>
                  <a:lnTo>
                    <a:pt x="1915" y="4"/>
                  </a:lnTo>
                  <a:lnTo>
                    <a:pt x="3" y="4"/>
                  </a:lnTo>
                  <a:lnTo>
                    <a:pt x="6" y="2"/>
                  </a:lnTo>
                  <a:lnTo>
                    <a:pt x="6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Rectangle 29"/>
            <p:cNvSpPr/>
            <p:nvPr/>
          </p:nvSpPr>
          <p:spPr>
            <a:xfrm>
              <a:off x="4247640" y="6239880"/>
              <a:ext cx="1015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16489f"/>
                  </a:solidFill>
                  <a:latin typeface="Arial"/>
                  <a:ea typeface="Arial"/>
                </a:rPr>
                <a:t>местен бизнес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Rectangle 30"/>
            <p:cNvSpPr/>
            <p:nvPr/>
          </p:nvSpPr>
          <p:spPr>
            <a:xfrm>
              <a:off x="5883840" y="6210720"/>
              <a:ext cx="2609280" cy="284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Freeform 31"/>
            <p:cNvSpPr/>
            <p:nvPr/>
          </p:nvSpPr>
          <p:spPr>
            <a:xfrm>
              <a:off x="5880240" y="6208560"/>
              <a:ext cx="2612520" cy="289080"/>
            </a:xfrm>
            <a:custGeom>
              <a:avLst/>
              <a:gdLst>
                <a:gd name="textAreaLeft" fmla="*/ 0 w 2612520"/>
                <a:gd name="textAreaRight" fmla="*/ 2612880 w 26125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15" h="260">
                  <a:moveTo>
                    <a:pt x="0" y="0"/>
                  </a:moveTo>
                  <a:lnTo>
                    <a:pt x="1615" y="0"/>
                  </a:lnTo>
                  <a:lnTo>
                    <a:pt x="1615" y="260"/>
                  </a:lnTo>
                  <a:lnTo>
                    <a:pt x="0" y="260"/>
                  </a:lnTo>
                  <a:lnTo>
                    <a:pt x="0" y="0"/>
                  </a:lnTo>
                  <a:close/>
                  <a:moveTo>
                    <a:pt x="5" y="258"/>
                  </a:moveTo>
                  <a:lnTo>
                    <a:pt x="3" y="256"/>
                  </a:lnTo>
                  <a:lnTo>
                    <a:pt x="1613" y="256"/>
                  </a:lnTo>
                  <a:lnTo>
                    <a:pt x="1610" y="258"/>
                  </a:lnTo>
                  <a:lnTo>
                    <a:pt x="1610" y="2"/>
                  </a:lnTo>
                  <a:lnTo>
                    <a:pt x="161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Rectangle 32"/>
            <p:cNvSpPr/>
            <p:nvPr/>
          </p:nvSpPr>
          <p:spPr>
            <a:xfrm>
              <a:off x="5893920" y="6268320"/>
              <a:ext cx="2548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16489f"/>
                  </a:solidFill>
                  <a:latin typeface="Arial"/>
                  <a:ea typeface="Arial"/>
                </a:rPr>
                <a:t>местни НПО и гражданско общество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Oval 33"/>
            <p:cNvSpPr/>
            <p:nvPr/>
          </p:nvSpPr>
          <p:spPr>
            <a:xfrm>
              <a:off x="3312000" y="4572360"/>
              <a:ext cx="3019320" cy="426960"/>
            </a:xfrm>
            <a:prstGeom prst="ellipse">
              <a:avLst/>
            </a:prstGeom>
            <a:solidFill>
              <a:srgbClr val="99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Freeform 34"/>
            <p:cNvSpPr/>
            <p:nvPr/>
          </p:nvSpPr>
          <p:spPr>
            <a:xfrm>
              <a:off x="3308400" y="4570200"/>
              <a:ext cx="3026160" cy="432360"/>
            </a:xfrm>
            <a:custGeom>
              <a:avLst/>
              <a:gdLst>
                <a:gd name="textAreaLeft" fmla="*/ 0 w 3026160"/>
                <a:gd name="textAreaRight" fmla="*/ 3026520 w 302616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1809" h="2136">
                  <a:moveTo>
                    <a:pt x="1" y="1070"/>
                  </a:moveTo>
                  <a:cubicBezTo>
                    <a:pt x="0" y="1069"/>
                    <a:pt x="0" y="1068"/>
                    <a:pt x="1" y="1067"/>
                  </a:cubicBezTo>
                  <a:lnTo>
                    <a:pt x="8" y="1013"/>
                  </a:lnTo>
                  <a:cubicBezTo>
                    <a:pt x="8" y="1011"/>
                    <a:pt x="9" y="1010"/>
                    <a:pt x="9" y="1010"/>
                  </a:cubicBezTo>
                  <a:lnTo>
                    <a:pt x="32" y="956"/>
                  </a:lnTo>
                  <a:cubicBezTo>
                    <a:pt x="32" y="955"/>
                    <a:pt x="33" y="954"/>
                    <a:pt x="33" y="954"/>
                  </a:cubicBezTo>
                  <a:lnTo>
                    <a:pt x="71" y="901"/>
                  </a:lnTo>
                  <a:cubicBezTo>
                    <a:pt x="71" y="900"/>
                    <a:pt x="71" y="900"/>
                    <a:pt x="72" y="899"/>
                  </a:cubicBezTo>
                  <a:lnTo>
                    <a:pt x="124" y="847"/>
                  </a:lnTo>
                  <a:lnTo>
                    <a:pt x="191" y="795"/>
                  </a:lnTo>
                  <a:lnTo>
                    <a:pt x="271" y="744"/>
                  </a:lnTo>
                  <a:lnTo>
                    <a:pt x="364" y="695"/>
                  </a:lnTo>
                  <a:lnTo>
                    <a:pt x="470" y="647"/>
                  </a:lnTo>
                  <a:lnTo>
                    <a:pt x="589" y="600"/>
                  </a:lnTo>
                  <a:lnTo>
                    <a:pt x="720" y="554"/>
                  </a:lnTo>
                  <a:lnTo>
                    <a:pt x="862" y="510"/>
                  </a:lnTo>
                  <a:lnTo>
                    <a:pt x="1015" y="467"/>
                  </a:lnTo>
                  <a:lnTo>
                    <a:pt x="1180" y="425"/>
                  </a:lnTo>
                  <a:lnTo>
                    <a:pt x="1355" y="385"/>
                  </a:lnTo>
                  <a:lnTo>
                    <a:pt x="1541" y="347"/>
                  </a:lnTo>
                  <a:lnTo>
                    <a:pt x="1736" y="310"/>
                  </a:lnTo>
                  <a:lnTo>
                    <a:pt x="1941" y="275"/>
                  </a:lnTo>
                  <a:lnTo>
                    <a:pt x="2155" y="242"/>
                  </a:lnTo>
                  <a:lnTo>
                    <a:pt x="2378" y="210"/>
                  </a:lnTo>
                  <a:lnTo>
                    <a:pt x="2609" y="181"/>
                  </a:lnTo>
                  <a:lnTo>
                    <a:pt x="2848" y="154"/>
                  </a:lnTo>
                  <a:lnTo>
                    <a:pt x="3095" y="128"/>
                  </a:lnTo>
                  <a:lnTo>
                    <a:pt x="3349" y="105"/>
                  </a:lnTo>
                  <a:lnTo>
                    <a:pt x="3610" y="84"/>
                  </a:lnTo>
                  <a:lnTo>
                    <a:pt x="3878" y="64"/>
                  </a:lnTo>
                  <a:lnTo>
                    <a:pt x="4152" y="48"/>
                  </a:lnTo>
                  <a:lnTo>
                    <a:pt x="4431" y="34"/>
                  </a:lnTo>
                  <a:lnTo>
                    <a:pt x="4716" y="22"/>
                  </a:lnTo>
                  <a:lnTo>
                    <a:pt x="5007" y="13"/>
                  </a:lnTo>
                  <a:lnTo>
                    <a:pt x="5302" y="6"/>
                  </a:lnTo>
                  <a:lnTo>
                    <a:pt x="5601" y="2"/>
                  </a:lnTo>
                  <a:lnTo>
                    <a:pt x="5904" y="0"/>
                  </a:lnTo>
                  <a:lnTo>
                    <a:pt x="6208" y="2"/>
                  </a:lnTo>
                  <a:lnTo>
                    <a:pt x="6507" y="6"/>
                  </a:lnTo>
                  <a:lnTo>
                    <a:pt x="6802" y="13"/>
                  </a:lnTo>
                  <a:lnTo>
                    <a:pt x="7092" y="22"/>
                  </a:lnTo>
                  <a:lnTo>
                    <a:pt x="7377" y="34"/>
                  </a:lnTo>
                  <a:lnTo>
                    <a:pt x="7657" y="48"/>
                  </a:lnTo>
                  <a:lnTo>
                    <a:pt x="7931" y="64"/>
                  </a:lnTo>
                  <a:lnTo>
                    <a:pt x="8199" y="83"/>
                  </a:lnTo>
                  <a:lnTo>
                    <a:pt x="8460" y="105"/>
                  </a:lnTo>
                  <a:lnTo>
                    <a:pt x="8714" y="128"/>
                  </a:lnTo>
                  <a:lnTo>
                    <a:pt x="8961" y="154"/>
                  </a:lnTo>
                  <a:lnTo>
                    <a:pt x="9200" y="181"/>
                  </a:lnTo>
                  <a:lnTo>
                    <a:pt x="9431" y="210"/>
                  </a:lnTo>
                  <a:lnTo>
                    <a:pt x="9654" y="242"/>
                  </a:lnTo>
                  <a:lnTo>
                    <a:pt x="9868" y="275"/>
                  </a:lnTo>
                  <a:lnTo>
                    <a:pt x="10073" y="310"/>
                  </a:lnTo>
                  <a:lnTo>
                    <a:pt x="10268" y="347"/>
                  </a:lnTo>
                  <a:lnTo>
                    <a:pt x="10453" y="385"/>
                  </a:lnTo>
                  <a:lnTo>
                    <a:pt x="10629" y="425"/>
                  </a:lnTo>
                  <a:lnTo>
                    <a:pt x="10793" y="467"/>
                  </a:lnTo>
                  <a:lnTo>
                    <a:pt x="10947" y="509"/>
                  </a:lnTo>
                  <a:lnTo>
                    <a:pt x="11089" y="554"/>
                  </a:lnTo>
                  <a:lnTo>
                    <a:pt x="11219" y="599"/>
                  </a:lnTo>
                  <a:lnTo>
                    <a:pt x="11338" y="646"/>
                  </a:lnTo>
                  <a:lnTo>
                    <a:pt x="11444" y="695"/>
                  </a:lnTo>
                  <a:lnTo>
                    <a:pt x="11537" y="744"/>
                  </a:lnTo>
                  <a:lnTo>
                    <a:pt x="11617" y="795"/>
                  </a:lnTo>
                  <a:lnTo>
                    <a:pt x="11684" y="846"/>
                  </a:lnTo>
                  <a:lnTo>
                    <a:pt x="11737" y="899"/>
                  </a:lnTo>
                  <a:cubicBezTo>
                    <a:pt x="11737" y="900"/>
                    <a:pt x="11738" y="900"/>
                    <a:pt x="11738" y="901"/>
                  </a:cubicBezTo>
                  <a:lnTo>
                    <a:pt x="11776" y="954"/>
                  </a:lnTo>
                  <a:cubicBezTo>
                    <a:pt x="11776" y="954"/>
                    <a:pt x="11777" y="955"/>
                    <a:pt x="11777" y="956"/>
                  </a:cubicBezTo>
                  <a:lnTo>
                    <a:pt x="11800" y="1010"/>
                  </a:lnTo>
                  <a:cubicBezTo>
                    <a:pt x="11800" y="1010"/>
                    <a:pt x="11800" y="1011"/>
                    <a:pt x="11801" y="1013"/>
                  </a:cubicBezTo>
                  <a:lnTo>
                    <a:pt x="11808" y="1067"/>
                  </a:lnTo>
                  <a:cubicBezTo>
                    <a:pt x="11809" y="1068"/>
                    <a:pt x="11809" y="1069"/>
                    <a:pt x="11808" y="1070"/>
                  </a:cubicBezTo>
                  <a:lnTo>
                    <a:pt x="11801" y="1124"/>
                  </a:lnTo>
                  <a:cubicBezTo>
                    <a:pt x="11800" y="1125"/>
                    <a:pt x="11800" y="1126"/>
                    <a:pt x="11800" y="1127"/>
                  </a:cubicBezTo>
                  <a:lnTo>
                    <a:pt x="11777" y="1181"/>
                  </a:lnTo>
                  <a:cubicBezTo>
                    <a:pt x="11777" y="1182"/>
                    <a:pt x="11776" y="1183"/>
                    <a:pt x="11776" y="1183"/>
                  </a:cubicBezTo>
                  <a:lnTo>
                    <a:pt x="11738" y="1236"/>
                  </a:lnTo>
                  <a:cubicBezTo>
                    <a:pt x="11738" y="1237"/>
                    <a:pt x="11737" y="1237"/>
                    <a:pt x="11737" y="1238"/>
                  </a:cubicBezTo>
                  <a:lnTo>
                    <a:pt x="11685" y="1290"/>
                  </a:lnTo>
                  <a:lnTo>
                    <a:pt x="11618" y="1342"/>
                  </a:lnTo>
                  <a:lnTo>
                    <a:pt x="11538" y="1393"/>
                  </a:lnTo>
                  <a:lnTo>
                    <a:pt x="11445" y="1442"/>
                  </a:lnTo>
                  <a:lnTo>
                    <a:pt x="11338" y="1490"/>
                  </a:lnTo>
                  <a:lnTo>
                    <a:pt x="11220" y="1537"/>
                  </a:lnTo>
                  <a:lnTo>
                    <a:pt x="11089" y="1583"/>
                  </a:lnTo>
                  <a:lnTo>
                    <a:pt x="10947" y="1627"/>
                  </a:lnTo>
                  <a:lnTo>
                    <a:pt x="10793" y="1671"/>
                  </a:lnTo>
                  <a:lnTo>
                    <a:pt x="10629" y="1712"/>
                  </a:lnTo>
                  <a:lnTo>
                    <a:pt x="10454" y="1752"/>
                  </a:lnTo>
                  <a:lnTo>
                    <a:pt x="10268" y="1790"/>
                  </a:lnTo>
                  <a:lnTo>
                    <a:pt x="10073" y="1827"/>
                  </a:lnTo>
                  <a:lnTo>
                    <a:pt x="9868" y="1862"/>
                  </a:lnTo>
                  <a:lnTo>
                    <a:pt x="9654" y="1895"/>
                  </a:lnTo>
                  <a:lnTo>
                    <a:pt x="9431" y="1927"/>
                  </a:lnTo>
                  <a:lnTo>
                    <a:pt x="9200" y="1956"/>
                  </a:lnTo>
                  <a:lnTo>
                    <a:pt x="8961" y="1984"/>
                  </a:lnTo>
                  <a:lnTo>
                    <a:pt x="8714" y="2009"/>
                  </a:lnTo>
                  <a:lnTo>
                    <a:pt x="8460" y="2032"/>
                  </a:lnTo>
                  <a:lnTo>
                    <a:pt x="8199" y="2053"/>
                  </a:lnTo>
                  <a:lnTo>
                    <a:pt x="7931" y="2072"/>
                  </a:lnTo>
                  <a:lnTo>
                    <a:pt x="7657" y="2089"/>
                  </a:lnTo>
                  <a:lnTo>
                    <a:pt x="7378" y="2103"/>
                  </a:lnTo>
                  <a:lnTo>
                    <a:pt x="7092" y="2115"/>
                  </a:lnTo>
                  <a:lnTo>
                    <a:pt x="6802" y="2124"/>
                  </a:lnTo>
                  <a:lnTo>
                    <a:pt x="6507" y="2131"/>
                  </a:lnTo>
                  <a:lnTo>
                    <a:pt x="6208" y="2135"/>
                  </a:lnTo>
                  <a:lnTo>
                    <a:pt x="5905" y="2136"/>
                  </a:lnTo>
                  <a:lnTo>
                    <a:pt x="5601" y="2135"/>
                  </a:lnTo>
                  <a:lnTo>
                    <a:pt x="5302" y="2131"/>
                  </a:lnTo>
                  <a:lnTo>
                    <a:pt x="5007" y="2124"/>
                  </a:lnTo>
                  <a:lnTo>
                    <a:pt x="4717" y="2115"/>
                  </a:lnTo>
                  <a:lnTo>
                    <a:pt x="4431" y="2103"/>
                  </a:lnTo>
                  <a:lnTo>
                    <a:pt x="4152" y="2089"/>
                  </a:lnTo>
                  <a:lnTo>
                    <a:pt x="3878" y="2072"/>
                  </a:lnTo>
                  <a:lnTo>
                    <a:pt x="3610" y="2053"/>
                  </a:lnTo>
                  <a:lnTo>
                    <a:pt x="3349" y="2032"/>
                  </a:lnTo>
                  <a:lnTo>
                    <a:pt x="3095" y="2009"/>
                  </a:lnTo>
                  <a:lnTo>
                    <a:pt x="2848" y="1984"/>
                  </a:lnTo>
                  <a:lnTo>
                    <a:pt x="2609" y="1956"/>
                  </a:lnTo>
                  <a:lnTo>
                    <a:pt x="2378" y="1927"/>
                  </a:lnTo>
                  <a:lnTo>
                    <a:pt x="2155" y="1895"/>
                  </a:lnTo>
                  <a:lnTo>
                    <a:pt x="1941" y="1862"/>
                  </a:lnTo>
                  <a:lnTo>
                    <a:pt x="1736" y="1827"/>
                  </a:lnTo>
                  <a:lnTo>
                    <a:pt x="1541" y="1790"/>
                  </a:lnTo>
                  <a:lnTo>
                    <a:pt x="1356" y="1752"/>
                  </a:lnTo>
                  <a:lnTo>
                    <a:pt x="1180" y="1712"/>
                  </a:lnTo>
                  <a:lnTo>
                    <a:pt x="1016" y="1671"/>
                  </a:lnTo>
                  <a:lnTo>
                    <a:pt x="862" y="1628"/>
                  </a:lnTo>
                  <a:lnTo>
                    <a:pt x="720" y="1583"/>
                  </a:lnTo>
                  <a:lnTo>
                    <a:pt x="590" y="1538"/>
                  </a:lnTo>
                  <a:lnTo>
                    <a:pt x="471" y="1491"/>
                  </a:lnTo>
                  <a:lnTo>
                    <a:pt x="365" y="1442"/>
                  </a:lnTo>
                  <a:lnTo>
                    <a:pt x="272" y="1393"/>
                  </a:lnTo>
                  <a:lnTo>
                    <a:pt x="192" y="1343"/>
                  </a:lnTo>
                  <a:lnTo>
                    <a:pt x="125" y="1291"/>
                  </a:lnTo>
                  <a:lnTo>
                    <a:pt x="72" y="1238"/>
                  </a:lnTo>
                  <a:cubicBezTo>
                    <a:pt x="71" y="1237"/>
                    <a:pt x="71" y="1237"/>
                    <a:pt x="71" y="1236"/>
                  </a:cubicBezTo>
                  <a:lnTo>
                    <a:pt x="33" y="1183"/>
                  </a:lnTo>
                  <a:cubicBezTo>
                    <a:pt x="33" y="1183"/>
                    <a:pt x="32" y="1182"/>
                    <a:pt x="32" y="1181"/>
                  </a:cubicBezTo>
                  <a:lnTo>
                    <a:pt x="9" y="1127"/>
                  </a:lnTo>
                  <a:cubicBezTo>
                    <a:pt x="9" y="1126"/>
                    <a:pt x="8" y="1125"/>
                    <a:pt x="8" y="1124"/>
                  </a:cubicBezTo>
                  <a:lnTo>
                    <a:pt x="1" y="1070"/>
                  </a:lnTo>
                  <a:close/>
                  <a:moveTo>
                    <a:pt x="32" y="1121"/>
                  </a:moveTo>
                  <a:lnTo>
                    <a:pt x="31" y="1118"/>
                  </a:lnTo>
                  <a:lnTo>
                    <a:pt x="54" y="1172"/>
                  </a:lnTo>
                  <a:lnTo>
                    <a:pt x="53" y="1170"/>
                  </a:lnTo>
                  <a:lnTo>
                    <a:pt x="90" y="1222"/>
                  </a:lnTo>
                  <a:lnTo>
                    <a:pt x="89" y="1221"/>
                  </a:lnTo>
                  <a:lnTo>
                    <a:pt x="140" y="1272"/>
                  </a:lnTo>
                  <a:lnTo>
                    <a:pt x="204" y="1322"/>
                  </a:lnTo>
                  <a:lnTo>
                    <a:pt x="283" y="1372"/>
                  </a:lnTo>
                  <a:lnTo>
                    <a:pt x="375" y="1421"/>
                  </a:lnTo>
                  <a:lnTo>
                    <a:pt x="480" y="1468"/>
                  </a:lnTo>
                  <a:lnTo>
                    <a:pt x="597" y="1515"/>
                  </a:lnTo>
                  <a:lnTo>
                    <a:pt x="727" y="1560"/>
                  </a:lnTo>
                  <a:lnTo>
                    <a:pt x="869" y="1604"/>
                  </a:lnTo>
                  <a:lnTo>
                    <a:pt x="1022" y="1647"/>
                  </a:lnTo>
                  <a:lnTo>
                    <a:pt x="1186" y="1689"/>
                  </a:lnTo>
                  <a:lnTo>
                    <a:pt x="1360" y="1728"/>
                  </a:lnTo>
                  <a:lnTo>
                    <a:pt x="1545" y="1767"/>
                  </a:lnTo>
                  <a:lnTo>
                    <a:pt x="1740" y="1803"/>
                  </a:lnTo>
                  <a:lnTo>
                    <a:pt x="1945" y="1838"/>
                  </a:lnTo>
                  <a:lnTo>
                    <a:pt x="2158" y="1871"/>
                  </a:lnTo>
                  <a:lnTo>
                    <a:pt x="2381" y="1903"/>
                  </a:lnTo>
                  <a:lnTo>
                    <a:pt x="2612" y="1932"/>
                  </a:lnTo>
                  <a:lnTo>
                    <a:pt x="2850" y="1960"/>
                  </a:lnTo>
                  <a:lnTo>
                    <a:pt x="3097" y="1985"/>
                  </a:lnTo>
                  <a:lnTo>
                    <a:pt x="3351" y="2008"/>
                  </a:lnTo>
                  <a:lnTo>
                    <a:pt x="3612" y="2029"/>
                  </a:lnTo>
                  <a:lnTo>
                    <a:pt x="3879" y="2048"/>
                  </a:lnTo>
                  <a:lnTo>
                    <a:pt x="4153" y="2065"/>
                  </a:lnTo>
                  <a:lnTo>
                    <a:pt x="4432" y="2079"/>
                  </a:lnTo>
                  <a:lnTo>
                    <a:pt x="4717" y="2091"/>
                  </a:lnTo>
                  <a:lnTo>
                    <a:pt x="5007" y="2100"/>
                  </a:lnTo>
                  <a:lnTo>
                    <a:pt x="5302" y="2107"/>
                  </a:lnTo>
                  <a:lnTo>
                    <a:pt x="5601" y="2111"/>
                  </a:lnTo>
                  <a:lnTo>
                    <a:pt x="5904" y="2112"/>
                  </a:lnTo>
                  <a:lnTo>
                    <a:pt x="6208" y="2111"/>
                  </a:lnTo>
                  <a:lnTo>
                    <a:pt x="6507" y="2107"/>
                  </a:lnTo>
                  <a:lnTo>
                    <a:pt x="6801" y="2100"/>
                  </a:lnTo>
                  <a:lnTo>
                    <a:pt x="7091" y="2091"/>
                  </a:lnTo>
                  <a:lnTo>
                    <a:pt x="7376" y="2079"/>
                  </a:lnTo>
                  <a:lnTo>
                    <a:pt x="7656" y="2065"/>
                  </a:lnTo>
                  <a:lnTo>
                    <a:pt x="7930" y="2048"/>
                  </a:lnTo>
                  <a:lnTo>
                    <a:pt x="8197" y="2030"/>
                  </a:lnTo>
                  <a:lnTo>
                    <a:pt x="8458" y="2008"/>
                  </a:lnTo>
                  <a:lnTo>
                    <a:pt x="8712" y="1985"/>
                  </a:lnTo>
                  <a:lnTo>
                    <a:pt x="8958" y="1960"/>
                  </a:lnTo>
                  <a:lnTo>
                    <a:pt x="9197" y="1932"/>
                  </a:lnTo>
                  <a:lnTo>
                    <a:pt x="9428" y="1903"/>
                  </a:lnTo>
                  <a:lnTo>
                    <a:pt x="9651" y="1871"/>
                  </a:lnTo>
                  <a:lnTo>
                    <a:pt x="9864" y="1838"/>
                  </a:lnTo>
                  <a:lnTo>
                    <a:pt x="10068" y="1803"/>
                  </a:lnTo>
                  <a:lnTo>
                    <a:pt x="10264" y="1767"/>
                  </a:lnTo>
                  <a:lnTo>
                    <a:pt x="10448" y="1729"/>
                  </a:lnTo>
                  <a:lnTo>
                    <a:pt x="10623" y="1689"/>
                  </a:lnTo>
                  <a:lnTo>
                    <a:pt x="10787" y="1647"/>
                  </a:lnTo>
                  <a:lnTo>
                    <a:pt x="10940" y="1605"/>
                  </a:lnTo>
                  <a:lnTo>
                    <a:pt x="11082" y="1560"/>
                  </a:lnTo>
                  <a:lnTo>
                    <a:pt x="11211" y="1515"/>
                  </a:lnTo>
                  <a:lnTo>
                    <a:pt x="11328" y="1469"/>
                  </a:lnTo>
                  <a:lnTo>
                    <a:pt x="11433" y="1421"/>
                  </a:lnTo>
                  <a:lnTo>
                    <a:pt x="11525" y="1372"/>
                  </a:lnTo>
                  <a:lnTo>
                    <a:pt x="11604" y="1323"/>
                  </a:lnTo>
                  <a:lnTo>
                    <a:pt x="11668" y="1273"/>
                  </a:lnTo>
                  <a:lnTo>
                    <a:pt x="11720" y="1221"/>
                  </a:lnTo>
                  <a:lnTo>
                    <a:pt x="11719" y="1222"/>
                  </a:lnTo>
                  <a:lnTo>
                    <a:pt x="11756" y="1170"/>
                  </a:lnTo>
                  <a:lnTo>
                    <a:pt x="11755" y="1172"/>
                  </a:lnTo>
                  <a:lnTo>
                    <a:pt x="11778" y="1118"/>
                  </a:lnTo>
                  <a:lnTo>
                    <a:pt x="11777" y="1121"/>
                  </a:lnTo>
                  <a:lnTo>
                    <a:pt x="11785" y="1067"/>
                  </a:lnTo>
                  <a:lnTo>
                    <a:pt x="11785" y="1070"/>
                  </a:lnTo>
                  <a:lnTo>
                    <a:pt x="11777" y="1016"/>
                  </a:lnTo>
                  <a:lnTo>
                    <a:pt x="11778" y="1019"/>
                  </a:lnTo>
                  <a:lnTo>
                    <a:pt x="11755" y="965"/>
                  </a:lnTo>
                  <a:lnTo>
                    <a:pt x="11756" y="967"/>
                  </a:lnTo>
                  <a:lnTo>
                    <a:pt x="11719" y="915"/>
                  </a:lnTo>
                  <a:lnTo>
                    <a:pt x="11720" y="916"/>
                  </a:lnTo>
                  <a:lnTo>
                    <a:pt x="11669" y="865"/>
                  </a:lnTo>
                  <a:lnTo>
                    <a:pt x="11605" y="815"/>
                  </a:lnTo>
                  <a:lnTo>
                    <a:pt x="11526" y="765"/>
                  </a:lnTo>
                  <a:lnTo>
                    <a:pt x="11434" y="716"/>
                  </a:lnTo>
                  <a:lnTo>
                    <a:pt x="11329" y="669"/>
                  </a:lnTo>
                  <a:lnTo>
                    <a:pt x="11212" y="622"/>
                  </a:lnTo>
                  <a:lnTo>
                    <a:pt x="11082" y="577"/>
                  </a:lnTo>
                  <a:lnTo>
                    <a:pt x="10940" y="533"/>
                  </a:lnTo>
                  <a:lnTo>
                    <a:pt x="10787" y="490"/>
                  </a:lnTo>
                  <a:lnTo>
                    <a:pt x="10623" y="448"/>
                  </a:lnTo>
                  <a:lnTo>
                    <a:pt x="10449" y="408"/>
                  </a:lnTo>
                  <a:lnTo>
                    <a:pt x="10264" y="370"/>
                  </a:lnTo>
                  <a:lnTo>
                    <a:pt x="10069" y="334"/>
                  </a:lnTo>
                  <a:lnTo>
                    <a:pt x="9864" y="299"/>
                  </a:lnTo>
                  <a:lnTo>
                    <a:pt x="9651" y="266"/>
                  </a:lnTo>
                  <a:lnTo>
                    <a:pt x="9428" y="234"/>
                  </a:lnTo>
                  <a:lnTo>
                    <a:pt x="9197" y="205"/>
                  </a:lnTo>
                  <a:lnTo>
                    <a:pt x="8958" y="177"/>
                  </a:lnTo>
                  <a:lnTo>
                    <a:pt x="8712" y="152"/>
                  </a:lnTo>
                  <a:lnTo>
                    <a:pt x="8458" y="129"/>
                  </a:lnTo>
                  <a:lnTo>
                    <a:pt x="8197" y="107"/>
                  </a:lnTo>
                  <a:lnTo>
                    <a:pt x="7930" y="88"/>
                  </a:lnTo>
                  <a:lnTo>
                    <a:pt x="7656" y="72"/>
                  </a:lnTo>
                  <a:lnTo>
                    <a:pt x="7376" y="58"/>
                  </a:lnTo>
                  <a:lnTo>
                    <a:pt x="7092" y="46"/>
                  </a:lnTo>
                  <a:lnTo>
                    <a:pt x="6801" y="37"/>
                  </a:lnTo>
                  <a:lnTo>
                    <a:pt x="6507" y="30"/>
                  </a:lnTo>
                  <a:lnTo>
                    <a:pt x="6208" y="26"/>
                  </a:lnTo>
                  <a:lnTo>
                    <a:pt x="5905" y="24"/>
                  </a:lnTo>
                  <a:lnTo>
                    <a:pt x="5601" y="26"/>
                  </a:lnTo>
                  <a:lnTo>
                    <a:pt x="5302" y="30"/>
                  </a:lnTo>
                  <a:lnTo>
                    <a:pt x="5008" y="37"/>
                  </a:lnTo>
                  <a:lnTo>
                    <a:pt x="4717" y="46"/>
                  </a:lnTo>
                  <a:lnTo>
                    <a:pt x="4433" y="58"/>
                  </a:lnTo>
                  <a:lnTo>
                    <a:pt x="4153" y="72"/>
                  </a:lnTo>
                  <a:lnTo>
                    <a:pt x="3880" y="88"/>
                  </a:lnTo>
                  <a:lnTo>
                    <a:pt x="3612" y="107"/>
                  </a:lnTo>
                  <a:lnTo>
                    <a:pt x="3351" y="129"/>
                  </a:lnTo>
                  <a:lnTo>
                    <a:pt x="3097" y="152"/>
                  </a:lnTo>
                  <a:lnTo>
                    <a:pt x="2851" y="177"/>
                  </a:lnTo>
                  <a:lnTo>
                    <a:pt x="2612" y="205"/>
                  </a:lnTo>
                  <a:lnTo>
                    <a:pt x="2381" y="234"/>
                  </a:lnTo>
                  <a:lnTo>
                    <a:pt x="2159" y="266"/>
                  </a:lnTo>
                  <a:lnTo>
                    <a:pt x="1945" y="299"/>
                  </a:lnTo>
                  <a:lnTo>
                    <a:pt x="1740" y="334"/>
                  </a:lnTo>
                  <a:lnTo>
                    <a:pt x="1546" y="370"/>
                  </a:lnTo>
                  <a:lnTo>
                    <a:pt x="1361" y="408"/>
                  </a:lnTo>
                  <a:lnTo>
                    <a:pt x="1186" y="448"/>
                  </a:lnTo>
                  <a:lnTo>
                    <a:pt x="1022" y="490"/>
                  </a:lnTo>
                  <a:lnTo>
                    <a:pt x="869" y="532"/>
                  </a:lnTo>
                  <a:lnTo>
                    <a:pt x="728" y="577"/>
                  </a:lnTo>
                  <a:lnTo>
                    <a:pt x="598" y="622"/>
                  </a:lnTo>
                  <a:lnTo>
                    <a:pt x="480" y="668"/>
                  </a:lnTo>
                  <a:lnTo>
                    <a:pt x="376" y="716"/>
                  </a:lnTo>
                  <a:lnTo>
                    <a:pt x="284" y="765"/>
                  </a:lnTo>
                  <a:lnTo>
                    <a:pt x="205" y="814"/>
                  </a:lnTo>
                  <a:lnTo>
                    <a:pt x="141" y="864"/>
                  </a:lnTo>
                  <a:lnTo>
                    <a:pt x="89" y="916"/>
                  </a:lnTo>
                  <a:lnTo>
                    <a:pt x="90" y="915"/>
                  </a:lnTo>
                  <a:lnTo>
                    <a:pt x="53" y="967"/>
                  </a:lnTo>
                  <a:lnTo>
                    <a:pt x="54" y="965"/>
                  </a:lnTo>
                  <a:lnTo>
                    <a:pt x="31" y="1019"/>
                  </a:lnTo>
                  <a:lnTo>
                    <a:pt x="32" y="1016"/>
                  </a:lnTo>
                  <a:lnTo>
                    <a:pt x="24" y="1070"/>
                  </a:lnTo>
                  <a:lnTo>
                    <a:pt x="24" y="1067"/>
                  </a:lnTo>
                  <a:lnTo>
                    <a:pt x="32" y="11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Rectangle 35"/>
            <p:cNvSpPr/>
            <p:nvPr/>
          </p:nvSpPr>
          <p:spPr>
            <a:xfrm>
              <a:off x="3619440" y="4701240"/>
              <a:ext cx="251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16489f"/>
                  </a:solidFill>
                  <a:latin typeface="Arial"/>
                  <a:ea typeface="Arial"/>
                </a:rPr>
                <a:t>СТРАТЕГИЯ ЗА МЕСТНО РАЗВИТИЕ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Freeform 37"/>
            <p:cNvSpPr/>
            <p:nvPr/>
          </p:nvSpPr>
          <p:spPr>
            <a:xfrm>
              <a:off x="2920680" y="6137280"/>
              <a:ext cx="1900440" cy="75600"/>
            </a:xfrm>
            <a:custGeom>
              <a:avLst/>
              <a:gdLst>
                <a:gd name="textAreaLeft" fmla="*/ 0 w 1900440"/>
                <a:gd name="textAreaRight" fmla="*/ 1900800 w 19004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710" h="68">
                  <a:moveTo>
                    <a:pt x="0" y="68"/>
                  </a:moveTo>
                  <a:lnTo>
                    <a:pt x="1710" y="4"/>
                  </a:lnTo>
                  <a:lnTo>
                    <a:pt x="1710" y="0"/>
                  </a:lnTo>
                  <a:lnTo>
                    <a:pt x="0" y="6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Freeform 38"/>
            <p:cNvSpPr/>
            <p:nvPr/>
          </p:nvSpPr>
          <p:spPr>
            <a:xfrm>
              <a:off x="4796640" y="6139800"/>
              <a:ext cx="51120" cy="7092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46" h="64">
                  <a:moveTo>
                    <a:pt x="25" y="64"/>
                  </a:moveTo>
                  <a:lnTo>
                    <a:pt x="25" y="30"/>
                  </a:lnTo>
                  <a:lnTo>
                    <a:pt x="20" y="30"/>
                  </a:lnTo>
                  <a:lnTo>
                    <a:pt x="19" y="64"/>
                  </a:lnTo>
                  <a:lnTo>
                    <a:pt x="25" y="64"/>
                  </a:lnTo>
                  <a:close/>
                  <a:moveTo>
                    <a:pt x="46" y="36"/>
                  </a:moveTo>
                  <a:lnTo>
                    <a:pt x="23" y="0"/>
                  </a:lnTo>
                  <a:lnTo>
                    <a:pt x="0" y="36"/>
                  </a:lnTo>
                  <a:lnTo>
                    <a:pt x="4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Freeform 39"/>
            <p:cNvSpPr/>
            <p:nvPr/>
          </p:nvSpPr>
          <p:spPr>
            <a:xfrm>
              <a:off x="4821120" y="6121800"/>
              <a:ext cx="1956960" cy="91080"/>
            </a:xfrm>
            <a:custGeom>
              <a:avLst/>
              <a:gdLst>
                <a:gd name="textAreaLeft" fmla="*/ 0 w 1956960"/>
                <a:gd name="textAreaRight" fmla="*/ 1957320 w 195696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761" h="82">
                  <a:moveTo>
                    <a:pt x="1761" y="82"/>
                  </a:moveTo>
                  <a:lnTo>
                    <a:pt x="38" y="20"/>
                  </a:lnTo>
                  <a:lnTo>
                    <a:pt x="39" y="15"/>
                  </a:lnTo>
                  <a:lnTo>
                    <a:pt x="1761" y="78"/>
                  </a:lnTo>
                  <a:lnTo>
                    <a:pt x="1761" y="82"/>
                  </a:lnTo>
                  <a:close/>
                  <a:moveTo>
                    <a:pt x="45" y="36"/>
                  </a:moveTo>
                  <a:lnTo>
                    <a:pt x="0" y="16"/>
                  </a:lnTo>
                  <a:lnTo>
                    <a:pt x="47" y="0"/>
                  </a:lnTo>
                  <a:lnTo>
                    <a:pt x="4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Freeform 40"/>
            <p:cNvSpPr/>
            <p:nvPr/>
          </p:nvSpPr>
          <p:spPr>
            <a:xfrm>
              <a:off x="2920680" y="6121800"/>
              <a:ext cx="1900440" cy="91080"/>
            </a:xfrm>
            <a:custGeom>
              <a:avLst/>
              <a:gdLst>
                <a:gd name="textAreaLeft" fmla="*/ 0 w 1900440"/>
                <a:gd name="textAreaRight" fmla="*/ 1900800 w 190044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710" h="82">
                  <a:moveTo>
                    <a:pt x="0" y="82"/>
                  </a:moveTo>
                  <a:lnTo>
                    <a:pt x="1672" y="20"/>
                  </a:lnTo>
                  <a:lnTo>
                    <a:pt x="1671" y="15"/>
                  </a:lnTo>
                  <a:lnTo>
                    <a:pt x="0" y="78"/>
                  </a:lnTo>
                  <a:lnTo>
                    <a:pt x="0" y="82"/>
                  </a:lnTo>
                  <a:close/>
                  <a:moveTo>
                    <a:pt x="1665" y="36"/>
                  </a:moveTo>
                  <a:lnTo>
                    <a:pt x="1710" y="16"/>
                  </a:lnTo>
                  <a:lnTo>
                    <a:pt x="1663" y="0"/>
                  </a:lnTo>
                  <a:lnTo>
                    <a:pt x="166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Freeform 41"/>
            <p:cNvSpPr/>
            <p:nvPr/>
          </p:nvSpPr>
          <p:spPr>
            <a:xfrm>
              <a:off x="4796640" y="4999320"/>
              <a:ext cx="51120" cy="9255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925560"/>
                <a:gd name="textAreaBottom" fmla="*/ 925920 h 925560"/>
              </a:gdLst>
              <a:ahLst/>
              <a:rect l="textAreaLeft" t="textAreaTop" r="textAreaRight" b="textAreaBottom"/>
              <a:pathLst>
                <a:path w="46" h="833">
                  <a:moveTo>
                    <a:pt x="25" y="833"/>
                  </a:moveTo>
                  <a:lnTo>
                    <a:pt x="26" y="31"/>
                  </a:lnTo>
                  <a:lnTo>
                    <a:pt x="20" y="31"/>
                  </a:lnTo>
                  <a:lnTo>
                    <a:pt x="19" y="833"/>
                  </a:lnTo>
                  <a:lnTo>
                    <a:pt x="25" y="833"/>
                  </a:lnTo>
                  <a:close/>
                  <a:moveTo>
                    <a:pt x="46" y="37"/>
                  </a:moveTo>
                  <a:lnTo>
                    <a:pt x="23" y="0"/>
                  </a:lnTo>
                  <a:lnTo>
                    <a:pt x="0" y="37"/>
                  </a:lnTo>
                  <a:lnTo>
                    <a:pt x="4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Freeform 42"/>
            <p:cNvSpPr/>
            <p:nvPr/>
          </p:nvSpPr>
          <p:spPr>
            <a:xfrm>
              <a:off x="3310920" y="4428000"/>
              <a:ext cx="443520" cy="20664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399" h="186">
                  <a:moveTo>
                    <a:pt x="2" y="0"/>
                  </a:moveTo>
                  <a:lnTo>
                    <a:pt x="367" y="169"/>
                  </a:lnTo>
                  <a:lnTo>
                    <a:pt x="365" y="173"/>
                  </a:lnTo>
                  <a:lnTo>
                    <a:pt x="0" y="4"/>
                  </a:lnTo>
                  <a:lnTo>
                    <a:pt x="2" y="0"/>
                  </a:lnTo>
                  <a:close/>
                  <a:moveTo>
                    <a:pt x="371" y="152"/>
                  </a:moveTo>
                  <a:lnTo>
                    <a:pt x="399" y="186"/>
                  </a:lnTo>
                  <a:lnTo>
                    <a:pt x="348" y="184"/>
                  </a:lnTo>
                  <a:lnTo>
                    <a:pt x="371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Freeform 43"/>
            <p:cNvSpPr/>
            <p:nvPr/>
          </p:nvSpPr>
          <p:spPr>
            <a:xfrm>
              <a:off x="5887800" y="4428000"/>
              <a:ext cx="667800" cy="210960"/>
            </a:xfrm>
            <a:custGeom>
              <a:avLst/>
              <a:gdLst>
                <a:gd name="textAreaLeft" fmla="*/ 0 w 667800"/>
                <a:gd name="textAreaRight" fmla="*/ 668160 w 6678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601" h="190">
                  <a:moveTo>
                    <a:pt x="599" y="0"/>
                  </a:moveTo>
                  <a:lnTo>
                    <a:pt x="35" y="173"/>
                  </a:lnTo>
                  <a:lnTo>
                    <a:pt x="37" y="177"/>
                  </a:lnTo>
                  <a:lnTo>
                    <a:pt x="601" y="4"/>
                  </a:lnTo>
                  <a:lnTo>
                    <a:pt x="599" y="0"/>
                  </a:lnTo>
                  <a:close/>
                  <a:moveTo>
                    <a:pt x="35" y="156"/>
                  </a:moveTo>
                  <a:lnTo>
                    <a:pt x="0" y="186"/>
                  </a:lnTo>
                  <a:lnTo>
                    <a:pt x="52" y="190"/>
                  </a:lnTo>
                  <a:lnTo>
                    <a:pt x="35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Freeform 44"/>
            <p:cNvSpPr/>
            <p:nvPr/>
          </p:nvSpPr>
          <p:spPr>
            <a:xfrm>
              <a:off x="5887800" y="4928040"/>
              <a:ext cx="666720" cy="14544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600" h="131">
                  <a:moveTo>
                    <a:pt x="599" y="131"/>
                  </a:moveTo>
                  <a:lnTo>
                    <a:pt x="37" y="18"/>
                  </a:lnTo>
                  <a:lnTo>
                    <a:pt x="38" y="14"/>
                  </a:lnTo>
                  <a:lnTo>
                    <a:pt x="600" y="126"/>
                  </a:lnTo>
                  <a:lnTo>
                    <a:pt x="599" y="131"/>
                  </a:lnTo>
                  <a:close/>
                  <a:moveTo>
                    <a:pt x="39" y="35"/>
                  </a:moveTo>
                  <a:lnTo>
                    <a:pt x="0" y="8"/>
                  </a:lnTo>
                  <a:lnTo>
                    <a:pt x="51" y="0"/>
                  </a:lnTo>
                  <a:lnTo>
                    <a:pt x="3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Freeform 45"/>
            <p:cNvSpPr/>
            <p:nvPr/>
          </p:nvSpPr>
          <p:spPr>
            <a:xfrm>
              <a:off x="3309840" y="4932360"/>
              <a:ext cx="445320" cy="140040"/>
            </a:xfrm>
            <a:custGeom>
              <a:avLst/>
              <a:gdLst>
                <a:gd name="textAreaLeft" fmla="*/ 0 w 445320"/>
                <a:gd name="textAreaRight" fmla="*/ 445680 w 44532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401" h="126">
                  <a:moveTo>
                    <a:pt x="2" y="126"/>
                  </a:moveTo>
                  <a:lnTo>
                    <a:pt x="366" y="17"/>
                  </a:lnTo>
                  <a:lnTo>
                    <a:pt x="364" y="13"/>
                  </a:lnTo>
                  <a:lnTo>
                    <a:pt x="0" y="122"/>
                  </a:lnTo>
                  <a:lnTo>
                    <a:pt x="2" y="126"/>
                  </a:lnTo>
                  <a:close/>
                  <a:moveTo>
                    <a:pt x="366" y="34"/>
                  </a:moveTo>
                  <a:lnTo>
                    <a:pt x="401" y="4"/>
                  </a:lnTo>
                  <a:lnTo>
                    <a:pt x="349" y="0"/>
                  </a:lnTo>
                  <a:lnTo>
                    <a:pt x="36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Oval 46"/>
            <p:cNvSpPr/>
            <p:nvPr/>
          </p:nvSpPr>
          <p:spPr>
            <a:xfrm>
              <a:off x="3150720" y="5356080"/>
              <a:ext cx="1279080" cy="356760"/>
            </a:xfrm>
            <a:prstGeom prst="ellipse">
              <a:avLst/>
            </a:pr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Freeform 47"/>
            <p:cNvSpPr/>
            <p:nvPr/>
          </p:nvSpPr>
          <p:spPr>
            <a:xfrm>
              <a:off x="3150720" y="5352840"/>
              <a:ext cx="1282320" cy="362160"/>
            </a:xfrm>
            <a:custGeom>
              <a:avLst/>
              <a:gdLst>
                <a:gd name="textAreaLeft" fmla="*/ 0 w 1282320"/>
                <a:gd name="textAreaRight" fmla="*/ 1282680 w 128232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1012" h="326">
                  <a:moveTo>
                    <a:pt x="0" y="163"/>
                  </a:moveTo>
                  <a:lnTo>
                    <a:pt x="1" y="155"/>
                  </a:lnTo>
                  <a:lnTo>
                    <a:pt x="3" y="146"/>
                  </a:lnTo>
                  <a:lnTo>
                    <a:pt x="6" y="138"/>
                  </a:lnTo>
                  <a:lnTo>
                    <a:pt x="11" y="130"/>
                  </a:lnTo>
                  <a:lnTo>
                    <a:pt x="16" y="122"/>
                  </a:lnTo>
                  <a:lnTo>
                    <a:pt x="23" y="114"/>
                  </a:lnTo>
                  <a:lnTo>
                    <a:pt x="31" y="107"/>
                  </a:lnTo>
                  <a:lnTo>
                    <a:pt x="40" y="99"/>
                  </a:lnTo>
                  <a:lnTo>
                    <a:pt x="51" y="92"/>
                  </a:lnTo>
                  <a:lnTo>
                    <a:pt x="62" y="85"/>
                  </a:lnTo>
                  <a:lnTo>
                    <a:pt x="74" y="78"/>
                  </a:lnTo>
                  <a:lnTo>
                    <a:pt x="87" y="72"/>
                  </a:lnTo>
                  <a:lnTo>
                    <a:pt x="102" y="65"/>
                  </a:lnTo>
                  <a:lnTo>
                    <a:pt x="117" y="59"/>
                  </a:lnTo>
                  <a:lnTo>
                    <a:pt x="132" y="53"/>
                  </a:lnTo>
                  <a:lnTo>
                    <a:pt x="149" y="48"/>
                  </a:lnTo>
                  <a:lnTo>
                    <a:pt x="167" y="42"/>
                  </a:lnTo>
                  <a:lnTo>
                    <a:pt x="185" y="37"/>
                  </a:lnTo>
                  <a:lnTo>
                    <a:pt x="204" y="33"/>
                  </a:lnTo>
                  <a:lnTo>
                    <a:pt x="224" y="28"/>
                  </a:lnTo>
                  <a:lnTo>
                    <a:pt x="244" y="24"/>
                  </a:lnTo>
                  <a:lnTo>
                    <a:pt x="266" y="20"/>
                  </a:lnTo>
                  <a:lnTo>
                    <a:pt x="287" y="16"/>
                  </a:lnTo>
                  <a:lnTo>
                    <a:pt x="310" y="13"/>
                  </a:lnTo>
                  <a:lnTo>
                    <a:pt x="333" y="10"/>
                  </a:lnTo>
                  <a:lnTo>
                    <a:pt x="356" y="8"/>
                  </a:lnTo>
                  <a:lnTo>
                    <a:pt x="380" y="6"/>
                  </a:lnTo>
                  <a:lnTo>
                    <a:pt x="404" y="4"/>
                  </a:lnTo>
                  <a:lnTo>
                    <a:pt x="429" y="2"/>
                  </a:lnTo>
                  <a:lnTo>
                    <a:pt x="454" y="1"/>
                  </a:lnTo>
                  <a:lnTo>
                    <a:pt x="480" y="1"/>
                  </a:lnTo>
                  <a:lnTo>
                    <a:pt x="506" y="0"/>
                  </a:lnTo>
                  <a:lnTo>
                    <a:pt x="532" y="1"/>
                  </a:lnTo>
                  <a:lnTo>
                    <a:pt x="557" y="1"/>
                  </a:lnTo>
                  <a:lnTo>
                    <a:pt x="583" y="2"/>
                  </a:lnTo>
                  <a:lnTo>
                    <a:pt x="608" y="4"/>
                  </a:lnTo>
                  <a:lnTo>
                    <a:pt x="632" y="6"/>
                  </a:lnTo>
                  <a:lnTo>
                    <a:pt x="656" y="8"/>
                  </a:lnTo>
                  <a:lnTo>
                    <a:pt x="679" y="10"/>
                  </a:lnTo>
                  <a:lnTo>
                    <a:pt x="702" y="13"/>
                  </a:lnTo>
                  <a:lnTo>
                    <a:pt x="725" y="16"/>
                  </a:lnTo>
                  <a:lnTo>
                    <a:pt x="746" y="20"/>
                  </a:lnTo>
                  <a:lnTo>
                    <a:pt x="767" y="24"/>
                  </a:lnTo>
                  <a:lnTo>
                    <a:pt x="788" y="28"/>
                  </a:lnTo>
                  <a:lnTo>
                    <a:pt x="808" y="33"/>
                  </a:lnTo>
                  <a:lnTo>
                    <a:pt x="827" y="37"/>
                  </a:lnTo>
                  <a:lnTo>
                    <a:pt x="845" y="42"/>
                  </a:lnTo>
                  <a:lnTo>
                    <a:pt x="863" y="48"/>
                  </a:lnTo>
                  <a:lnTo>
                    <a:pt x="879" y="53"/>
                  </a:lnTo>
                  <a:lnTo>
                    <a:pt x="895" y="59"/>
                  </a:lnTo>
                  <a:lnTo>
                    <a:pt x="910" y="65"/>
                  </a:lnTo>
                  <a:lnTo>
                    <a:pt x="924" y="72"/>
                  </a:lnTo>
                  <a:lnTo>
                    <a:pt x="938" y="78"/>
                  </a:lnTo>
                  <a:lnTo>
                    <a:pt x="950" y="85"/>
                  </a:lnTo>
                  <a:lnTo>
                    <a:pt x="961" y="92"/>
                  </a:lnTo>
                  <a:lnTo>
                    <a:pt x="971" y="99"/>
                  </a:lnTo>
                  <a:lnTo>
                    <a:pt x="980" y="106"/>
                  </a:lnTo>
                  <a:lnTo>
                    <a:pt x="988" y="114"/>
                  </a:lnTo>
                  <a:lnTo>
                    <a:pt x="995" y="122"/>
                  </a:lnTo>
                  <a:lnTo>
                    <a:pt x="1001" y="130"/>
                  </a:lnTo>
                  <a:lnTo>
                    <a:pt x="1006" y="138"/>
                  </a:lnTo>
                  <a:lnTo>
                    <a:pt x="1009" y="146"/>
                  </a:lnTo>
                  <a:lnTo>
                    <a:pt x="1011" y="154"/>
                  </a:lnTo>
                  <a:lnTo>
                    <a:pt x="1012" y="163"/>
                  </a:lnTo>
                  <a:lnTo>
                    <a:pt x="1011" y="172"/>
                  </a:lnTo>
                  <a:lnTo>
                    <a:pt x="1009" y="180"/>
                  </a:lnTo>
                  <a:lnTo>
                    <a:pt x="1006" y="188"/>
                  </a:lnTo>
                  <a:lnTo>
                    <a:pt x="1001" y="196"/>
                  </a:lnTo>
                  <a:lnTo>
                    <a:pt x="996" y="204"/>
                  </a:lnTo>
                  <a:lnTo>
                    <a:pt x="989" y="212"/>
                  </a:lnTo>
                  <a:lnTo>
                    <a:pt x="981" y="220"/>
                  </a:lnTo>
                  <a:lnTo>
                    <a:pt x="971" y="227"/>
                  </a:lnTo>
                  <a:lnTo>
                    <a:pt x="961" y="234"/>
                  </a:lnTo>
                  <a:lnTo>
                    <a:pt x="950" y="241"/>
                  </a:lnTo>
                  <a:lnTo>
                    <a:pt x="938" y="248"/>
                  </a:lnTo>
                  <a:lnTo>
                    <a:pt x="925" y="255"/>
                  </a:lnTo>
                  <a:lnTo>
                    <a:pt x="910" y="261"/>
                  </a:lnTo>
                  <a:lnTo>
                    <a:pt x="895" y="267"/>
                  </a:lnTo>
                  <a:lnTo>
                    <a:pt x="880" y="273"/>
                  </a:lnTo>
                  <a:lnTo>
                    <a:pt x="863" y="279"/>
                  </a:lnTo>
                  <a:lnTo>
                    <a:pt x="845" y="284"/>
                  </a:lnTo>
                  <a:lnTo>
                    <a:pt x="827" y="289"/>
                  </a:lnTo>
                  <a:lnTo>
                    <a:pt x="808" y="294"/>
                  </a:lnTo>
                  <a:lnTo>
                    <a:pt x="788" y="298"/>
                  </a:lnTo>
                  <a:lnTo>
                    <a:pt x="767" y="303"/>
                  </a:lnTo>
                  <a:lnTo>
                    <a:pt x="746" y="306"/>
                  </a:lnTo>
                  <a:lnTo>
                    <a:pt x="725" y="310"/>
                  </a:lnTo>
                  <a:lnTo>
                    <a:pt x="702" y="313"/>
                  </a:lnTo>
                  <a:lnTo>
                    <a:pt x="679" y="316"/>
                  </a:lnTo>
                  <a:lnTo>
                    <a:pt x="656" y="319"/>
                  </a:lnTo>
                  <a:lnTo>
                    <a:pt x="632" y="321"/>
                  </a:lnTo>
                  <a:lnTo>
                    <a:pt x="608" y="323"/>
                  </a:lnTo>
                  <a:lnTo>
                    <a:pt x="583" y="324"/>
                  </a:lnTo>
                  <a:lnTo>
                    <a:pt x="558" y="325"/>
                  </a:lnTo>
                  <a:lnTo>
                    <a:pt x="532" y="326"/>
                  </a:lnTo>
                  <a:lnTo>
                    <a:pt x="506" y="326"/>
                  </a:lnTo>
                  <a:lnTo>
                    <a:pt x="480" y="326"/>
                  </a:lnTo>
                  <a:lnTo>
                    <a:pt x="455" y="325"/>
                  </a:lnTo>
                  <a:lnTo>
                    <a:pt x="429" y="324"/>
                  </a:lnTo>
                  <a:lnTo>
                    <a:pt x="404" y="323"/>
                  </a:lnTo>
                  <a:lnTo>
                    <a:pt x="380" y="321"/>
                  </a:lnTo>
                  <a:lnTo>
                    <a:pt x="356" y="319"/>
                  </a:lnTo>
                  <a:lnTo>
                    <a:pt x="333" y="316"/>
                  </a:lnTo>
                  <a:lnTo>
                    <a:pt x="310" y="313"/>
                  </a:lnTo>
                  <a:lnTo>
                    <a:pt x="287" y="310"/>
                  </a:lnTo>
                  <a:lnTo>
                    <a:pt x="266" y="306"/>
                  </a:lnTo>
                  <a:lnTo>
                    <a:pt x="244" y="303"/>
                  </a:lnTo>
                  <a:lnTo>
                    <a:pt x="224" y="298"/>
                  </a:lnTo>
                  <a:lnTo>
                    <a:pt x="204" y="294"/>
                  </a:lnTo>
                  <a:lnTo>
                    <a:pt x="185" y="289"/>
                  </a:lnTo>
                  <a:lnTo>
                    <a:pt x="167" y="284"/>
                  </a:lnTo>
                  <a:lnTo>
                    <a:pt x="149" y="279"/>
                  </a:lnTo>
                  <a:lnTo>
                    <a:pt x="133" y="273"/>
                  </a:lnTo>
                  <a:lnTo>
                    <a:pt x="117" y="267"/>
                  </a:lnTo>
                  <a:lnTo>
                    <a:pt x="102" y="261"/>
                  </a:lnTo>
                  <a:lnTo>
                    <a:pt x="87" y="255"/>
                  </a:lnTo>
                  <a:lnTo>
                    <a:pt x="74" y="248"/>
                  </a:lnTo>
                  <a:lnTo>
                    <a:pt x="62" y="241"/>
                  </a:lnTo>
                  <a:lnTo>
                    <a:pt x="51" y="234"/>
                  </a:lnTo>
                  <a:lnTo>
                    <a:pt x="41" y="227"/>
                  </a:lnTo>
                  <a:lnTo>
                    <a:pt x="31" y="220"/>
                  </a:lnTo>
                  <a:lnTo>
                    <a:pt x="23" y="212"/>
                  </a:lnTo>
                  <a:lnTo>
                    <a:pt x="16" y="205"/>
                  </a:lnTo>
                  <a:lnTo>
                    <a:pt x="11" y="197"/>
                  </a:lnTo>
                  <a:lnTo>
                    <a:pt x="6" y="189"/>
                  </a:lnTo>
                  <a:lnTo>
                    <a:pt x="3" y="180"/>
                  </a:lnTo>
                  <a:lnTo>
                    <a:pt x="1" y="172"/>
                  </a:lnTo>
                  <a:lnTo>
                    <a:pt x="0" y="163"/>
                  </a:lnTo>
                  <a:close/>
                  <a:moveTo>
                    <a:pt x="6" y="171"/>
                  </a:moveTo>
                  <a:lnTo>
                    <a:pt x="8" y="179"/>
                  </a:lnTo>
                  <a:lnTo>
                    <a:pt x="11" y="187"/>
                  </a:lnTo>
                  <a:lnTo>
                    <a:pt x="16" y="194"/>
                  </a:lnTo>
                  <a:lnTo>
                    <a:pt x="21" y="202"/>
                  </a:lnTo>
                  <a:lnTo>
                    <a:pt x="28" y="210"/>
                  </a:lnTo>
                  <a:lnTo>
                    <a:pt x="36" y="217"/>
                  </a:lnTo>
                  <a:lnTo>
                    <a:pt x="44" y="224"/>
                  </a:lnTo>
                  <a:lnTo>
                    <a:pt x="54" y="231"/>
                  </a:lnTo>
                  <a:lnTo>
                    <a:pt x="65" y="238"/>
                  </a:lnTo>
                  <a:lnTo>
                    <a:pt x="77" y="245"/>
                  </a:lnTo>
                  <a:lnTo>
                    <a:pt x="90" y="251"/>
                  </a:lnTo>
                  <a:lnTo>
                    <a:pt x="104" y="257"/>
                  </a:lnTo>
                  <a:lnTo>
                    <a:pt x="119" y="263"/>
                  </a:lnTo>
                  <a:lnTo>
                    <a:pt x="135" y="269"/>
                  </a:lnTo>
                  <a:lnTo>
                    <a:pt x="151" y="275"/>
                  </a:lnTo>
                  <a:lnTo>
                    <a:pt x="169" y="280"/>
                  </a:lnTo>
                  <a:lnTo>
                    <a:pt x="187" y="285"/>
                  </a:lnTo>
                  <a:lnTo>
                    <a:pt x="206" y="290"/>
                  </a:lnTo>
                  <a:lnTo>
                    <a:pt x="225" y="294"/>
                  </a:lnTo>
                  <a:lnTo>
                    <a:pt x="246" y="298"/>
                  </a:lnTo>
                  <a:lnTo>
                    <a:pt x="267" y="302"/>
                  </a:lnTo>
                  <a:lnTo>
                    <a:pt x="288" y="306"/>
                  </a:lnTo>
                  <a:lnTo>
                    <a:pt x="311" y="309"/>
                  </a:lnTo>
                  <a:lnTo>
                    <a:pt x="333" y="312"/>
                  </a:lnTo>
                  <a:lnTo>
                    <a:pt x="357" y="314"/>
                  </a:lnTo>
                  <a:lnTo>
                    <a:pt x="381" y="316"/>
                  </a:lnTo>
                  <a:lnTo>
                    <a:pt x="405" y="318"/>
                  </a:lnTo>
                  <a:lnTo>
                    <a:pt x="429" y="320"/>
                  </a:lnTo>
                  <a:lnTo>
                    <a:pt x="455" y="321"/>
                  </a:lnTo>
                  <a:lnTo>
                    <a:pt x="480" y="321"/>
                  </a:lnTo>
                  <a:lnTo>
                    <a:pt x="506" y="321"/>
                  </a:lnTo>
                  <a:lnTo>
                    <a:pt x="532" y="321"/>
                  </a:lnTo>
                  <a:lnTo>
                    <a:pt x="557" y="321"/>
                  </a:lnTo>
                  <a:lnTo>
                    <a:pt x="582" y="320"/>
                  </a:lnTo>
                  <a:lnTo>
                    <a:pt x="607" y="318"/>
                  </a:lnTo>
                  <a:lnTo>
                    <a:pt x="631" y="316"/>
                  </a:lnTo>
                  <a:lnTo>
                    <a:pt x="655" y="314"/>
                  </a:lnTo>
                  <a:lnTo>
                    <a:pt x="678" y="312"/>
                  </a:lnTo>
                  <a:lnTo>
                    <a:pt x="701" y="309"/>
                  </a:lnTo>
                  <a:lnTo>
                    <a:pt x="724" y="306"/>
                  </a:lnTo>
                  <a:lnTo>
                    <a:pt x="745" y="302"/>
                  </a:lnTo>
                  <a:lnTo>
                    <a:pt x="766" y="298"/>
                  </a:lnTo>
                  <a:lnTo>
                    <a:pt x="786" y="294"/>
                  </a:lnTo>
                  <a:lnTo>
                    <a:pt x="806" y="290"/>
                  </a:lnTo>
                  <a:lnTo>
                    <a:pt x="825" y="285"/>
                  </a:lnTo>
                  <a:lnTo>
                    <a:pt x="843" y="280"/>
                  </a:lnTo>
                  <a:lnTo>
                    <a:pt x="861" y="275"/>
                  </a:lnTo>
                  <a:lnTo>
                    <a:pt x="877" y="269"/>
                  </a:lnTo>
                  <a:lnTo>
                    <a:pt x="893" y="263"/>
                  </a:lnTo>
                  <a:lnTo>
                    <a:pt x="908" y="257"/>
                  </a:lnTo>
                  <a:lnTo>
                    <a:pt x="922" y="251"/>
                  </a:lnTo>
                  <a:lnTo>
                    <a:pt x="935" y="245"/>
                  </a:lnTo>
                  <a:lnTo>
                    <a:pt x="947" y="238"/>
                  </a:lnTo>
                  <a:lnTo>
                    <a:pt x="958" y="231"/>
                  </a:lnTo>
                  <a:lnTo>
                    <a:pt x="967" y="224"/>
                  </a:lnTo>
                  <a:lnTo>
                    <a:pt x="976" y="217"/>
                  </a:lnTo>
                  <a:lnTo>
                    <a:pt x="984" y="210"/>
                  </a:lnTo>
                  <a:lnTo>
                    <a:pt x="991" y="202"/>
                  </a:lnTo>
                  <a:lnTo>
                    <a:pt x="996" y="195"/>
                  </a:lnTo>
                  <a:lnTo>
                    <a:pt x="1001" y="187"/>
                  </a:lnTo>
                  <a:lnTo>
                    <a:pt x="1004" y="179"/>
                  </a:lnTo>
                  <a:lnTo>
                    <a:pt x="1006" y="171"/>
                  </a:lnTo>
                  <a:lnTo>
                    <a:pt x="1006" y="163"/>
                  </a:lnTo>
                  <a:lnTo>
                    <a:pt x="1006" y="155"/>
                  </a:lnTo>
                  <a:lnTo>
                    <a:pt x="1004" y="147"/>
                  </a:lnTo>
                  <a:lnTo>
                    <a:pt x="1001" y="140"/>
                  </a:lnTo>
                  <a:lnTo>
                    <a:pt x="996" y="132"/>
                  </a:lnTo>
                  <a:lnTo>
                    <a:pt x="991" y="124"/>
                  </a:lnTo>
                  <a:lnTo>
                    <a:pt x="984" y="117"/>
                  </a:lnTo>
                  <a:lnTo>
                    <a:pt x="976" y="110"/>
                  </a:lnTo>
                  <a:lnTo>
                    <a:pt x="968" y="102"/>
                  </a:lnTo>
                  <a:lnTo>
                    <a:pt x="958" y="95"/>
                  </a:lnTo>
                  <a:lnTo>
                    <a:pt x="947" y="89"/>
                  </a:lnTo>
                  <a:lnTo>
                    <a:pt x="935" y="82"/>
                  </a:lnTo>
                  <a:lnTo>
                    <a:pt x="922" y="75"/>
                  </a:lnTo>
                  <a:lnTo>
                    <a:pt x="908" y="69"/>
                  </a:lnTo>
                  <a:lnTo>
                    <a:pt x="893" y="63"/>
                  </a:lnTo>
                  <a:lnTo>
                    <a:pt x="877" y="57"/>
                  </a:lnTo>
                  <a:lnTo>
                    <a:pt x="861" y="52"/>
                  </a:lnTo>
                  <a:lnTo>
                    <a:pt x="843" y="47"/>
                  </a:lnTo>
                  <a:lnTo>
                    <a:pt x="825" y="41"/>
                  </a:lnTo>
                  <a:lnTo>
                    <a:pt x="806" y="37"/>
                  </a:lnTo>
                  <a:lnTo>
                    <a:pt x="786" y="32"/>
                  </a:lnTo>
                  <a:lnTo>
                    <a:pt x="766" y="28"/>
                  </a:lnTo>
                  <a:lnTo>
                    <a:pt x="745" y="24"/>
                  </a:lnTo>
                  <a:lnTo>
                    <a:pt x="724" y="21"/>
                  </a:lnTo>
                  <a:lnTo>
                    <a:pt x="701" y="17"/>
                  </a:lnTo>
                  <a:lnTo>
                    <a:pt x="679" y="15"/>
                  </a:lnTo>
                  <a:lnTo>
                    <a:pt x="655" y="12"/>
                  </a:lnTo>
                  <a:lnTo>
                    <a:pt x="631" y="10"/>
                  </a:lnTo>
                  <a:lnTo>
                    <a:pt x="607" y="8"/>
                  </a:lnTo>
                  <a:lnTo>
                    <a:pt x="582" y="7"/>
                  </a:lnTo>
                  <a:lnTo>
                    <a:pt x="557" y="6"/>
                  </a:lnTo>
                  <a:lnTo>
                    <a:pt x="532" y="5"/>
                  </a:lnTo>
                  <a:lnTo>
                    <a:pt x="506" y="5"/>
                  </a:lnTo>
                  <a:lnTo>
                    <a:pt x="480" y="5"/>
                  </a:lnTo>
                  <a:lnTo>
                    <a:pt x="455" y="6"/>
                  </a:lnTo>
                  <a:lnTo>
                    <a:pt x="430" y="7"/>
                  </a:lnTo>
                  <a:lnTo>
                    <a:pt x="405" y="8"/>
                  </a:lnTo>
                  <a:lnTo>
                    <a:pt x="381" y="10"/>
                  </a:lnTo>
                  <a:lnTo>
                    <a:pt x="357" y="12"/>
                  </a:lnTo>
                  <a:lnTo>
                    <a:pt x="333" y="15"/>
                  </a:lnTo>
                  <a:lnTo>
                    <a:pt x="311" y="17"/>
                  </a:lnTo>
                  <a:lnTo>
                    <a:pt x="288" y="21"/>
                  </a:lnTo>
                  <a:lnTo>
                    <a:pt x="267" y="24"/>
                  </a:lnTo>
                  <a:lnTo>
                    <a:pt x="246" y="28"/>
                  </a:lnTo>
                  <a:lnTo>
                    <a:pt x="225" y="32"/>
                  </a:lnTo>
                  <a:lnTo>
                    <a:pt x="206" y="37"/>
                  </a:lnTo>
                  <a:lnTo>
                    <a:pt x="187" y="41"/>
                  </a:lnTo>
                  <a:lnTo>
                    <a:pt x="169" y="46"/>
                  </a:lnTo>
                  <a:lnTo>
                    <a:pt x="151" y="52"/>
                  </a:lnTo>
                  <a:lnTo>
                    <a:pt x="135" y="57"/>
                  </a:lnTo>
                  <a:lnTo>
                    <a:pt x="119" y="63"/>
                  </a:lnTo>
                  <a:lnTo>
                    <a:pt x="104" y="69"/>
                  </a:lnTo>
                  <a:lnTo>
                    <a:pt x="90" y="75"/>
                  </a:lnTo>
                  <a:lnTo>
                    <a:pt x="77" y="82"/>
                  </a:lnTo>
                  <a:lnTo>
                    <a:pt x="65" y="88"/>
                  </a:lnTo>
                  <a:lnTo>
                    <a:pt x="54" y="95"/>
                  </a:lnTo>
                  <a:lnTo>
                    <a:pt x="44" y="102"/>
                  </a:lnTo>
                  <a:lnTo>
                    <a:pt x="36" y="109"/>
                  </a:lnTo>
                  <a:lnTo>
                    <a:pt x="28" y="117"/>
                  </a:lnTo>
                  <a:lnTo>
                    <a:pt x="21" y="124"/>
                  </a:lnTo>
                  <a:lnTo>
                    <a:pt x="16" y="132"/>
                  </a:lnTo>
                  <a:lnTo>
                    <a:pt x="11" y="139"/>
                  </a:lnTo>
                  <a:lnTo>
                    <a:pt x="8" y="147"/>
                  </a:lnTo>
                  <a:lnTo>
                    <a:pt x="6" y="155"/>
                  </a:lnTo>
                  <a:lnTo>
                    <a:pt x="6" y="163"/>
                  </a:lnTo>
                  <a:lnTo>
                    <a:pt x="6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Rectangle 48"/>
            <p:cNvSpPr/>
            <p:nvPr/>
          </p:nvSpPr>
          <p:spPr>
            <a:xfrm>
              <a:off x="3266640" y="5437080"/>
              <a:ext cx="1116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16489f"/>
                  </a:solidFill>
                  <a:latin typeface="Arial"/>
                  <a:ea typeface="Arial"/>
                </a:rPr>
                <a:t>Проект ЕЗФРСР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Oval 50"/>
            <p:cNvSpPr/>
            <p:nvPr/>
          </p:nvSpPr>
          <p:spPr>
            <a:xfrm>
              <a:off x="5212440" y="5356080"/>
              <a:ext cx="1224720" cy="356760"/>
            </a:xfrm>
            <a:prstGeom prst="ellipse">
              <a:avLst/>
            </a:prstGeom>
            <a:solidFill>
              <a:srgbClr val="00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Freeform 51"/>
            <p:cNvSpPr/>
            <p:nvPr/>
          </p:nvSpPr>
          <p:spPr>
            <a:xfrm>
              <a:off x="5209920" y="5352840"/>
              <a:ext cx="1226880" cy="362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1011" h="326">
                  <a:moveTo>
                    <a:pt x="0" y="163"/>
                  </a:moveTo>
                  <a:lnTo>
                    <a:pt x="0" y="155"/>
                  </a:lnTo>
                  <a:lnTo>
                    <a:pt x="2" y="146"/>
                  </a:lnTo>
                  <a:lnTo>
                    <a:pt x="6" y="138"/>
                  </a:lnTo>
                  <a:lnTo>
                    <a:pt x="10" y="130"/>
                  </a:lnTo>
                  <a:lnTo>
                    <a:pt x="16" y="122"/>
                  </a:lnTo>
                  <a:lnTo>
                    <a:pt x="23" y="114"/>
                  </a:lnTo>
                  <a:lnTo>
                    <a:pt x="31" y="107"/>
                  </a:lnTo>
                  <a:lnTo>
                    <a:pt x="40" y="99"/>
                  </a:lnTo>
                  <a:lnTo>
                    <a:pt x="50" y="92"/>
                  </a:lnTo>
                  <a:lnTo>
                    <a:pt x="61" y="85"/>
                  </a:lnTo>
                  <a:lnTo>
                    <a:pt x="74" y="78"/>
                  </a:lnTo>
                  <a:lnTo>
                    <a:pt x="87" y="72"/>
                  </a:lnTo>
                  <a:lnTo>
                    <a:pt x="101" y="65"/>
                  </a:lnTo>
                  <a:lnTo>
                    <a:pt x="116" y="59"/>
                  </a:lnTo>
                  <a:lnTo>
                    <a:pt x="132" y="53"/>
                  </a:lnTo>
                  <a:lnTo>
                    <a:pt x="149" y="48"/>
                  </a:lnTo>
                  <a:lnTo>
                    <a:pt x="166" y="43"/>
                  </a:lnTo>
                  <a:lnTo>
                    <a:pt x="185" y="37"/>
                  </a:lnTo>
                  <a:lnTo>
                    <a:pt x="204" y="33"/>
                  </a:lnTo>
                  <a:lnTo>
                    <a:pt x="224" y="28"/>
                  </a:lnTo>
                  <a:lnTo>
                    <a:pt x="244" y="24"/>
                  </a:lnTo>
                  <a:lnTo>
                    <a:pt x="265" y="20"/>
                  </a:lnTo>
                  <a:lnTo>
                    <a:pt x="287" y="16"/>
                  </a:lnTo>
                  <a:lnTo>
                    <a:pt x="309" y="13"/>
                  </a:lnTo>
                  <a:lnTo>
                    <a:pt x="332" y="10"/>
                  </a:lnTo>
                  <a:lnTo>
                    <a:pt x="356" y="8"/>
                  </a:lnTo>
                  <a:lnTo>
                    <a:pt x="380" y="6"/>
                  </a:lnTo>
                  <a:lnTo>
                    <a:pt x="404" y="4"/>
                  </a:lnTo>
                  <a:lnTo>
                    <a:pt x="429" y="2"/>
                  </a:lnTo>
                  <a:lnTo>
                    <a:pt x="454" y="1"/>
                  </a:lnTo>
                  <a:lnTo>
                    <a:pt x="480" y="1"/>
                  </a:lnTo>
                  <a:lnTo>
                    <a:pt x="506" y="0"/>
                  </a:lnTo>
                  <a:lnTo>
                    <a:pt x="532" y="1"/>
                  </a:lnTo>
                  <a:lnTo>
                    <a:pt x="557" y="1"/>
                  </a:lnTo>
                  <a:lnTo>
                    <a:pt x="582" y="2"/>
                  </a:lnTo>
                  <a:lnTo>
                    <a:pt x="607" y="4"/>
                  </a:lnTo>
                  <a:lnTo>
                    <a:pt x="632" y="6"/>
                  </a:lnTo>
                  <a:lnTo>
                    <a:pt x="656" y="8"/>
                  </a:lnTo>
                  <a:lnTo>
                    <a:pt x="679" y="10"/>
                  </a:lnTo>
                  <a:lnTo>
                    <a:pt x="702" y="13"/>
                  </a:lnTo>
                  <a:lnTo>
                    <a:pt x="724" y="16"/>
                  </a:lnTo>
                  <a:lnTo>
                    <a:pt x="746" y="20"/>
                  </a:lnTo>
                  <a:lnTo>
                    <a:pt x="767" y="24"/>
                  </a:lnTo>
                  <a:lnTo>
                    <a:pt x="787" y="28"/>
                  </a:lnTo>
                  <a:lnTo>
                    <a:pt x="807" y="33"/>
                  </a:lnTo>
                  <a:lnTo>
                    <a:pt x="826" y="37"/>
                  </a:lnTo>
                  <a:lnTo>
                    <a:pt x="845" y="42"/>
                  </a:lnTo>
                  <a:lnTo>
                    <a:pt x="862" y="48"/>
                  </a:lnTo>
                  <a:lnTo>
                    <a:pt x="879" y="53"/>
                  </a:lnTo>
                  <a:lnTo>
                    <a:pt x="895" y="59"/>
                  </a:lnTo>
                  <a:lnTo>
                    <a:pt x="910" y="65"/>
                  </a:lnTo>
                  <a:lnTo>
                    <a:pt x="924" y="72"/>
                  </a:lnTo>
                  <a:lnTo>
                    <a:pt x="937" y="78"/>
                  </a:lnTo>
                  <a:lnTo>
                    <a:pt x="950" y="85"/>
                  </a:lnTo>
                  <a:lnTo>
                    <a:pt x="961" y="92"/>
                  </a:lnTo>
                  <a:lnTo>
                    <a:pt x="971" y="99"/>
                  </a:lnTo>
                  <a:lnTo>
                    <a:pt x="980" y="107"/>
                  </a:lnTo>
                  <a:lnTo>
                    <a:pt x="988" y="114"/>
                  </a:lnTo>
                  <a:lnTo>
                    <a:pt x="995" y="122"/>
                  </a:lnTo>
                  <a:lnTo>
                    <a:pt x="1001" y="130"/>
                  </a:lnTo>
                  <a:lnTo>
                    <a:pt x="1005" y="138"/>
                  </a:lnTo>
                  <a:lnTo>
                    <a:pt x="1009" y="146"/>
                  </a:lnTo>
                  <a:lnTo>
                    <a:pt x="1011" y="155"/>
                  </a:lnTo>
                  <a:lnTo>
                    <a:pt x="1011" y="163"/>
                  </a:lnTo>
                  <a:lnTo>
                    <a:pt x="1011" y="172"/>
                  </a:lnTo>
                  <a:lnTo>
                    <a:pt x="1009" y="180"/>
                  </a:lnTo>
                  <a:lnTo>
                    <a:pt x="1006" y="188"/>
                  </a:lnTo>
                  <a:lnTo>
                    <a:pt x="1001" y="196"/>
                  </a:lnTo>
                  <a:lnTo>
                    <a:pt x="995" y="204"/>
                  </a:lnTo>
                  <a:lnTo>
                    <a:pt x="988" y="212"/>
                  </a:lnTo>
                  <a:lnTo>
                    <a:pt x="980" y="220"/>
                  </a:lnTo>
                  <a:lnTo>
                    <a:pt x="971" y="227"/>
                  </a:lnTo>
                  <a:lnTo>
                    <a:pt x="961" y="234"/>
                  </a:lnTo>
                  <a:lnTo>
                    <a:pt x="950" y="241"/>
                  </a:lnTo>
                  <a:lnTo>
                    <a:pt x="938" y="248"/>
                  </a:lnTo>
                  <a:lnTo>
                    <a:pt x="924" y="255"/>
                  </a:lnTo>
                  <a:lnTo>
                    <a:pt x="910" y="261"/>
                  </a:lnTo>
                  <a:lnTo>
                    <a:pt x="895" y="267"/>
                  </a:lnTo>
                  <a:lnTo>
                    <a:pt x="879" y="273"/>
                  </a:lnTo>
                  <a:lnTo>
                    <a:pt x="862" y="279"/>
                  </a:lnTo>
                  <a:lnTo>
                    <a:pt x="845" y="284"/>
                  </a:lnTo>
                  <a:lnTo>
                    <a:pt x="826" y="289"/>
                  </a:lnTo>
                  <a:lnTo>
                    <a:pt x="808" y="294"/>
                  </a:lnTo>
                  <a:lnTo>
                    <a:pt x="788" y="298"/>
                  </a:lnTo>
                  <a:lnTo>
                    <a:pt x="767" y="303"/>
                  </a:lnTo>
                  <a:lnTo>
                    <a:pt x="746" y="307"/>
                  </a:lnTo>
                  <a:lnTo>
                    <a:pt x="724" y="310"/>
                  </a:lnTo>
                  <a:lnTo>
                    <a:pt x="702" y="313"/>
                  </a:lnTo>
                  <a:lnTo>
                    <a:pt x="679" y="316"/>
                  </a:lnTo>
                  <a:lnTo>
                    <a:pt x="656" y="319"/>
                  </a:lnTo>
                  <a:lnTo>
                    <a:pt x="632" y="321"/>
                  </a:lnTo>
                  <a:lnTo>
                    <a:pt x="607" y="323"/>
                  </a:lnTo>
                  <a:lnTo>
                    <a:pt x="583" y="324"/>
                  </a:lnTo>
                  <a:lnTo>
                    <a:pt x="557" y="325"/>
                  </a:lnTo>
                  <a:lnTo>
                    <a:pt x="532" y="326"/>
                  </a:lnTo>
                  <a:lnTo>
                    <a:pt x="506" y="326"/>
                  </a:lnTo>
                  <a:lnTo>
                    <a:pt x="480" y="326"/>
                  </a:lnTo>
                  <a:lnTo>
                    <a:pt x="454" y="325"/>
                  </a:lnTo>
                  <a:lnTo>
                    <a:pt x="429" y="324"/>
                  </a:lnTo>
                  <a:lnTo>
                    <a:pt x="404" y="323"/>
                  </a:lnTo>
                  <a:lnTo>
                    <a:pt x="380" y="321"/>
                  </a:lnTo>
                  <a:lnTo>
                    <a:pt x="356" y="319"/>
                  </a:lnTo>
                  <a:lnTo>
                    <a:pt x="332" y="316"/>
                  </a:lnTo>
                  <a:lnTo>
                    <a:pt x="309" y="313"/>
                  </a:lnTo>
                  <a:lnTo>
                    <a:pt x="287" y="310"/>
                  </a:lnTo>
                  <a:lnTo>
                    <a:pt x="265" y="307"/>
                  </a:lnTo>
                  <a:lnTo>
                    <a:pt x="244" y="303"/>
                  </a:lnTo>
                  <a:lnTo>
                    <a:pt x="224" y="299"/>
                  </a:lnTo>
                  <a:lnTo>
                    <a:pt x="204" y="294"/>
                  </a:lnTo>
                  <a:lnTo>
                    <a:pt x="185" y="289"/>
                  </a:lnTo>
                  <a:lnTo>
                    <a:pt x="166" y="284"/>
                  </a:lnTo>
                  <a:lnTo>
                    <a:pt x="149" y="279"/>
                  </a:lnTo>
                  <a:lnTo>
                    <a:pt x="132" y="273"/>
                  </a:lnTo>
                  <a:lnTo>
                    <a:pt x="116" y="267"/>
                  </a:lnTo>
                  <a:lnTo>
                    <a:pt x="101" y="261"/>
                  </a:lnTo>
                  <a:lnTo>
                    <a:pt x="87" y="255"/>
                  </a:lnTo>
                  <a:lnTo>
                    <a:pt x="74" y="248"/>
                  </a:lnTo>
                  <a:lnTo>
                    <a:pt x="62" y="242"/>
                  </a:lnTo>
                  <a:lnTo>
                    <a:pt x="50" y="234"/>
                  </a:lnTo>
                  <a:lnTo>
                    <a:pt x="40" y="227"/>
                  </a:lnTo>
                  <a:lnTo>
                    <a:pt x="31" y="220"/>
                  </a:lnTo>
                  <a:lnTo>
                    <a:pt x="23" y="212"/>
                  </a:lnTo>
                  <a:lnTo>
                    <a:pt x="16" y="205"/>
                  </a:lnTo>
                  <a:lnTo>
                    <a:pt x="10" y="197"/>
                  </a:lnTo>
                  <a:lnTo>
                    <a:pt x="6" y="189"/>
                  </a:lnTo>
                  <a:lnTo>
                    <a:pt x="2" y="180"/>
                  </a:lnTo>
                  <a:lnTo>
                    <a:pt x="0" y="172"/>
                  </a:lnTo>
                  <a:lnTo>
                    <a:pt x="0" y="163"/>
                  </a:lnTo>
                  <a:close/>
                  <a:moveTo>
                    <a:pt x="6" y="171"/>
                  </a:moveTo>
                  <a:lnTo>
                    <a:pt x="8" y="179"/>
                  </a:lnTo>
                  <a:lnTo>
                    <a:pt x="11" y="187"/>
                  </a:lnTo>
                  <a:lnTo>
                    <a:pt x="15" y="194"/>
                  </a:lnTo>
                  <a:lnTo>
                    <a:pt x="21" y="202"/>
                  </a:lnTo>
                  <a:lnTo>
                    <a:pt x="27" y="210"/>
                  </a:lnTo>
                  <a:lnTo>
                    <a:pt x="35" y="217"/>
                  </a:lnTo>
                  <a:lnTo>
                    <a:pt x="44" y="224"/>
                  </a:lnTo>
                  <a:lnTo>
                    <a:pt x="54" y="231"/>
                  </a:lnTo>
                  <a:lnTo>
                    <a:pt x="65" y="238"/>
                  </a:lnTo>
                  <a:lnTo>
                    <a:pt x="77" y="245"/>
                  </a:lnTo>
                  <a:lnTo>
                    <a:pt x="90" y="251"/>
                  </a:lnTo>
                  <a:lnTo>
                    <a:pt x="104" y="257"/>
                  </a:lnTo>
                  <a:lnTo>
                    <a:pt x="119" y="263"/>
                  </a:lnTo>
                  <a:lnTo>
                    <a:pt x="134" y="269"/>
                  </a:lnTo>
                  <a:lnTo>
                    <a:pt x="151" y="275"/>
                  </a:lnTo>
                  <a:lnTo>
                    <a:pt x="168" y="280"/>
                  </a:lnTo>
                  <a:lnTo>
                    <a:pt x="186" y="285"/>
                  </a:lnTo>
                  <a:lnTo>
                    <a:pt x="205" y="290"/>
                  </a:lnTo>
                  <a:lnTo>
                    <a:pt x="225" y="294"/>
                  </a:lnTo>
                  <a:lnTo>
                    <a:pt x="245" y="298"/>
                  </a:lnTo>
                  <a:lnTo>
                    <a:pt x="266" y="302"/>
                  </a:lnTo>
                  <a:lnTo>
                    <a:pt x="288" y="306"/>
                  </a:lnTo>
                  <a:lnTo>
                    <a:pt x="310" y="309"/>
                  </a:lnTo>
                  <a:lnTo>
                    <a:pt x="333" y="312"/>
                  </a:lnTo>
                  <a:lnTo>
                    <a:pt x="356" y="314"/>
                  </a:lnTo>
                  <a:lnTo>
                    <a:pt x="380" y="317"/>
                  </a:lnTo>
                  <a:lnTo>
                    <a:pt x="405" y="318"/>
                  </a:lnTo>
                  <a:lnTo>
                    <a:pt x="429" y="320"/>
                  </a:lnTo>
                  <a:lnTo>
                    <a:pt x="454" y="321"/>
                  </a:lnTo>
                  <a:lnTo>
                    <a:pt x="480" y="321"/>
                  </a:lnTo>
                  <a:lnTo>
                    <a:pt x="506" y="321"/>
                  </a:lnTo>
                  <a:lnTo>
                    <a:pt x="531" y="321"/>
                  </a:lnTo>
                  <a:lnTo>
                    <a:pt x="557" y="321"/>
                  </a:lnTo>
                  <a:lnTo>
                    <a:pt x="582" y="320"/>
                  </a:lnTo>
                  <a:lnTo>
                    <a:pt x="607" y="318"/>
                  </a:lnTo>
                  <a:lnTo>
                    <a:pt x="631" y="317"/>
                  </a:lnTo>
                  <a:lnTo>
                    <a:pt x="655" y="314"/>
                  </a:lnTo>
                  <a:lnTo>
                    <a:pt x="678" y="312"/>
                  </a:lnTo>
                  <a:lnTo>
                    <a:pt x="701" y="309"/>
                  </a:lnTo>
                  <a:lnTo>
                    <a:pt x="723" y="306"/>
                  </a:lnTo>
                  <a:lnTo>
                    <a:pt x="745" y="302"/>
                  </a:lnTo>
                  <a:lnTo>
                    <a:pt x="766" y="298"/>
                  </a:lnTo>
                  <a:lnTo>
                    <a:pt x="786" y="294"/>
                  </a:lnTo>
                  <a:lnTo>
                    <a:pt x="806" y="290"/>
                  </a:lnTo>
                  <a:lnTo>
                    <a:pt x="825" y="285"/>
                  </a:lnTo>
                  <a:lnTo>
                    <a:pt x="843" y="280"/>
                  </a:lnTo>
                  <a:lnTo>
                    <a:pt x="860" y="275"/>
                  </a:lnTo>
                  <a:lnTo>
                    <a:pt x="877" y="269"/>
                  </a:lnTo>
                  <a:lnTo>
                    <a:pt x="893" y="263"/>
                  </a:lnTo>
                  <a:lnTo>
                    <a:pt x="907" y="257"/>
                  </a:lnTo>
                  <a:lnTo>
                    <a:pt x="921" y="251"/>
                  </a:lnTo>
                  <a:lnTo>
                    <a:pt x="934" y="245"/>
                  </a:lnTo>
                  <a:lnTo>
                    <a:pt x="946" y="238"/>
                  </a:lnTo>
                  <a:lnTo>
                    <a:pt x="957" y="231"/>
                  </a:lnTo>
                  <a:lnTo>
                    <a:pt x="967" y="224"/>
                  </a:lnTo>
                  <a:lnTo>
                    <a:pt x="976" y="217"/>
                  </a:lnTo>
                  <a:lnTo>
                    <a:pt x="984" y="210"/>
                  </a:lnTo>
                  <a:lnTo>
                    <a:pt x="990" y="202"/>
                  </a:lnTo>
                  <a:lnTo>
                    <a:pt x="996" y="195"/>
                  </a:lnTo>
                  <a:lnTo>
                    <a:pt x="1000" y="187"/>
                  </a:lnTo>
                  <a:lnTo>
                    <a:pt x="1003" y="179"/>
                  </a:lnTo>
                  <a:lnTo>
                    <a:pt x="1005" y="171"/>
                  </a:lnTo>
                  <a:lnTo>
                    <a:pt x="1006" y="163"/>
                  </a:lnTo>
                  <a:lnTo>
                    <a:pt x="1005" y="155"/>
                  </a:lnTo>
                  <a:lnTo>
                    <a:pt x="1003" y="147"/>
                  </a:lnTo>
                  <a:lnTo>
                    <a:pt x="1000" y="140"/>
                  </a:lnTo>
                  <a:lnTo>
                    <a:pt x="996" y="132"/>
                  </a:lnTo>
                  <a:lnTo>
                    <a:pt x="991" y="124"/>
                  </a:lnTo>
                  <a:lnTo>
                    <a:pt x="984" y="117"/>
                  </a:lnTo>
                  <a:lnTo>
                    <a:pt x="976" y="110"/>
                  </a:lnTo>
                  <a:lnTo>
                    <a:pt x="967" y="102"/>
                  </a:lnTo>
                  <a:lnTo>
                    <a:pt x="957" y="95"/>
                  </a:lnTo>
                  <a:lnTo>
                    <a:pt x="946" y="89"/>
                  </a:lnTo>
                  <a:lnTo>
                    <a:pt x="934" y="82"/>
                  </a:lnTo>
                  <a:lnTo>
                    <a:pt x="921" y="75"/>
                  </a:lnTo>
                  <a:lnTo>
                    <a:pt x="907" y="69"/>
                  </a:lnTo>
                  <a:lnTo>
                    <a:pt x="893" y="63"/>
                  </a:lnTo>
                  <a:lnTo>
                    <a:pt x="877" y="57"/>
                  </a:lnTo>
                  <a:lnTo>
                    <a:pt x="860" y="52"/>
                  </a:lnTo>
                  <a:lnTo>
                    <a:pt x="843" y="47"/>
                  </a:lnTo>
                  <a:lnTo>
                    <a:pt x="825" y="41"/>
                  </a:lnTo>
                  <a:lnTo>
                    <a:pt x="806" y="37"/>
                  </a:lnTo>
                  <a:lnTo>
                    <a:pt x="786" y="32"/>
                  </a:lnTo>
                  <a:lnTo>
                    <a:pt x="766" y="28"/>
                  </a:lnTo>
                  <a:lnTo>
                    <a:pt x="745" y="24"/>
                  </a:lnTo>
                  <a:lnTo>
                    <a:pt x="723" y="21"/>
                  </a:lnTo>
                  <a:lnTo>
                    <a:pt x="701" y="18"/>
                  </a:lnTo>
                  <a:lnTo>
                    <a:pt x="678" y="15"/>
                  </a:lnTo>
                  <a:lnTo>
                    <a:pt x="655" y="12"/>
                  </a:lnTo>
                  <a:lnTo>
                    <a:pt x="631" y="10"/>
                  </a:lnTo>
                  <a:lnTo>
                    <a:pt x="607" y="8"/>
                  </a:lnTo>
                  <a:lnTo>
                    <a:pt x="582" y="7"/>
                  </a:lnTo>
                  <a:lnTo>
                    <a:pt x="557" y="6"/>
                  </a:lnTo>
                  <a:lnTo>
                    <a:pt x="532" y="5"/>
                  </a:lnTo>
                  <a:lnTo>
                    <a:pt x="506" y="5"/>
                  </a:lnTo>
                  <a:lnTo>
                    <a:pt x="480" y="5"/>
                  </a:lnTo>
                  <a:lnTo>
                    <a:pt x="454" y="6"/>
                  </a:lnTo>
                  <a:lnTo>
                    <a:pt x="429" y="7"/>
                  </a:lnTo>
                  <a:lnTo>
                    <a:pt x="405" y="8"/>
                  </a:lnTo>
                  <a:lnTo>
                    <a:pt x="380" y="10"/>
                  </a:lnTo>
                  <a:lnTo>
                    <a:pt x="356" y="12"/>
                  </a:lnTo>
                  <a:lnTo>
                    <a:pt x="333" y="15"/>
                  </a:lnTo>
                  <a:lnTo>
                    <a:pt x="310" y="18"/>
                  </a:lnTo>
                  <a:lnTo>
                    <a:pt x="288" y="21"/>
                  </a:lnTo>
                  <a:lnTo>
                    <a:pt x="266" y="24"/>
                  </a:lnTo>
                  <a:lnTo>
                    <a:pt x="245" y="28"/>
                  </a:lnTo>
                  <a:lnTo>
                    <a:pt x="225" y="32"/>
                  </a:lnTo>
                  <a:lnTo>
                    <a:pt x="206" y="37"/>
                  </a:lnTo>
                  <a:lnTo>
                    <a:pt x="186" y="41"/>
                  </a:lnTo>
                  <a:lnTo>
                    <a:pt x="168" y="47"/>
                  </a:lnTo>
                  <a:lnTo>
                    <a:pt x="151" y="52"/>
                  </a:lnTo>
                  <a:lnTo>
                    <a:pt x="134" y="57"/>
                  </a:lnTo>
                  <a:lnTo>
                    <a:pt x="119" y="63"/>
                  </a:lnTo>
                  <a:lnTo>
                    <a:pt x="104" y="69"/>
                  </a:lnTo>
                  <a:lnTo>
                    <a:pt x="90" y="75"/>
                  </a:lnTo>
                  <a:lnTo>
                    <a:pt x="77" y="82"/>
                  </a:lnTo>
                  <a:lnTo>
                    <a:pt x="65" y="89"/>
                  </a:lnTo>
                  <a:lnTo>
                    <a:pt x="54" y="95"/>
                  </a:lnTo>
                  <a:lnTo>
                    <a:pt x="44" y="102"/>
                  </a:lnTo>
                  <a:lnTo>
                    <a:pt x="35" y="109"/>
                  </a:lnTo>
                  <a:lnTo>
                    <a:pt x="27" y="117"/>
                  </a:lnTo>
                  <a:lnTo>
                    <a:pt x="21" y="124"/>
                  </a:lnTo>
                  <a:lnTo>
                    <a:pt x="15" y="132"/>
                  </a:lnTo>
                  <a:lnTo>
                    <a:pt x="11" y="139"/>
                  </a:lnTo>
                  <a:lnTo>
                    <a:pt x="8" y="147"/>
                  </a:lnTo>
                  <a:lnTo>
                    <a:pt x="6" y="155"/>
                  </a:lnTo>
                  <a:lnTo>
                    <a:pt x="5" y="163"/>
                  </a:lnTo>
                  <a:lnTo>
                    <a:pt x="6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Rectangle 52"/>
            <p:cNvSpPr/>
            <p:nvPr/>
          </p:nvSpPr>
          <p:spPr>
            <a:xfrm>
              <a:off x="5278320" y="5449320"/>
              <a:ext cx="105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16489f"/>
                  </a:solidFill>
                  <a:latin typeface="Arial"/>
                  <a:ea typeface="Arial"/>
                </a:rPr>
                <a:t>Проект ЕФМДР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Freeform 54"/>
            <p:cNvSpPr/>
            <p:nvPr/>
          </p:nvSpPr>
          <p:spPr>
            <a:xfrm>
              <a:off x="3871080" y="4998240"/>
              <a:ext cx="952200" cy="358920"/>
            </a:xfrm>
            <a:custGeom>
              <a:avLst/>
              <a:gdLst>
                <a:gd name="textAreaLeft" fmla="*/ 0 w 952200"/>
                <a:gd name="textAreaRight" fmla="*/ 952560 w 95220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857" h="323">
                  <a:moveTo>
                    <a:pt x="854" y="0"/>
                  </a:moveTo>
                  <a:lnTo>
                    <a:pt x="34" y="307"/>
                  </a:lnTo>
                  <a:lnTo>
                    <a:pt x="36" y="311"/>
                  </a:lnTo>
                  <a:lnTo>
                    <a:pt x="857" y="3"/>
                  </a:lnTo>
                  <a:lnTo>
                    <a:pt x="854" y="0"/>
                  </a:lnTo>
                  <a:close/>
                  <a:moveTo>
                    <a:pt x="32" y="290"/>
                  </a:moveTo>
                  <a:lnTo>
                    <a:pt x="0" y="322"/>
                  </a:lnTo>
                  <a:lnTo>
                    <a:pt x="52" y="323"/>
                  </a:lnTo>
                  <a:lnTo>
                    <a:pt x="32" y="290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Freeform 55"/>
            <p:cNvSpPr/>
            <p:nvPr/>
          </p:nvSpPr>
          <p:spPr>
            <a:xfrm>
              <a:off x="4820040" y="4998240"/>
              <a:ext cx="950760" cy="358920"/>
            </a:xfrm>
            <a:custGeom>
              <a:avLst/>
              <a:gdLst>
                <a:gd name="textAreaLeft" fmla="*/ 0 w 950760"/>
                <a:gd name="textAreaRight" fmla="*/ 951120 w 95076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856" h="323">
                  <a:moveTo>
                    <a:pt x="2" y="0"/>
                  </a:moveTo>
                  <a:lnTo>
                    <a:pt x="823" y="307"/>
                  </a:lnTo>
                  <a:lnTo>
                    <a:pt x="820" y="311"/>
                  </a:lnTo>
                  <a:lnTo>
                    <a:pt x="0" y="3"/>
                  </a:lnTo>
                  <a:lnTo>
                    <a:pt x="2" y="0"/>
                  </a:lnTo>
                  <a:close/>
                  <a:moveTo>
                    <a:pt x="825" y="290"/>
                  </a:moveTo>
                  <a:lnTo>
                    <a:pt x="856" y="322"/>
                  </a:lnTo>
                  <a:lnTo>
                    <a:pt x="805" y="323"/>
                  </a:lnTo>
                  <a:lnTo>
                    <a:pt x="825" y="290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Oval 56"/>
            <p:cNvSpPr/>
            <p:nvPr/>
          </p:nvSpPr>
          <p:spPr>
            <a:xfrm>
              <a:off x="3743280" y="3657600"/>
              <a:ext cx="1940040" cy="701280"/>
            </a:xfrm>
            <a:prstGeom prst="ellipse">
              <a:avLst/>
            </a:prstGeom>
            <a:solidFill>
              <a:srgbClr val="a0bae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Freeform 57"/>
            <p:cNvSpPr/>
            <p:nvPr/>
          </p:nvSpPr>
          <p:spPr>
            <a:xfrm>
              <a:off x="3743280" y="3656520"/>
              <a:ext cx="1940040" cy="704160"/>
            </a:xfrm>
            <a:custGeom>
              <a:avLst/>
              <a:gdLst>
                <a:gd name="textAreaLeft" fmla="*/ 0 w 1940040"/>
                <a:gd name="textAreaRight" fmla="*/ 1940400 w 1940040"/>
                <a:gd name="textAreaTop" fmla="*/ 0 h 704160"/>
                <a:gd name="textAreaBottom" fmla="*/ 704520 h 704160"/>
              </a:gdLst>
              <a:ahLst/>
              <a:rect l="textAreaLeft" t="textAreaTop" r="textAreaRight" b="textAreaBottom"/>
              <a:pathLst>
                <a:path w="1112" h="710">
                  <a:moveTo>
                    <a:pt x="0" y="356"/>
                  </a:moveTo>
                  <a:lnTo>
                    <a:pt x="0" y="346"/>
                  </a:lnTo>
                  <a:lnTo>
                    <a:pt x="1" y="337"/>
                  </a:lnTo>
                  <a:lnTo>
                    <a:pt x="2" y="328"/>
                  </a:lnTo>
                  <a:lnTo>
                    <a:pt x="3" y="319"/>
                  </a:lnTo>
                  <a:lnTo>
                    <a:pt x="7" y="301"/>
                  </a:lnTo>
                  <a:lnTo>
                    <a:pt x="12" y="284"/>
                  </a:lnTo>
                  <a:lnTo>
                    <a:pt x="18" y="267"/>
                  </a:lnTo>
                  <a:lnTo>
                    <a:pt x="25" y="250"/>
                  </a:lnTo>
                  <a:lnTo>
                    <a:pt x="34" y="233"/>
                  </a:lnTo>
                  <a:lnTo>
                    <a:pt x="44" y="217"/>
                  </a:lnTo>
                  <a:lnTo>
                    <a:pt x="55" y="202"/>
                  </a:lnTo>
                  <a:lnTo>
                    <a:pt x="67" y="186"/>
                  </a:lnTo>
                  <a:lnTo>
                    <a:pt x="81" y="171"/>
                  </a:lnTo>
                  <a:lnTo>
                    <a:pt x="95" y="157"/>
                  </a:lnTo>
                  <a:lnTo>
                    <a:pt x="111" y="143"/>
                  </a:lnTo>
                  <a:lnTo>
                    <a:pt x="127" y="130"/>
                  </a:lnTo>
                  <a:lnTo>
                    <a:pt x="145" y="117"/>
                  </a:lnTo>
                  <a:lnTo>
                    <a:pt x="163" y="104"/>
                  </a:lnTo>
                  <a:lnTo>
                    <a:pt x="183" y="93"/>
                  </a:lnTo>
                  <a:lnTo>
                    <a:pt x="203" y="82"/>
                  </a:lnTo>
                  <a:lnTo>
                    <a:pt x="224" y="71"/>
                  </a:lnTo>
                  <a:lnTo>
                    <a:pt x="246" y="61"/>
                  </a:lnTo>
                  <a:lnTo>
                    <a:pt x="268" y="52"/>
                  </a:lnTo>
                  <a:lnTo>
                    <a:pt x="291" y="43"/>
                  </a:lnTo>
                  <a:lnTo>
                    <a:pt x="315" y="36"/>
                  </a:lnTo>
                  <a:lnTo>
                    <a:pt x="340" y="28"/>
                  </a:lnTo>
                  <a:lnTo>
                    <a:pt x="365" y="22"/>
                  </a:lnTo>
                  <a:lnTo>
                    <a:pt x="391" y="16"/>
                  </a:lnTo>
                  <a:lnTo>
                    <a:pt x="417" y="12"/>
                  </a:lnTo>
                  <a:lnTo>
                    <a:pt x="444" y="8"/>
                  </a:lnTo>
                  <a:lnTo>
                    <a:pt x="471" y="5"/>
                  </a:lnTo>
                  <a:lnTo>
                    <a:pt x="499" y="2"/>
                  </a:lnTo>
                  <a:lnTo>
                    <a:pt x="527" y="1"/>
                  </a:lnTo>
                  <a:lnTo>
                    <a:pt x="556" y="0"/>
                  </a:lnTo>
                  <a:lnTo>
                    <a:pt x="585" y="1"/>
                  </a:lnTo>
                  <a:lnTo>
                    <a:pt x="613" y="3"/>
                  </a:lnTo>
                  <a:lnTo>
                    <a:pt x="641" y="5"/>
                  </a:lnTo>
                  <a:lnTo>
                    <a:pt x="668" y="8"/>
                  </a:lnTo>
                  <a:lnTo>
                    <a:pt x="695" y="12"/>
                  </a:lnTo>
                  <a:lnTo>
                    <a:pt x="721" y="17"/>
                  </a:lnTo>
                  <a:lnTo>
                    <a:pt x="747" y="22"/>
                  </a:lnTo>
                  <a:lnTo>
                    <a:pt x="772" y="28"/>
                  </a:lnTo>
                  <a:lnTo>
                    <a:pt x="797" y="36"/>
                  </a:lnTo>
                  <a:lnTo>
                    <a:pt x="821" y="43"/>
                  </a:lnTo>
                  <a:lnTo>
                    <a:pt x="844" y="52"/>
                  </a:lnTo>
                  <a:lnTo>
                    <a:pt x="867" y="61"/>
                  </a:lnTo>
                  <a:lnTo>
                    <a:pt x="889" y="71"/>
                  </a:lnTo>
                  <a:lnTo>
                    <a:pt x="910" y="82"/>
                  </a:lnTo>
                  <a:lnTo>
                    <a:pt x="930" y="93"/>
                  </a:lnTo>
                  <a:lnTo>
                    <a:pt x="949" y="104"/>
                  </a:lnTo>
                  <a:lnTo>
                    <a:pt x="968" y="117"/>
                  </a:lnTo>
                  <a:lnTo>
                    <a:pt x="985" y="130"/>
                  </a:lnTo>
                  <a:lnTo>
                    <a:pt x="1002" y="143"/>
                  </a:lnTo>
                  <a:lnTo>
                    <a:pt x="1017" y="157"/>
                  </a:lnTo>
                  <a:lnTo>
                    <a:pt x="1032" y="171"/>
                  </a:lnTo>
                  <a:lnTo>
                    <a:pt x="1045" y="186"/>
                  </a:lnTo>
                  <a:lnTo>
                    <a:pt x="1057" y="201"/>
                  </a:lnTo>
                  <a:lnTo>
                    <a:pt x="1068" y="217"/>
                  </a:lnTo>
                  <a:lnTo>
                    <a:pt x="1078" y="233"/>
                  </a:lnTo>
                  <a:lnTo>
                    <a:pt x="1087" y="250"/>
                  </a:lnTo>
                  <a:lnTo>
                    <a:pt x="1095" y="267"/>
                  </a:lnTo>
                  <a:lnTo>
                    <a:pt x="1101" y="284"/>
                  </a:lnTo>
                  <a:lnTo>
                    <a:pt x="1106" y="301"/>
                  </a:lnTo>
                  <a:lnTo>
                    <a:pt x="1109" y="319"/>
                  </a:lnTo>
                  <a:lnTo>
                    <a:pt x="1111" y="328"/>
                  </a:lnTo>
                  <a:lnTo>
                    <a:pt x="1112" y="337"/>
                  </a:lnTo>
                  <a:lnTo>
                    <a:pt x="1112" y="346"/>
                  </a:lnTo>
                  <a:lnTo>
                    <a:pt x="1112" y="355"/>
                  </a:lnTo>
                  <a:lnTo>
                    <a:pt x="1112" y="365"/>
                  </a:lnTo>
                  <a:lnTo>
                    <a:pt x="1112" y="374"/>
                  </a:lnTo>
                  <a:lnTo>
                    <a:pt x="1111" y="383"/>
                  </a:lnTo>
                  <a:lnTo>
                    <a:pt x="1109" y="392"/>
                  </a:lnTo>
                  <a:lnTo>
                    <a:pt x="1106" y="410"/>
                  </a:lnTo>
                  <a:lnTo>
                    <a:pt x="1101" y="427"/>
                  </a:lnTo>
                  <a:lnTo>
                    <a:pt x="1095" y="444"/>
                  </a:lnTo>
                  <a:lnTo>
                    <a:pt x="1087" y="461"/>
                  </a:lnTo>
                  <a:lnTo>
                    <a:pt x="1078" y="478"/>
                  </a:lnTo>
                  <a:lnTo>
                    <a:pt x="1069" y="494"/>
                  </a:lnTo>
                  <a:lnTo>
                    <a:pt x="1057" y="509"/>
                  </a:lnTo>
                  <a:lnTo>
                    <a:pt x="1045" y="525"/>
                  </a:lnTo>
                  <a:lnTo>
                    <a:pt x="1032" y="540"/>
                  </a:lnTo>
                  <a:lnTo>
                    <a:pt x="1017" y="554"/>
                  </a:lnTo>
                  <a:lnTo>
                    <a:pt x="1002" y="568"/>
                  </a:lnTo>
                  <a:lnTo>
                    <a:pt x="985" y="581"/>
                  </a:lnTo>
                  <a:lnTo>
                    <a:pt x="968" y="594"/>
                  </a:lnTo>
                  <a:lnTo>
                    <a:pt x="949" y="606"/>
                  </a:lnTo>
                  <a:lnTo>
                    <a:pt x="930" y="618"/>
                  </a:lnTo>
                  <a:lnTo>
                    <a:pt x="910" y="629"/>
                  </a:lnTo>
                  <a:lnTo>
                    <a:pt x="889" y="640"/>
                  </a:lnTo>
                  <a:lnTo>
                    <a:pt x="867" y="650"/>
                  </a:lnTo>
                  <a:lnTo>
                    <a:pt x="844" y="659"/>
                  </a:lnTo>
                  <a:lnTo>
                    <a:pt x="821" y="667"/>
                  </a:lnTo>
                  <a:lnTo>
                    <a:pt x="797" y="675"/>
                  </a:lnTo>
                  <a:lnTo>
                    <a:pt x="772" y="682"/>
                  </a:lnTo>
                  <a:lnTo>
                    <a:pt x="747" y="689"/>
                  </a:lnTo>
                  <a:lnTo>
                    <a:pt x="721" y="694"/>
                  </a:lnTo>
                  <a:lnTo>
                    <a:pt x="695" y="699"/>
                  </a:lnTo>
                  <a:lnTo>
                    <a:pt x="668" y="703"/>
                  </a:lnTo>
                  <a:lnTo>
                    <a:pt x="641" y="706"/>
                  </a:lnTo>
                  <a:lnTo>
                    <a:pt x="613" y="708"/>
                  </a:lnTo>
                  <a:lnTo>
                    <a:pt x="585" y="710"/>
                  </a:lnTo>
                  <a:lnTo>
                    <a:pt x="556" y="710"/>
                  </a:lnTo>
                  <a:lnTo>
                    <a:pt x="528" y="710"/>
                  </a:lnTo>
                  <a:lnTo>
                    <a:pt x="499" y="708"/>
                  </a:lnTo>
                  <a:lnTo>
                    <a:pt x="472" y="706"/>
                  </a:lnTo>
                  <a:lnTo>
                    <a:pt x="444" y="703"/>
                  </a:lnTo>
                  <a:lnTo>
                    <a:pt x="418" y="699"/>
                  </a:lnTo>
                  <a:lnTo>
                    <a:pt x="391" y="694"/>
                  </a:lnTo>
                  <a:lnTo>
                    <a:pt x="365" y="689"/>
                  </a:lnTo>
                  <a:lnTo>
                    <a:pt x="340" y="682"/>
                  </a:lnTo>
                  <a:lnTo>
                    <a:pt x="315" y="675"/>
                  </a:lnTo>
                  <a:lnTo>
                    <a:pt x="291" y="668"/>
                  </a:lnTo>
                  <a:lnTo>
                    <a:pt x="268" y="659"/>
                  </a:lnTo>
                  <a:lnTo>
                    <a:pt x="246" y="650"/>
                  </a:lnTo>
                  <a:lnTo>
                    <a:pt x="224" y="640"/>
                  </a:lnTo>
                  <a:lnTo>
                    <a:pt x="203" y="629"/>
                  </a:lnTo>
                  <a:lnTo>
                    <a:pt x="183" y="618"/>
                  </a:lnTo>
                  <a:lnTo>
                    <a:pt x="163" y="607"/>
                  </a:lnTo>
                  <a:lnTo>
                    <a:pt x="145" y="594"/>
                  </a:lnTo>
                  <a:lnTo>
                    <a:pt x="127" y="581"/>
                  </a:lnTo>
                  <a:lnTo>
                    <a:pt x="111" y="568"/>
                  </a:lnTo>
                  <a:lnTo>
                    <a:pt x="95" y="554"/>
                  </a:lnTo>
                  <a:lnTo>
                    <a:pt x="81" y="540"/>
                  </a:lnTo>
                  <a:lnTo>
                    <a:pt x="67" y="525"/>
                  </a:lnTo>
                  <a:lnTo>
                    <a:pt x="55" y="510"/>
                  </a:lnTo>
                  <a:lnTo>
                    <a:pt x="44" y="494"/>
                  </a:lnTo>
                  <a:lnTo>
                    <a:pt x="34" y="478"/>
                  </a:lnTo>
                  <a:lnTo>
                    <a:pt x="25" y="461"/>
                  </a:lnTo>
                  <a:lnTo>
                    <a:pt x="18" y="444"/>
                  </a:lnTo>
                  <a:lnTo>
                    <a:pt x="12" y="427"/>
                  </a:lnTo>
                  <a:lnTo>
                    <a:pt x="7" y="410"/>
                  </a:lnTo>
                  <a:lnTo>
                    <a:pt x="3" y="392"/>
                  </a:lnTo>
                  <a:lnTo>
                    <a:pt x="2" y="383"/>
                  </a:lnTo>
                  <a:lnTo>
                    <a:pt x="1" y="374"/>
                  </a:lnTo>
                  <a:lnTo>
                    <a:pt x="0" y="365"/>
                  </a:lnTo>
                  <a:lnTo>
                    <a:pt x="0" y="356"/>
                  </a:lnTo>
                  <a:close/>
                  <a:moveTo>
                    <a:pt x="6" y="364"/>
                  </a:moveTo>
                  <a:lnTo>
                    <a:pt x="6" y="373"/>
                  </a:lnTo>
                  <a:lnTo>
                    <a:pt x="7" y="382"/>
                  </a:lnTo>
                  <a:lnTo>
                    <a:pt x="9" y="391"/>
                  </a:lnTo>
                  <a:lnTo>
                    <a:pt x="12" y="409"/>
                  </a:lnTo>
                  <a:lnTo>
                    <a:pt x="17" y="426"/>
                  </a:lnTo>
                  <a:lnTo>
                    <a:pt x="23" y="443"/>
                  </a:lnTo>
                  <a:lnTo>
                    <a:pt x="30" y="460"/>
                  </a:lnTo>
                  <a:lnTo>
                    <a:pt x="39" y="476"/>
                  </a:lnTo>
                  <a:lnTo>
                    <a:pt x="49" y="492"/>
                  </a:lnTo>
                  <a:lnTo>
                    <a:pt x="60" y="507"/>
                  </a:lnTo>
                  <a:lnTo>
                    <a:pt x="72" y="522"/>
                  </a:lnTo>
                  <a:lnTo>
                    <a:pt x="85" y="537"/>
                  </a:lnTo>
                  <a:lnTo>
                    <a:pt x="100" y="551"/>
                  </a:lnTo>
                  <a:lnTo>
                    <a:pt x="115" y="565"/>
                  </a:lnTo>
                  <a:lnTo>
                    <a:pt x="131" y="578"/>
                  </a:lnTo>
                  <a:lnTo>
                    <a:pt x="149" y="591"/>
                  </a:lnTo>
                  <a:lnTo>
                    <a:pt x="167" y="603"/>
                  </a:lnTo>
                  <a:lnTo>
                    <a:pt x="186" y="615"/>
                  </a:lnTo>
                  <a:lnTo>
                    <a:pt x="206" y="626"/>
                  </a:lnTo>
                  <a:lnTo>
                    <a:pt x="227" y="636"/>
                  </a:lnTo>
                  <a:lnTo>
                    <a:pt x="248" y="646"/>
                  </a:lnTo>
                  <a:lnTo>
                    <a:pt x="271" y="655"/>
                  </a:lnTo>
                  <a:lnTo>
                    <a:pt x="294" y="664"/>
                  </a:lnTo>
                  <a:lnTo>
                    <a:pt x="317" y="671"/>
                  </a:lnTo>
                  <a:lnTo>
                    <a:pt x="342" y="678"/>
                  </a:lnTo>
                  <a:lnTo>
                    <a:pt x="367" y="685"/>
                  </a:lnTo>
                  <a:lnTo>
                    <a:pt x="392" y="690"/>
                  </a:lnTo>
                  <a:lnTo>
                    <a:pt x="418" y="695"/>
                  </a:lnTo>
                  <a:lnTo>
                    <a:pt x="445" y="699"/>
                  </a:lnTo>
                  <a:lnTo>
                    <a:pt x="472" y="702"/>
                  </a:lnTo>
                  <a:lnTo>
                    <a:pt x="500" y="704"/>
                  </a:lnTo>
                  <a:lnTo>
                    <a:pt x="528" y="705"/>
                  </a:lnTo>
                  <a:lnTo>
                    <a:pt x="556" y="706"/>
                  </a:lnTo>
                  <a:lnTo>
                    <a:pt x="584" y="705"/>
                  </a:lnTo>
                  <a:lnTo>
                    <a:pt x="612" y="704"/>
                  </a:lnTo>
                  <a:lnTo>
                    <a:pt x="640" y="702"/>
                  </a:lnTo>
                  <a:lnTo>
                    <a:pt x="667" y="699"/>
                  </a:lnTo>
                  <a:lnTo>
                    <a:pt x="694" y="695"/>
                  </a:lnTo>
                  <a:lnTo>
                    <a:pt x="720" y="690"/>
                  </a:lnTo>
                  <a:lnTo>
                    <a:pt x="746" y="685"/>
                  </a:lnTo>
                  <a:lnTo>
                    <a:pt x="771" y="678"/>
                  </a:lnTo>
                  <a:lnTo>
                    <a:pt x="795" y="671"/>
                  </a:lnTo>
                  <a:lnTo>
                    <a:pt x="819" y="663"/>
                  </a:lnTo>
                  <a:lnTo>
                    <a:pt x="842" y="655"/>
                  </a:lnTo>
                  <a:lnTo>
                    <a:pt x="864" y="646"/>
                  </a:lnTo>
                  <a:lnTo>
                    <a:pt x="886" y="636"/>
                  </a:lnTo>
                  <a:lnTo>
                    <a:pt x="907" y="626"/>
                  </a:lnTo>
                  <a:lnTo>
                    <a:pt x="927" y="615"/>
                  </a:lnTo>
                  <a:lnTo>
                    <a:pt x="946" y="603"/>
                  </a:lnTo>
                  <a:lnTo>
                    <a:pt x="964" y="591"/>
                  </a:lnTo>
                  <a:lnTo>
                    <a:pt x="981" y="578"/>
                  </a:lnTo>
                  <a:lnTo>
                    <a:pt x="998" y="565"/>
                  </a:lnTo>
                  <a:lnTo>
                    <a:pt x="1013" y="551"/>
                  </a:lnTo>
                  <a:lnTo>
                    <a:pt x="1027" y="537"/>
                  </a:lnTo>
                  <a:lnTo>
                    <a:pt x="1040" y="522"/>
                  </a:lnTo>
                  <a:lnTo>
                    <a:pt x="1053" y="507"/>
                  </a:lnTo>
                  <a:lnTo>
                    <a:pt x="1064" y="492"/>
                  </a:lnTo>
                  <a:lnTo>
                    <a:pt x="1073" y="476"/>
                  </a:lnTo>
                  <a:lnTo>
                    <a:pt x="1082" y="460"/>
                  </a:lnTo>
                  <a:lnTo>
                    <a:pt x="1089" y="443"/>
                  </a:lnTo>
                  <a:lnTo>
                    <a:pt x="1096" y="426"/>
                  </a:lnTo>
                  <a:lnTo>
                    <a:pt x="1100" y="409"/>
                  </a:lnTo>
                  <a:lnTo>
                    <a:pt x="1104" y="391"/>
                  </a:lnTo>
                  <a:lnTo>
                    <a:pt x="1105" y="382"/>
                  </a:lnTo>
                  <a:lnTo>
                    <a:pt x="1106" y="374"/>
                  </a:lnTo>
                  <a:lnTo>
                    <a:pt x="1107" y="365"/>
                  </a:lnTo>
                  <a:lnTo>
                    <a:pt x="1107" y="356"/>
                  </a:lnTo>
                  <a:lnTo>
                    <a:pt x="1107" y="347"/>
                  </a:lnTo>
                  <a:lnTo>
                    <a:pt x="1106" y="338"/>
                  </a:lnTo>
                  <a:lnTo>
                    <a:pt x="1105" y="329"/>
                  </a:lnTo>
                  <a:lnTo>
                    <a:pt x="1104" y="320"/>
                  </a:lnTo>
                  <a:lnTo>
                    <a:pt x="1101" y="302"/>
                  </a:lnTo>
                  <a:lnTo>
                    <a:pt x="1096" y="285"/>
                  </a:lnTo>
                  <a:lnTo>
                    <a:pt x="1090" y="268"/>
                  </a:lnTo>
                  <a:lnTo>
                    <a:pt x="1082" y="251"/>
                  </a:lnTo>
                  <a:lnTo>
                    <a:pt x="1073" y="235"/>
                  </a:lnTo>
                  <a:lnTo>
                    <a:pt x="1064" y="219"/>
                  </a:lnTo>
                  <a:lnTo>
                    <a:pt x="1053" y="204"/>
                  </a:lnTo>
                  <a:lnTo>
                    <a:pt x="1040" y="189"/>
                  </a:lnTo>
                  <a:lnTo>
                    <a:pt x="1027" y="174"/>
                  </a:lnTo>
                  <a:lnTo>
                    <a:pt x="1013" y="160"/>
                  </a:lnTo>
                  <a:lnTo>
                    <a:pt x="998" y="146"/>
                  </a:lnTo>
                  <a:lnTo>
                    <a:pt x="981" y="133"/>
                  </a:lnTo>
                  <a:lnTo>
                    <a:pt x="964" y="120"/>
                  </a:lnTo>
                  <a:lnTo>
                    <a:pt x="946" y="108"/>
                  </a:lnTo>
                  <a:lnTo>
                    <a:pt x="927" y="96"/>
                  </a:lnTo>
                  <a:lnTo>
                    <a:pt x="907" y="85"/>
                  </a:lnTo>
                  <a:lnTo>
                    <a:pt x="886" y="75"/>
                  </a:lnTo>
                  <a:lnTo>
                    <a:pt x="864" y="65"/>
                  </a:lnTo>
                  <a:lnTo>
                    <a:pt x="842" y="56"/>
                  </a:lnTo>
                  <a:lnTo>
                    <a:pt x="819" y="47"/>
                  </a:lnTo>
                  <a:lnTo>
                    <a:pt x="795" y="40"/>
                  </a:lnTo>
                  <a:lnTo>
                    <a:pt x="771" y="33"/>
                  </a:lnTo>
                  <a:lnTo>
                    <a:pt x="746" y="26"/>
                  </a:lnTo>
                  <a:lnTo>
                    <a:pt x="720" y="21"/>
                  </a:lnTo>
                  <a:lnTo>
                    <a:pt x="694" y="16"/>
                  </a:lnTo>
                  <a:lnTo>
                    <a:pt x="667" y="12"/>
                  </a:lnTo>
                  <a:lnTo>
                    <a:pt x="640" y="9"/>
                  </a:lnTo>
                  <a:lnTo>
                    <a:pt x="613" y="7"/>
                  </a:lnTo>
                  <a:lnTo>
                    <a:pt x="585" y="5"/>
                  </a:lnTo>
                  <a:lnTo>
                    <a:pt x="556" y="5"/>
                  </a:lnTo>
                  <a:lnTo>
                    <a:pt x="528" y="5"/>
                  </a:lnTo>
                  <a:lnTo>
                    <a:pt x="500" y="7"/>
                  </a:lnTo>
                  <a:lnTo>
                    <a:pt x="472" y="9"/>
                  </a:lnTo>
                  <a:lnTo>
                    <a:pt x="445" y="12"/>
                  </a:lnTo>
                  <a:lnTo>
                    <a:pt x="418" y="16"/>
                  </a:lnTo>
                  <a:lnTo>
                    <a:pt x="392" y="21"/>
                  </a:lnTo>
                  <a:lnTo>
                    <a:pt x="367" y="26"/>
                  </a:lnTo>
                  <a:lnTo>
                    <a:pt x="342" y="32"/>
                  </a:lnTo>
                  <a:lnTo>
                    <a:pt x="317" y="40"/>
                  </a:lnTo>
                  <a:lnTo>
                    <a:pt x="294" y="47"/>
                  </a:lnTo>
                  <a:lnTo>
                    <a:pt x="271" y="56"/>
                  </a:lnTo>
                  <a:lnTo>
                    <a:pt x="248" y="65"/>
                  </a:lnTo>
                  <a:lnTo>
                    <a:pt x="227" y="75"/>
                  </a:lnTo>
                  <a:lnTo>
                    <a:pt x="206" y="85"/>
                  </a:lnTo>
                  <a:lnTo>
                    <a:pt x="186" y="96"/>
                  </a:lnTo>
                  <a:lnTo>
                    <a:pt x="167" y="108"/>
                  </a:lnTo>
                  <a:lnTo>
                    <a:pt x="149" y="120"/>
                  </a:lnTo>
                  <a:lnTo>
                    <a:pt x="131" y="133"/>
                  </a:lnTo>
                  <a:lnTo>
                    <a:pt x="115" y="146"/>
                  </a:lnTo>
                  <a:lnTo>
                    <a:pt x="100" y="160"/>
                  </a:lnTo>
                  <a:lnTo>
                    <a:pt x="85" y="174"/>
                  </a:lnTo>
                  <a:lnTo>
                    <a:pt x="72" y="189"/>
                  </a:lnTo>
                  <a:lnTo>
                    <a:pt x="60" y="204"/>
                  </a:lnTo>
                  <a:lnTo>
                    <a:pt x="49" y="219"/>
                  </a:lnTo>
                  <a:lnTo>
                    <a:pt x="39" y="235"/>
                  </a:lnTo>
                  <a:lnTo>
                    <a:pt x="30" y="251"/>
                  </a:lnTo>
                  <a:lnTo>
                    <a:pt x="23" y="268"/>
                  </a:lnTo>
                  <a:lnTo>
                    <a:pt x="17" y="285"/>
                  </a:lnTo>
                  <a:lnTo>
                    <a:pt x="12" y="302"/>
                  </a:lnTo>
                  <a:lnTo>
                    <a:pt x="9" y="320"/>
                  </a:lnTo>
                  <a:lnTo>
                    <a:pt x="7" y="329"/>
                  </a:lnTo>
                  <a:lnTo>
                    <a:pt x="6" y="337"/>
                  </a:lnTo>
                  <a:lnTo>
                    <a:pt x="6" y="346"/>
                  </a:lnTo>
                  <a:lnTo>
                    <a:pt x="6" y="355"/>
                  </a:lnTo>
                  <a:lnTo>
                    <a:pt x="6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Rectangle 58"/>
            <p:cNvSpPr/>
            <p:nvPr/>
          </p:nvSpPr>
          <p:spPr>
            <a:xfrm>
              <a:off x="3961080" y="3825360"/>
              <a:ext cx="150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900" spc="-1" strike="noStrike">
                  <a:solidFill>
                    <a:srgbClr val="16489f"/>
                  </a:solidFill>
                  <a:latin typeface="Arial"/>
                  <a:ea typeface="Arial"/>
                </a:rPr>
                <a:t>Подготвителни дейности,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Rectangle 60"/>
            <p:cNvSpPr/>
            <p:nvPr/>
          </p:nvSpPr>
          <p:spPr>
            <a:xfrm>
              <a:off x="4024440" y="4014360"/>
              <a:ext cx="1436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900" spc="-1" strike="noStrike">
                  <a:solidFill>
                    <a:srgbClr val="16489f"/>
                  </a:solidFill>
                  <a:latin typeface="Arial"/>
                  <a:ea typeface="Arial"/>
                </a:rPr>
                <a:t>Операции от стратегият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Freeform 65"/>
            <p:cNvSpPr/>
            <p:nvPr/>
          </p:nvSpPr>
          <p:spPr>
            <a:xfrm>
              <a:off x="3261960" y="3976560"/>
              <a:ext cx="1560240" cy="597600"/>
            </a:xfrm>
            <a:custGeom>
              <a:avLst/>
              <a:gdLst>
                <a:gd name="textAreaLeft" fmla="*/ 0 w 1560240"/>
                <a:gd name="textAreaRight" fmla="*/ 1560600 w 1560240"/>
                <a:gd name="textAreaTop" fmla="*/ 0 h 597600"/>
                <a:gd name="textAreaBottom" fmla="*/ 597960 h 597600"/>
              </a:gdLst>
              <a:ahLst/>
              <a:rect l="textAreaLeft" t="textAreaTop" r="textAreaRight" b="textAreaBottom"/>
              <a:pathLst>
                <a:path w="1158" h="578">
                  <a:moveTo>
                    <a:pt x="1155" y="578"/>
                  </a:moveTo>
                  <a:lnTo>
                    <a:pt x="31" y="18"/>
                  </a:lnTo>
                  <a:lnTo>
                    <a:pt x="34" y="14"/>
                  </a:lnTo>
                  <a:lnTo>
                    <a:pt x="1158" y="575"/>
                  </a:lnTo>
                  <a:lnTo>
                    <a:pt x="1155" y="578"/>
                  </a:lnTo>
                  <a:close/>
                  <a:moveTo>
                    <a:pt x="27" y="35"/>
                  </a:moveTo>
                  <a:lnTo>
                    <a:pt x="0" y="0"/>
                  </a:lnTo>
                  <a:lnTo>
                    <a:pt x="51" y="4"/>
                  </a:lnTo>
                  <a:lnTo>
                    <a:pt x="27" y="35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Freeform 66"/>
            <p:cNvSpPr/>
            <p:nvPr/>
          </p:nvSpPr>
          <p:spPr>
            <a:xfrm>
              <a:off x="4820040" y="3932280"/>
              <a:ext cx="1231200" cy="64224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642240"/>
                <a:gd name="textAreaBottom" fmla="*/ 642600 h 642240"/>
              </a:gdLst>
              <a:ahLst/>
              <a:rect l="textAreaLeft" t="textAreaTop" r="textAreaRight" b="textAreaBottom"/>
              <a:pathLst>
                <a:path w="1108" h="578">
                  <a:moveTo>
                    <a:pt x="3" y="578"/>
                  </a:moveTo>
                  <a:lnTo>
                    <a:pt x="1077" y="18"/>
                  </a:lnTo>
                  <a:lnTo>
                    <a:pt x="1074" y="15"/>
                  </a:lnTo>
                  <a:lnTo>
                    <a:pt x="0" y="575"/>
                  </a:lnTo>
                  <a:lnTo>
                    <a:pt x="3" y="578"/>
                  </a:lnTo>
                  <a:close/>
                  <a:moveTo>
                    <a:pt x="1082" y="35"/>
                  </a:moveTo>
                  <a:lnTo>
                    <a:pt x="1108" y="0"/>
                  </a:lnTo>
                  <a:lnTo>
                    <a:pt x="1057" y="5"/>
                  </a:lnTo>
                  <a:lnTo>
                    <a:pt x="1082" y="35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Oval 67"/>
            <p:cNvSpPr/>
            <p:nvPr/>
          </p:nvSpPr>
          <p:spPr>
            <a:xfrm>
              <a:off x="2490840" y="3629880"/>
              <a:ext cx="1117800" cy="355320"/>
            </a:xfrm>
            <a:prstGeom prst="ellipse">
              <a:avLst/>
            </a:prstGeom>
            <a:solidFill>
              <a:srgbClr val="c7949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Freeform 68"/>
            <p:cNvSpPr/>
            <p:nvPr/>
          </p:nvSpPr>
          <p:spPr>
            <a:xfrm>
              <a:off x="2490840" y="3625200"/>
              <a:ext cx="1122480" cy="3600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1011" h="325">
                  <a:moveTo>
                    <a:pt x="0" y="162"/>
                  </a:moveTo>
                  <a:lnTo>
                    <a:pt x="0" y="154"/>
                  </a:lnTo>
                  <a:lnTo>
                    <a:pt x="2" y="146"/>
                  </a:lnTo>
                  <a:lnTo>
                    <a:pt x="6" y="137"/>
                  </a:lnTo>
                  <a:lnTo>
                    <a:pt x="10" y="129"/>
                  </a:lnTo>
                  <a:lnTo>
                    <a:pt x="16" y="121"/>
                  </a:lnTo>
                  <a:lnTo>
                    <a:pt x="23" y="113"/>
                  </a:lnTo>
                  <a:lnTo>
                    <a:pt x="31" y="106"/>
                  </a:lnTo>
                  <a:lnTo>
                    <a:pt x="40" y="98"/>
                  </a:lnTo>
                  <a:lnTo>
                    <a:pt x="50" y="91"/>
                  </a:lnTo>
                  <a:lnTo>
                    <a:pt x="61" y="84"/>
                  </a:lnTo>
                  <a:lnTo>
                    <a:pt x="74" y="77"/>
                  </a:lnTo>
                  <a:lnTo>
                    <a:pt x="87" y="71"/>
                  </a:lnTo>
                  <a:lnTo>
                    <a:pt x="101" y="64"/>
                  </a:lnTo>
                  <a:lnTo>
                    <a:pt x="116" y="58"/>
                  </a:lnTo>
                  <a:lnTo>
                    <a:pt x="132" y="52"/>
                  </a:lnTo>
                  <a:lnTo>
                    <a:pt x="149" y="47"/>
                  </a:lnTo>
                  <a:lnTo>
                    <a:pt x="166" y="42"/>
                  </a:lnTo>
                  <a:lnTo>
                    <a:pt x="185" y="36"/>
                  </a:lnTo>
                  <a:lnTo>
                    <a:pt x="204" y="32"/>
                  </a:lnTo>
                  <a:lnTo>
                    <a:pt x="223" y="27"/>
                  </a:lnTo>
                  <a:lnTo>
                    <a:pt x="244" y="23"/>
                  </a:lnTo>
                  <a:lnTo>
                    <a:pt x="265" y="19"/>
                  </a:lnTo>
                  <a:lnTo>
                    <a:pt x="287" y="16"/>
                  </a:lnTo>
                  <a:lnTo>
                    <a:pt x="309" y="12"/>
                  </a:lnTo>
                  <a:lnTo>
                    <a:pt x="332" y="9"/>
                  </a:lnTo>
                  <a:lnTo>
                    <a:pt x="355" y="7"/>
                  </a:lnTo>
                  <a:lnTo>
                    <a:pt x="379" y="5"/>
                  </a:lnTo>
                  <a:lnTo>
                    <a:pt x="404" y="3"/>
                  </a:lnTo>
                  <a:lnTo>
                    <a:pt x="429" y="2"/>
                  </a:lnTo>
                  <a:lnTo>
                    <a:pt x="454" y="1"/>
                  </a:lnTo>
                  <a:lnTo>
                    <a:pt x="479" y="0"/>
                  </a:lnTo>
                  <a:lnTo>
                    <a:pt x="505" y="0"/>
                  </a:lnTo>
                  <a:lnTo>
                    <a:pt x="531" y="0"/>
                  </a:lnTo>
                  <a:lnTo>
                    <a:pt x="557" y="0"/>
                  </a:lnTo>
                  <a:lnTo>
                    <a:pt x="582" y="2"/>
                  </a:lnTo>
                  <a:lnTo>
                    <a:pt x="607" y="3"/>
                  </a:lnTo>
                  <a:lnTo>
                    <a:pt x="631" y="5"/>
                  </a:lnTo>
                  <a:lnTo>
                    <a:pt x="655" y="7"/>
                  </a:lnTo>
                  <a:lnTo>
                    <a:pt x="679" y="9"/>
                  </a:lnTo>
                  <a:lnTo>
                    <a:pt x="702" y="12"/>
                  </a:lnTo>
                  <a:lnTo>
                    <a:pt x="724" y="16"/>
                  </a:lnTo>
                  <a:lnTo>
                    <a:pt x="746" y="19"/>
                  </a:lnTo>
                  <a:lnTo>
                    <a:pt x="767" y="23"/>
                  </a:lnTo>
                  <a:lnTo>
                    <a:pt x="787" y="27"/>
                  </a:lnTo>
                  <a:lnTo>
                    <a:pt x="807" y="32"/>
                  </a:lnTo>
                  <a:lnTo>
                    <a:pt x="826" y="36"/>
                  </a:lnTo>
                  <a:lnTo>
                    <a:pt x="845" y="41"/>
                  </a:lnTo>
                  <a:lnTo>
                    <a:pt x="862" y="47"/>
                  </a:lnTo>
                  <a:lnTo>
                    <a:pt x="879" y="52"/>
                  </a:lnTo>
                  <a:lnTo>
                    <a:pt x="895" y="58"/>
                  </a:lnTo>
                  <a:lnTo>
                    <a:pt x="910" y="64"/>
                  </a:lnTo>
                  <a:lnTo>
                    <a:pt x="924" y="71"/>
                  </a:lnTo>
                  <a:lnTo>
                    <a:pt x="937" y="77"/>
                  </a:lnTo>
                  <a:lnTo>
                    <a:pt x="949" y="84"/>
                  </a:lnTo>
                  <a:lnTo>
                    <a:pt x="961" y="91"/>
                  </a:lnTo>
                  <a:lnTo>
                    <a:pt x="971" y="98"/>
                  </a:lnTo>
                  <a:lnTo>
                    <a:pt x="980" y="106"/>
                  </a:lnTo>
                  <a:lnTo>
                    <a:pt x="988" y="113"/>
                  </a:lnTo>
                  <a:lnTo>
                    <a:pt x="995" y="121"/>
                  </a:lnTo>
                  <a:lnTo>
                    <a:pt x="1001" y="129"/>
                  </a:lnTo>
                  <a:lnTo>
                    <a:pt x="1005" y="137"/>
                  </a:lnTo>
                  <a:lnTo>
                    <a:pt x="1008" y="145"/>
                  </a:lnTo>
                  <a:lnTo>
                    <a:pt x="1010" y="154"/>
                  </a:lnTo>
                  <a:lnTo>
                    <a:pt x="1011" y="162"/>
                  </a:lnTo>
                  <a:lnTo>
                    <a:pt x="1011" y="171"/>
                  </a:lnTo>
                  <a:lnTo>
                    <a:pt x="1009" y="179"/>
                  </a:lnTo>
                  <a:lnTo>
                    <a:pt x="1005" y="187"/>
                  </a:lnTo>
                  <a:lnTo>
                    <a:pt x="1001" y="196"/>
                  </a:lnTo>
                  <a:lnTo>
                    <a:pt x="995" y="204"/>
                  </a:lnTo>
                  <a:lnTo>
                    <a:pt x="988" y="211"/>
                  </a:lnTo>
                  <a:lnTo>
                    <a:pt x="980" y="219"/>
                  </a:lnTo>
                  <a:lnTo>
                    <a:pt x="971" y="226"/>
                  </a:lnTo>
                  <a:lnTo>
                    <a:pt x="961" y="234"/>
                  </a:lnTo>
                  <a:lnTo>
                    <a:pt x="949" y="241"/>
                  </a:lnTo>
                  <a:lnTo>
                    <a:pt x="937" y="247"/>
                  </a:lnTo>
                  <a:lnTo>
                    <a:pt x="924" y="254"/>
                  </a:lnTo>
                  <a:lnTo>
                    <a:pt x="910" y="260"/>
                  </a:lnTo>
                  <a:lnTo>
                    <a:pt x="895" y="266"/>
                  </a:lnTo>
                  <a:lnTo>
                    <a:pt x="879" y="272"/>
                  </a:lnTo>
                  <a:lnTo>
                    <a:pt x="862" y="278"/>
                  </a:lnTo>
                  <a:lnTo>
                    <a:pt x="845" y="283"/>
                  </a:lnTo>
                  <a:lnTo>
                    <a:pt x="826" y="288"/>
                  </a:lnTo>
                  <a:lnTo>
                    <a:pt x="807" y="293"/>
                  </a:lnTo>
                  <a:lnTo>
                    <a:pt x="787" y="298"/>
                  </a:lnTo>
                  <a:lnTo>
                    <a:pt x="767" y="302"/>
                  </a:lnTo>
                  <a:lnTo>
                    <a:pt x="746" y="306"/>
                  </a:lnTo>
                  <a:lnTo>
                    <a:pt x="724" y="309"/>
                  </a:lnTo>
                  <a:lnTo>
                    <a:pt x="702" y="312"/>
                  </a:lnTo>
                  <a:lnTo>
                    <a:pt x="679" y="315"/>
                  </a:lnTo>
                  <a:lnTo>
                    <a:pt x="655" y="318"/>
                  </a:lnTo>
                  <a:lnTo>
                    <a:pt x="631" y="320"/>
                  </a:lnTo>
                  <a:lnTo>
                    <a:pt x="607" y="322"/>
                  </a:lnTo>
                  <a:lnTo>
                    <a:pt x="582" y="323"/>
                  </a:lnTo>
                  <a:lnTo>
                    <a:pt x="557" y="324"/>
                  </a:lnTo>
                  <a:lnTo>
                    <a:pt x="531" y="325"/>
                  </a:lnTo>
                  <a:lnTo>
                    <a:pt x="505" y="325"/>
                  </a:lnTo>
                  <a:lnTo>
                    <a:pt x="479" y="325"/>
                  </a:lnTo>
                  <a:lnTo>
                    <a:pt x="454" y="324"/>
                  </a:lnTo>
                  <a:lnTo>
                    <a:pt x="429" y="323"/>
                  </a:lnTo>
                  <a:lnTo>
                    <a:pt x="404" y="322"/>
                  </a:lnTo>
                  <a:lnTo>
                    <a:pt x="379" y="320"/>
                  </a:lnTo>
                  <a:lnTo>
                    <a:pt x="356" y="318"/>
                  </a:lnTo>
                  <a:lnTo>
                    <a:pt x="332" y="315"/>
                  </a:lnTo>
                  <a:lnTo>
                    <a:pt x="309" y="312"/>
                  </a:lnTo>
                  <a:lnTo>
                    <a:pt x="287" y="309"/>
                  </a:lnTo>
                  <a:lnTo>
                    <a:pt x="265" y="306"/>
                  </a:lnTo>
                  <a:lnTo>
                    <a:pt x="244" y="302"/>
                  </a:lnTo>
                  <a:lnTo>
                    <a:pt x="223" y="298"/>
                  </a:lnTo>
                  <a:lnTo>
                    <a:pt x="204" y="293"/>
                  </a:lnTo>
                  <a:lnTo>
                    <a:pt x="185" y="288"/>
                  </a:lnTo>
                  <a:lnTo>
                    <a:pt x="166" y="283"/>
                  </a:lnTo>
                  <a:lnTo>
                    <a:pt x="149" y="278"/>
                  </a:lnTo>
                  <a:lnTo>
                    <a:pt x="132" y="272"/>
                  </a:lnTo>
                  <a:lnTo>
                    <a:pt x="116" y="266"/>
                  </a:lnTo>
                  <a:lnTo>
                    <a:pt x="101" y="260"/>
                  </a:lnTo>
                  <a:lnTo>
                    <a:pt x="87" y="254"/>
                  </a:lnTo>
                  <a:lnTo>
                    <a:pt x="74" y="247"/>
                  </a:lnTo>
                  <a:lnTo>
                    <a:pt x="61" y="241"/>
                  </a:lnTo>
                  <a:lnTo>
                    <a:pt x="50" y="234"/>
                  </a:lnTo>
                  <a:lnTo>
                    <a:pt x="40" y="226"/>
                  </a:lnTo>
                  <a:lnTo>
                    <a:pt x="31" y="219"/>
                  </a:lnTo>
                  <a:lnTo>
                    <a:pt x="23" y="211"/>
                  </a:lnTo>
                  <a:lnTo>
                    <a:pt x="16" y="204"/>
                  </a:lnTo>
                  <a:lnTo>
                    <a:pt x="10" y="196"/>
                  </a:lnTo>
                  <a:lnTo>
                    <a:pt x="6" y="188"/>
                  </a:lnTo>
                  <a:lnTo>
                    <a:pt x="2" y="179"/>
                  </a:lnTo>
                  <a:lnTo>
                    <a:pt x="0" y="171"/>
                  </a:lnTo>
                  <a:lnTo>
                    <a:pt x="0" y="162"/>
                  </a:lnTo>
                  <a:close/>
                  <a:moveTo>
                    <a:pt x="6" y="170"/>
                  </a:moveTo>
                  <a:lnTo>
                    <a:pt x="8" y="178"/>
                  </a:lnTo>
                  <a:lnTo>
                    <a:pt x="11" y="186"/>
                  </a:lnTo>
                  <a:lnTo>
                    <a:pt x="15" y="194"/>
                  </a:lnTo>
                  <a:lnTo>
                    <a:pt x="20" y="201"/>
                  </a:lnTo>
                  <a:lnTo>
                    <a:pt x="27" y="209"/>
                  </a:lnTo>
                  <a:lnTo>
                    <a:pt x="35" y="216"/>
                  </a:lnTo>
                  <a:lnTo>
                    <a:pt x="44" y="223"/>
                  </a:lnTo>
                  <a:lnTo>
                    <a:pt x="54" y="230"/>
                  </a:lnTo>
                  <a:lnTo>
                    <a:pt x="65" y="237"/>
                  </a:lnTo>
                  <a:lnTo>
                    <a:pt x="77" y="244"/>
                  </a:lnTo>
                  <a:lnTo>
                    <a:pt x="90" y="250"/>
                  </a:lnTo>
                  <a:lnTo>
                    <a:pt x="104" y="256"/>
                  </a:lnTo>
                  <a:lnTo>
                    <a:pt x="118" y="262"/>
                  </a:lnTo>
                  <a:lnTo>
                    <a:pt x="134" y="268"/>
                  </a:lnTo>
                  <a:lnTo>
                    <a:pt x="151" y="274"/>
                  </a:lnTo>
                  <a:lnTo>
                    <a:pt x="168" y="279"/>
                  </a:lnTo>
                  <a:lnTo>
                    <a:pt x="186" y="284"/>
                  </a:lnTo>
                  <a:lnTo>
                    <a:pt x="205" y="289"/>
                  </a:lnTo>
                  <a:lnTo>
                    <a:pt x="225" y="293"/>
                  </a:lnTo>
                  <a:lnTo>
                    <a:pt x="245" y="297"/>
                  </a:lnTo>
                  <a:lnTo>
                    <a:pt x="266" y="301"/>
                  </a:lnTo>
                  <a:lnTo>
                    <a:pt x="288" y="305"/>
                  </a:lnTo>
                  <a:lnTo>
                    <a:pt x="310" y="308"/>
                  </a:lnTo>
                  <a:lnTo>
                    <a:pt x="333" y="311"/>
                  </a:lnTo>
                  <a:lnTo>
                    <a:pt x="356" y="313"/>
                  </a:lnTo>
                  <a:lnTo>
                    <a:pt x="380" y="316"/>
                  </a:lnTo>
                  <a:lnTo>
                    <a:pt x="404" y="317"/>
                  </a:lnTo>
                  <a:lnTo>
                    <a:pt x="429" y="319"/>
                  </a:lnTo>
                  <a:lnTo>
                    <a:pt x="454" y="320"/>
                  </a:lnTo>
                  <a:lnTo>
                    <a:pt x="480" y="320"/>
                  </a:lnTo>
                  <a:lnTo>
                    <a:pt x="505" y="321"/>
                  </a:lnTo>
                  <a:lnTo>
                    <a:pt x="531" y="320"/>
                  </a:lnTo>
                  <a:lnTo>
                    <a:pt x="557" y="320"/>
                  </a:lnTo>
                  <a:lnTo>
                    <a:pt x="582" y="319"/>
                  </a:lnTo>
                  <a:lnTo>
                    <a:pt x="607" y="317"/>
                  </a:lnTo>
                  <a:lnTo>
                    <a:pt x="631" y="316"/>
                  </a:lnTo>
                  <a:lnTo>
                    <a:pt x="655" y="313"/>
                  </a:lnTo>
                  <a:lnTo>
                    <a:pt x="678" y="311"/>
                  </a:lnTo>
                  <a:lnTo>
                    <a:pt x="701" y="308"/>
                  </a:lnTo>
                  <a:lnTo>
                    <a:pt x="723" y="305"/>
                  </a:lnTo>
                  <a:lnTo>
                    <a:pt x="745" y="301"/>
                  </a:lnTo>
                  <a:lnTo>
                    <a:pt x="766" y="297"/>
                  </a:lnTo>
                  <a:lnTo>
                    <a:pt x="786" y="293"/>
                  </a:lnTo>
                  <a:lnTo>
                    <a:pt x="806" y="289"/>
                  </a:lnTo>
                  <a:lnTo>
                    <a:pt x="824" y="284"/>
                  </a:lnTo>
                  <a:lnTo>
                    <a:pt x="843" y="279"/>
                  </a:lnTo>
                  <a:lnTo>
                    <a:pt x="860" y="274"/>
                  </a:lnTo>
                  <a:lnTo>
                    <a:pt x="877" y="268"/>
                  </a:lnTo>
                  <a:lnTo>
                    <a:pt x="892" y="262"/>
                  </a:lnTo>
                  <a:lnTo>
                    <a:pt x="907" y="256"/>
                  </a:lnTo>
                  <a:lnTo>
                    <a:pt x="921" y="250"/>
                  </a:lnTo>
                  <a:lnTo>
                    <a:pt x="934" y="244"/>
                  </a:lnTo>
                  <a:lnTo>
                    <a:pt x="946" y="237"/>
                  </a:lnTo>
                  <a:lnTo>
                    <a:pt x="957" y="230"/>
                  </a:lnTo>
                  <a:lnTo>
                    <a:pt x="967" y="223"/>
                  </a:lnTo>
                  <a:lnTo>
                    <a:pt x="976" y="216"/>
                  </a:lnTo>
                  <a:lnTo>
                    <a:pt x="984" y="209"/>
                  </a:lnTo>
                  <a:lnTo>
                    <a:pt x="990" y="201"/>
                  </a:lnTo>
                  <a:lnTo>
                    <a:pt x="996" y="194"/>
                  </a:lnTo>
                  <a:lnTo>
                    <a:pt x="1000" y="186"/>
                  </a:lnTo>
                  <a:lnTo>
                    <a:pt x="1003" y="178"/>
                  </a:lnTo>
                  <a:lnTo>
                    <a:pt x="1005" y="170"/>
                  </a:lnTo>
                  <a:lnTo>
                    <a:pt x="1006" y="162"/>
                  </a:lnTo>
                  <a:lnTo>
                    <a:pt x="1005" y="154"/>
                  </a:lnTo>
                  <a:lnTo>
                    <a:pt x="1003" y="147"/>
                  </a:lnTo>
                  <a:lnTo>
                    <a:pt x="1000" y="139"/>
                  </a:lnTo>
                  <a:lnTo>
                    <a:pt x="996" y="131"/>
                  </a:lnTo>
                  <a:lnTo>
                    <a:pt x="990" y="123"/>
                  </a:lnTo>
                  <a:lnTo>
                    <a:pt x="984" y="116"/>
                  </a:lnTo>
                  <a:lnTo>
                    <a:pt x="976" y="109"/>
                  </a:lnTo>
                  <a:lnTo>
                    <a:pt x="967" y="101"/>
                  </a:lnTo>
                  <a:lnTo>
                    <a:pt x="957" y="94"/>
                  </a:lnTo>
                  <a:lnTo>
                    <a:pt x="946" y="88"/>
                  </a:lnTo>
                  <a:lnTo>
                    <a:pt x="934" y="81"/>
                  </a:lnTo>
                  <a:lnTo>
                    <a:pt x="921" y="75"/>
                  </a:lnTo>
                  <a:lnTo>
                    <a:pt x="907" y="68"/>
                  </a:lnTo>
                  <a:lnTo>
                    <a:pt x="892" y="62"/>
                  </a:lnTo>
                  <a:lnTo>
                    <a:pt x="877" y="56"/>
                  </a:lnTo>
                  <a:lnTo>
                    <a:pt x="860" y="51"/>
                  </a:lnTo>
                  <a:lnTo>
                    <a:pt x="843" y="46"/>
                  </a:lnTo>
                  <a:lnTo>
                    <a:pt x="825" y="41"/>
                  </a:lnTo>
                  <a:lnTo>
                    <a:pt x="806" y="36"/>
                  </a:lnTo>
                  <a:lnTo>
                    <a:pt x="786" y="31"/>
                  </a:lnTo>
                  <a:lnTo>
                    <a:pt x="766" y="27"/>
                  </a:lnTo>
                  <a:lnTo>
                    <a:pt x="745" y="23"/>
                  </a:lnTo>
                  <a:lnTo>
                    <a:pt x="723" y="20"/>
                  </a:lnTo>
                  <a:lnTo>
                    <a:pt x="701" y="17"/>
                  </a:lnTo>
                  <a:lnTo>
                    <a:pt x="678" y="14"/>
                  </a:lnTo>
                  <a:lnTo>
                    <a:pt x="655" y="11"/>
                  </a:lnTo>
                  <a:lnTo>
                    <a:pt x="631" y="9"/>
                  </a:lnTo>
                  <a:lnTo>
                    <a:pt x="607" y="7"/>
                  </a:lnTo>
                  <a:lnTo>
                    <a:pt x="582" y="6"/>
                  </a:lnTo>
                  <a:lnTo>
                    <a:pt x="557" y="5"/>
                  </a:lnTo>
                  <a:lnTo>
                    <a:pt x="531" y="4"/>
                  </a:lnTo>
                  <a:lnTo>
                    <a:pt x="505" y="4"/>
                  </a:lnTo>
                  <a:lnTo>
                    <a:pt x="480" y="4"/>
                  </a:lnTo>
                  <a:lnTo>
                    <a:pt x="454" y="5"/>
                  </a:lnTo>
                  <a:lnTo>
                    <a:pt x="429" y="6"/>
                  </a:lnTo>
                  <a:lnTo>
                    <a:pt x="404" y="7"/>
                  </a:lnTo>
                  <a:lnTo>
                    <a:pt x="380" y="9"/>
                  </a:lnTo>
                  <a:lnTo>
                    <a:pt x="356" y="11"/>
                  </a:lnTo>
                  <a:lnTo>
                    <a:pt x="333" y="14"/>
                  </a:lnTo>
                  <a:lnTo>
                    <a:pt x="310" y="17"/>
                  </a:lnTo>
                  <a:lnTo>
                    <a:pt x="288" y="20"/>
                  </a:lnTo>
                  <a:lnTo>
                    <a:pt x="266" y="23"/>
                  </a:lnTo>
                  <a:lnTo>
                    <a:pt x="245" y="27"/>
                  </a:lnTo>
                  <a:lnTo>
                    <a:pt x="225" y="31"/>
                  </a:lnTo>
                  <a:lnTo>
                    <a:pt x="205" y="36"/>
                  </a:lnTo>
                  <a:lnTo>
                    <a:pt x="186" y="41"/>
                  </a:lnTo>
                  <a:lnTo>
                    <a:pt x="168" y="46"/>
                  </a:lnTo>
                  <a:lnTo>
                    <a:pt x="151" y="51"/>
                  </a:lnTo>
                  <a:lnTo>
                    <a:pt x="134" y="56"/>
                  </a:lnTo>
                  <a:lnTo>
                    <a:pt x="118" y="62"/>
                  </a:lnTo>
                  <a:lnTo>
                    <a:pt x="104" y="68"/>
                  </a:lnTo>
                  <a:lnTo>
                    <a:pt x="90" y="74"/>
                  </a:lnTo>
                  <a:lnTo>
                    <a:pt x="77" y="81"/>
                  </a:lnTo>
                  <a:lnTo>
                    <a:pt x="65" y="88"/>
                  </a:lnTo>
                  <a:lnTo>
                    <a:pt x="54" y="94"/>
                  </a:lnTo>
                  <a:lnTo>
                    <a:pt x="44" y="101"/>
                  </a:lnTo>
                  <a:lnTo>
                    <a:pt x="35" y="109"/>
                  </a:lnTo>
                  <a:lnTo>
                    <a:pt x="27" y="116"/>
                  </a:lnTo>
                  <a:lnTo>
                    <a:pt x="21" y="123"/>
                  </a:lnTo>
                  <a:lnTo>
                    <a:pt x="15" y="131"/>
                  </a:lnTo>
                  <a:lnTo>
                    <a:pt x="11" y="139"/>
                  </a:lnTo>
                  <a:lnTo>
                    <a:pt x="8" y="146"/>
                  </a:lnTo>
                  <a:lnTo>
                    <a:pt x="6" y="154"/>
                  </a:lnTo>
                  <a:lnTo>
                    <a:pt x="5" y="162"/>
                  </a:lnTo>
                  <a:lnTo>
                    <a:pt x="6" y="170"/>
                  </a:lnTo>
                  <a:close/>
                </a:path>
              </a:pathLst>
            </a:custGeom>
            <a:solidFill>
              <a:srgbClr val="c7949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Rectangle 69"/>
            <p:cNvSpPr/>
            <p:nvPr/>
          </p:nvSpPr>
          <p:spPr>
            <a:xfrm>
              <a:off x="2584440" y="3717720"/>
              <a:ext cx="927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16489f"/>
                  </a:solidFill>
                  <a:latin typeface="Arial"/>
                  <a:ea typeface="Arial"/>
                </a:rPr>
                <a:t>Проект ЕФРР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Oval 71"/>
            <p:cNvSpPr/>
            <p:nvPr/>
          </p:nvSpPr>
          <p:spPr>
            <a:xfrm>
              <a:off x="5547960" y="3574080"/>
              <a:ext cx="1117800" cy="355320"/>
            </a:xfrm>
            <a:prstGeom prst="ellipse">
              <a:avLst/>
            </a:prstGeom>
            <a:solidFill>
              <a:srgbClr val="4a671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Freeform 72"/>
            <p:cNvSpPr/>
            <p:nvPr/>
          </p:nvSpPr>
          <p:spPr>
            <a:xfrm>
              <a:off x="5544720" y="3573360"/>
              <a:ext cx="1124280" cy="361080"/>
            </a:xfrm>
            <a:custGeom>
              <a:avLst/>
              <a:gdLst>
                <a:gd name="textAreaLeft" fmla="*/ 0 w 1124280"/>
                <a:gd name="textAreaRight" fmla="*/ 1124640 w 112428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1012" h="325">
                  <a:moveTo>
                    <a:pt x="0" y="162"/>
                  </a:moveTo>
                  <a:lnTo>
                    <a:pt x="1" y="154"/>
                  </a:lnTo>
                  <a:lnTo>
                    <a:pt x="3" y="146"/>
                  </a:lnTo>
                  <a:lnTo>
                    <a:pt x="6" y="137"/>
                  </a:lnTo>
                  <a:lnTo>
                    <a:pt x="11" y="129"/>
                  </a:lnTo>
                  <a:lnTo>
                    <a:pt x="17" y="121"/>
                  </a:lnTo>
                  <a:lnTo>
                    <a:pt x="24" y="113"/>
                  </a:lnTo>
                  <a:lnTo>
                    <a:pt x="32" y="106"/>
                  </a:lnTo>
                  <a:lnTo>
                    <a:pt x="41" y="98"/>
                  </a:lnTo>
                  <a:lnTo>
                    <a:pt x="51" y="91"/>
                  </a:lnTo>
                  <a:lnTo>
                    <a:pt x="62" y="84"/>
                  </a:lnTo>
                  <a:lnTo>
                    <a:pt x="74" y="77"/>
                  </a:lnTo>
                  <a:lnTo>
                    <a:pt x="88" y="71"/>
                  </a:lnTo>
                  <a:lnTo>
                    <a:pt x="102" y="64"/>
                  </a:lnTo>
                  <a:lnTo>
                    <a:pt x="117" y="58"/>
                  </a:lnTo>
                  <a:lnTo>
                    <a:pt x="133" y="53"/>
                  </a:lnTo>
                  <a:lnTo>
                    <a:pt x="149" y="47"/>
                  </a:lnTo>
                  <a:lnTo>
                    <a:pt x="167" y="42"/>
                  </a:lnTo>
                  <a:lnTo>
                    <a:pt x="185" y="37"/>
                  </a:lnTo>
                  <a:lnTo>
                    <a:pt x="204" y="32"/>
                  </a:lnTo>
                  <a:lnTo>
                    <a:pt x="224" y="27"/>
                  </a:lnTo>
                  <a:lnTo>
                    <a:pt x="245" y="23"/>
                  </a:lnTo>
                  <a:lnTo>
                    <a:pt x="266" y="19"/>
                  </a:lnTo>
                  <a:lnTo>
                    <a:pt x="287" y="16"/>
                  </a:lnTo>
                  <a:lnTo>
                    <a:pt x="310" y="12"/>
                  </a:lnTo>
                  <a:lnTo>
                    <a:pt x="333" y="9"/>
                  </a:lnTo>
                  <a:lnTo>
                    <a:pt x="356" y="7"/>
                  </a:lnTo>
                  <a:lnTo>
                    <a:pt x="380" y="5"/>
                  </a:lnTo>
                  <a:lnTo>
                    <a:pt x="405" y="3"/>
                  </a:lnTo>
                  <a:lnTo>
                    <a:pt x="429" y="2"/>
                  </a:lnTo>
                  <a:lnTo>
                    <a:pt x="455" y="1"/>
                  </a:lnTo>
                  <a:lnTo>
                    <a:pt x="480" y="0"/>
                  </a:lnTo>
                  <a:lnTo>
                    <a:pt x="506" y="0"/>
                  </a:lnTo>
                  <a:lnTo>
                    <a:pt x="532" y="0"/>
                  </a:lnTo>
                  <a:lnTo>
                    <a:pt x="558" y="1"/>
                  </a:lnTo>
                  <a:lnTo>
                    <a:pt x="583" y="2"/>
                  </a:lnTo>
                  <a:lnTo>
                    <a:pt x="608" y="3"/>
                  </a:lnTo>
                  <a:lnTo>
                    <a:pt x="632" y="5"/>
                  </a:lnTo>
                  <a:lnTo>
                    <a:pt x="656" y="7"/>
                  </a:lnTo>
                  <a:lnTo>
                    <a:pt x="679" y="9"/>
                  </a:lnTo>
                  <a:lnTo>
                    <a:pt x="702" y="12"/>
                  </a:lnTo>
                  <a:lnTo>
                    <a:pt x="725" y="16"/>
                  </a:lnTo>
                  <a:lnTo>
                    <a:pt x="746" y="19"/>
                  </a:lnTo>
                  <a:lnTo>
                    <a:pt x="768" y="23"/>
                  </a:lnTo>
                  <a:lnTo>
                    <a:pt x="788" y="27"/>
                  </a:lnTo>
                  <a:lnTo>
                    <a:pt x="808" y="32"/>
                  </a:lnTo>
                  <a:lnTo>
                    <a:pt x="827" y="37"/>
                  </a:lnTo>
                  <a:lnTo>
                    <a:pt x="845" y="41"/>
                  </a:lnTo>
                  <a:lnTo>
                    <a:pt x="863" y="47"/>
                  </a:lnTo>
                  <a:lnTo>
                    <a:pt x="880" y="52"/>
                  </a:lnTo>
                  <a:lnTo>
                    <a:pt x="895" y="58"/>
                  </a:lnTo>
                  <a:lnTo>
                    <a:pt x="910" y="64"/>
                  </a:lnTo>
                  <a:lnTo>
                    <a:pt x="925" y="71"/>
                  </a:lnTo>
                  <a:lnTo>
                    <a:pt x="938" y="77"/>
                  </a:lnTo>
                  <a:lnTo>
                    <a:pt x="950" y="84"/>
                  </a:lnTo>
                  <a:lnTo>
                    <a:pt x="961" y="91"/>
                  </a:lnTo>
                  <a:lnTo>
                    <a:pt x="972" y="98"/>
                  </a:lnTo>
                  <a:lnTo>
                    <a:pt x="981" y="106"/>
                  </a:lnTo>
                  <a:lnTo>
                    <a:pt x="989" y="113"/>
                  </a:lnTo>
                  <a:lnTo>
                    <a:pt x="996" y="121"/>
                  </a:lnTo>
                  <a:lnTo>
                    <a:pt x="1001" y="129"/>
                  </a:lnTo>
                  <a:lnTo>
                    <a:pt x="1006" y="137"/>
                  </a:lnTo>
                  <a:lnTo>
                    <a:pt x="1009" y="145"/>
                  </a:lnTo>
                  <a:lnTo>
                    <a:pt x="1011" y="154"/>
                  </a:lnTo>
                  <a:lnTo>
                    <a:pt x="1012" y="162"/>
                  </a:lnTo>
                  <a:lnTo>
                    <a:pt x="1011" y="171"/>
                  </a:lnTo>
                  <a:lnTo>
                    <a:pt x="1009" y="179"/>
                  </a:lnTo>
                  <a:lnTo>
                    <a:pt x="1006" y="187"/>
                  </a:lnTo>
                  <a:lnTo>
                    <a:pt x="1001" y="196"/>
                  </a:lnTo>
                  <a:lnTo>
                    <a:pt x="996" y="204"/>
                  </a:lnTo>
                  <a:lnTo>
                    <a:pt x="989" y="211"/>
                  </a:lnTo>
                  <a:lnTo>
                    <a:pt x="981" y="219"/>
                  </a:lnTo>
                  <a:lnTo>
                    <a:pt x="972" y="226"/>
                  </a:lnTo>
                  <a:lnTo>
                    <a:pt x="961" y="234"/>
                  </a:lnTo>
                  <a:lnTo>
                    <a:pt x="950" y="241"/>
                  </a:lnTo>
                  <a:lnTo>
                    <a:pt x="938" y="247"/>
                  </a:lnTo>
                  <a:lnTo>
                    <a:pt x="925" y="254"/>
                  </a:lnTo>
                  <a:lnTo>
                    <a:pt x="911" y="260"/>
                  </a:lnTo>
                  <a:lnTo>
                    <a:pt x="896" y="266"/>
                  </a:lnTo>
                  <a:lnTo>
                    <a:pt x="880" y="272"/>
                  </a:lnTo>
                  <a:lnTo>
                    <a:pt x="863" y="278"/>
                  </a:lnTo>
                  <a:lnTo>
                    <a:pt x="845" y="283"/>
                  </a:lnTo>
                  <a:lnTo>
                    <a:pt x="827" y="288"/>
                  </a:lnTo>
                  <a:lnTo>
                    <a:pt x="808" y="293"/>
                  </a:lnTo>
                  <a:lnTo>
                    <a:pt x="788" y="297"/>
                  </a:lnTo>
                  <a:lnTo>
                    <a:pt x="768" y="302"/>
                  </a:lnTo>
                  <a:lnTo>
                    <a:pt x="746" y="306"/>
                  </a:lnTo>
                  <a:lnTo>
                    <a:pt x="725" y="309"/>
                  </a:lnTo>
                  <a:lnTo>
                    <a:pt x="702" y="312"/>
                  </a:lnTo>
                  <a:lnTo>
                    <a:pt x="680" y="315"/>
                  </a:lnTo>
                  <a:lnTo>
                    <a:pt x="656" y="318"/>
                  </a:lnTo>
                  <a:lnTo>
                    <a:pt x="632" y="320"/>
                  </a:lnTo>
                  <a:lnTo>
                    <a:pt x="608" y="322"/>
                  </a:lnTo>
                  <a:lnTo>
                    <a:pt x="583" y="323"/>
                  </a:lnTo>
                  <a:lnTo>
                    <a:pt x="558" y="324"/>
                  </a:lnTo>
                  <a:lnTo>
                    <a:pt x="532" y="325"/>
                  </a:lnTo>
                  <a:lnTo>
                    <a:pt x="506" y="325"/>
                  </a:lnTo>
                  <a:lnTo>
                    <a:pt x="480" y="325"/>
                  </a:lnTo>
                  <a:lnTo>
                    <a:pt x="455" y="324"/>
                  </a:lnTo>
                  <a:lnTo>
                    <a:pt x="430" y="323"/>
                  </a:lnTo>
                  <a:lnTo>
                    <a:pt x="405" y="322"/>
                  </a:lnTo>
                  <a:lnTo>
                    <a:pt x="380" y="320"/>
                  </a:lnTo>
                  <a:lnTo>
                    <a:pt x="356" y="318"/>
                  </a:lnTo>
                  <a:lnTo>
                    <a:pt x="333" y="315"/>
                  </a:lnTo>
                  <a:lnTo>
                    <a:pt x="310" y="312"/>
                  </a:lnTo>
                  <a:lnTo>
                    <a:pt x="287" y="309"/>
                  </a:lnTo>
                  <a:lnTo>
                    <a:pt x="266" y="306"/>
                  </a:lnTo>
                  <a:lnTo>
                    <a:pt x="245" y="302"/>
                  </a:lnTo>
                  <a:lnTo>
                    <a:pt x="224" y="298"/>
                  </a:lnTo>
                  <a:lnTo>
                    <a:pt x="205" y="293"/>
                  </a:lnTo>
                  <a:lnTo>
                    <a:pt x="185" y="288"/>
                  </a:lnTo>
                  <a:lnTo>
                    <a:pt x="167" y="283"/>
                  </a:lnTo>
                  <a:lnTo>
                    <a:pt x="149" y="278"/>
                  </a:lnTo>
                  <a:lnTo>
                    <a:pt x="133" y="272"/>
                  </a:lnTo>
                  <a:lnTo>
                    <a:pt x="117" y="266"/>
                  </a:lnTo>
                  <a:lnTo>
                    <a:pt x="102" y="260"/>
                  </a:lnTo>
                  <a:lnTo>
                    <a:pt x="88" y="254"/>
                  </a:lnTo>
                  <a:lnTo>
                    <a:pt x="74" y="247"/>
                  </a:lnTo>
                  <a:lnTo>
                    <a:pt x="62" y="241"/>
                  </a:lnTo>
                  <a:lnTo>
                    <a:pt x="51" y="234"/>
                  </a:lnTo>
                  <a:lnTo>
                    <a:pt x="41" y="227"/>
                  </a:lnTo>
                  <a:lnTo>
                    <a:pt x="32" y="219"/>
                  </a:lnTo>
                  <a:lnTo>
                    <a:pt x="24" y="211"/>
                  </a:lnTo>
                  <a:lnTo>
                    <a:pt x="17" y="204"/>
                  </a:lnTo>
                  <a:lnTo>
                    <a:pt x="11" y="196"/>
                  </a:lnTo>
                  <a:lnTo>
                    <a:pt x="6" y="188"/>
                  </a:lnTo>
                  <a:lnTo>
                    <a:pt x="3" y="179"/>
                  </a:lnTo>
                  <a:lnTo>
                    <a:pt x="1" y="171"/>
                  </a:lnTo>
                  <a:lnTo>
                    <a:pt x="0" y="162"/>
                  </a:lnTo>
                  <a:close/>
                  <a:moveTo>
                    <a:pt x="6" y="170"/>
                  </a:moveTo>
                  <a:lnTo>
                    <a:pt x="8" y="178"/>
                  </a:lnTo>
                  <a:lnTo>
                    <a:pt x="12" y="186"/>
                  </a:lnTo>
                  <a:lnTo>
                    <a:pt x="16" y="194"/>
                  </a:lnTo>
                  <a:lnTo>
                    <a:pt x="21" y="201"/>
                  </a:lnTo>
                  <a:lnTo>
                    <a:pt x="28" y="209"/>
                  </a:lnTo>
                  <a:lnTo>
                    <a:pt x="36" y="216"/>
                  </a:lnTo>
                  <a:lnTo>
                    <a:pt x="45" y="223"/>
                  </a:lnTo>
                  <a:lnTo>
                    <a:pt x="54" y="230"/>
                  </a:lnTo>
                  <a:lnTo>
                    <a:pt x="65" y="237"/>
                  </a:lnTo>
                  <a:lnTo>
                    <a:pt x="77" y="244"/>
                  </a:lnTo>
                  <a:lnTo>
                    <a:pt x="90" y="250"/>
                  </a:lnTo>
                  <a:lnTo>
                    <a:pt x="104" y="257"/>
                  </a:lnTo>
                  <a:lnTo>
                    <a:pt x="119" y="263"/>
                  </a:lnTo>
                  <a:lnTo>
                    <a:pt x="135" y="268"/>
                  </a:lnTo>
                  <a:lnTo>
                    <a:pt x="151" y="274"/>
                  </a:lnTo>
                  <a:lnTo>
                    <a:pt x="169" y="279"/>
                  </a:lnTo>
                  <a:lnTo>
                    <a:pt x="187" y="284"/>
                  </a:lnTo>
                  <a:lnTo>
                    <a:pt x="206" y="289"/>
                  </a:lnTo>
                  <a:lnTo>
                    <a:pt x="225" y="293"/>
                  </a:lnTo>
                  <a:lnTo>
                    <a:pt x="246" y="297"/>
                  </a:lnTo>
                  <a:lnTo>
                    <a:pt x="267" y="301"/>
                  </a:lnTo>
                  <a:lnTo>
                    <a:pt x="289" y="305"/>
                  </a:lnTo>
                  <a:lnTo>
                    <a:pt x="311" y="308"/>
                  </a:lnTo>
                  <a:lnTo>
                    <a:pt x="334" y="311"/>
                  </a:lnTo>
                  <a:lnTo>
                    <a:pt x="357" y="313"/>
                  </a:lnTo>
                  <a:lnTo>
                    <a:pt x="381" y="316"/>
                  </a:lnTo>
                  <a:lnTo>
                    <a:pt x="405" y="317"/>
                  </a:lnTo>
                  <a:lnTo>
                    <a:pt x="430" y="319"/>
                  </a:lnTo>
                  <a:lnTo>
                    <a:pt x="455" y="320"/>
                  </a:lnTo>
                  <a:lnTo>
                    <a:pt x="480" y="320"/>
                  </a:lnTo>
                  <a:lnTo>
                    <a:pt x="506" y="321"/>
                  </a:lnTo>
                  <a:lnTo>
                    <a:pt x="532" y="320"/>
                  </a:lnTo>
                  <a:lnTo>
                    <a:pt x="557" y="320"/>
                  </a:lnTo>
                  <a:lnTo>
                    <a:pt x="583" y="319"/>
                  </a:lnTo>
                  <a:lnTo>
                    <a:pt x="607" y="317"/>
                  </a:lnTo>
                  <a:lnTo>
                    <a:pt x="631" y="316"/>
                  </a:lnTo>
                  <a:lnTo>
                    <a:pt x="655" y="313"/>
                  </a:lnTo>
                  <a:lnTo>
                    <a:pt x="679" y="311"/>
                  </a:lnTo>
                  <a:lnTo>
                    <a:pt x="702" y="308"/>
                  </a:lnTo>
                  <a:lnTo>
                    <a:pt x="724" y="305"/>
                  </a:lnTo>
                  <a:lnTo>
                    <a:pt x="745" y="301"/>
                  </a:lnTo>
                  <a:lnTo>
                    <a:pt x="766" y="297"/>
                  </a:lnTo>
                  <a:lnTo>
                    <a:pt x="787" y="293"/>
                  </a:lnTo>
                  <a:lnTo>
                    <a:pt x="806" y="289"/>
                  </a:lnTo>
                  <a:lnTo>
                    <a:pt x="825" y="284"/>
                  </a:lnTo>
                  <a:lnTo>
                    <a:pt x="843" y="279"/>
                  </a:lnTo>
                  <a:lnTo>
                    <a:pt x="861" y="274"/>
                  </a:lnTo>
                  <a:lnTo>
                    <a:pt x="877" y="268"/>
                  </a:lnTo>
                  <a:lnTo>
                    <a:pt x="893" y="263"/>
                  </a:lnTo>
                  <a:lnTo>
                    <a:pt x="908" y="257"/>
                  </a:lnTo>
                  <a:lnTo>
                    <a:pt x="922" y="250"/>
                  </a:lnTo>
                  <a:lnTo>
                    <a:pt x="935" y="244"/>
                  </a:lnTo>
                  <a:lnTo>
                    <a:pt x="947" y="237"/>
                  </a:lnTo>
                  <a:lnTo>
                    <a:pt x="958" y="230"/>
                  </a:lnTo>
                  <a:lnTo>
                    <a:pt x="968" y="223"/>
                  </a:lnTo>
                  <a:lnTo>
                    <a:pt x="977" y="216"/>
                  </a:lnTo>
                  <a:lnTo>
                    <a:pt x="984" y="209"/>
                  </a:lnTo>
                  <a:lnTo>
                    <a:pt x="991" y="201"/>
                  </a:lnTo>
                  <a:lnTo>
                    <a:pt x="996" y="194"/>
                  </a:lnTo>
                  <a:lnTo>
                    <a:pt x="1001" y="186"/>
                  </a:lnTo>
                  <a:lnTo>
                    <a:pt x="1004" y="178"/>
                  </a:lnTo>
                  <a:lnTo>
                    <a:pt x="1006" y="170"/>
                  </a:lnTo>
                  <a:lnTo>
                    <a:pt x="1006" y="162"/>
                  </a:lnTo>
                  <a:lnTo>
                    <a:pt x="1006" y="154"/>
                  </a:lnTo>
                  <a:lnTo>
                    <a:pt x="1004" y="147"/>
                  </a:lnTo>
                  <a:lnTo>
                    <a:pt x="1001" y="139"/>
                  </a:lnTo>
                  <a:lnTo>
                    <a:pt x="997" y="131"/>
                  </a:lnTo>
                  <a:lnTo>
                    <a:pt x="991" y="124"/>
                  </a:lnTo>
                  <a:lnTo>
                    <a:pt x="984" y="116"/>
                  </a:lnTo>
                  <a:lnTo>
                    <a:pt x="977" y="109"/>
                  </a:lnTo>
                  <a:lnTo>
                    <a:pt x="968" y="102"/>
                  </a:lnTo>
                  <a:lnTo>
                    <a:pt x="958" y="95"/>
                  </a:lnTo>
                  <a:lnTo>
                    <a:pt x="947" y="88"/>
                  </a:lnTo>
                  <a:lnTo>
                    <a:pt x="935" y="81"/>
                  </a:lnTo>
                  <a:lnTo>
                    <a:pt x="922" y="75"/>
                  </a:lnTo>
                  <a:lnTo>
                    <a:pt x="908" y="68"/>
                  </a:lnTo>
                  <a:lnTo>
                    <a:pt x="893" y="62"/>
                  </a:lnTo>
                  <a:lnTo>
                    <a:pt x="877" y="57"/>
                  </a:lnTo>
                  <a:lnTo>
                    <a:pt x="861" y="51"/>
                  </a:lnTo>
                  <a:lnTo>
                    <a:pt x="844" y="46"/>
                  </a:lnTo>
                  <a:lnTo>
                    <a:pt x="825" y="41"/>
                  </a:lnTo>
                  <a:lnTo>
                    <a:pt x="806" y="36"/>
                  </a:lnTo>
                  <a:lnTo>
                    <a:pt x="787" y="31"/>
                  </a:lnTo>
                  <a:lnTo>
                    <a:pt x="766" y="27"/>
                  </a:lnTo>
                  <a:lnTo>
                    <a:pt x="745" y="23"/>
                  </a:lnTo>
                  <a:lnTo>
                    <a:pt x="724" y="20"/>
                  </a:lnTo>
                  <a:lnTo>
                    <a:pt x="702" y="17"/>
                  </a:lnTo>
                  <a:lnTo>
                    <a:pt x="679" y="14"/>
                  </a:lnTo>
                  <a:lnTo>
                    <a:pt x="655" y="11"/>
                  </a:lnTo>
                  <a:lnTo>
                    <a:pt x="632" y="9"/>
                  </a:lnTo>
                  <a:lnTo>
                    <a:pt x="607" y="7"/>
                  </a:lnTo>
                  <a:lnTo>
                    <a:pt x="583" y="6"/>
                  </a:lnTo>
                  <a:lnTo>
                    <a:pt x="557" y="5"/>
                  </a:lnTo>
                  <a:lnTo>
                    <a:pt x="532" y="4"/>
                  </a:lnTo>
                  <a:lnTo>
                    <a:pt x="506" y="4"/>
                  </a:lnTo>
                  <a:lnTo>
                    <a:pt x="480" y="4"/>
                  </a:lnTo>
                  <a:lnTo>
                    <a:pt x="455" y="5"/>
                  </a:lnTo>
                  <a:lnTo>
                    <a:pt x="430" y="6"/>
                  </a:lnTo>
                  <a:lnTo>
                    <a:pt x="405" y="7"/>
                  </a:lnTo>
                  <a:lnTo>
                    <a:pt x="381" y="9"/>
                  </a:lnTo>
                  <a:lnTo>
                    <a:pt x="357" y="11"/>
                  </a:lnTo>
                  <a:lnTo>
                    <a:pt x="334" y="14"/>
                  </a:lnTo>
                  <a:lnTo>
                    <a:pt x="311" y="17"/>
                  </a:lnTo>
                  <a:lnTo>
                    <a:pt x="289" y="20"/>
                  </a:lnTo>
                  <a:lnTo>
                    <a:pt x="267" y="23"/>
                  </a:lnTo>
                  <a:lnTo>
                    <a:pt x="246" y="27"/>
                  </a:lnTo>
                  <a:lnTo>
                    <a:pt x="226" y="31"/>
                  </a:lnTo>
                  <a:lnTo>
                    <a:pt x="206" y="36"/>
                  </a:lnTo>
                  <a:lnTo>
                    <a:pt x="187" y="41"/>
                  </a:lnTo>
                  <a:lnTo>
                    <a:pt x="169" y="46"/>
                  </a:lnTo>
                  <a:lnTo>
                    <a:pt x="151" y="51"/>
                  </a:lnTo>
                  <a:lnTo>
                    <a:pt x="135" y="56"/>
                  </a:lnTo>
                  <a:lnTo>
                    <a:pt x="119" y="62"/>
                  </a:lnTo>
                  <a:lnTo>
                    <a:pt x="104" y="68"/>
                  </a:lnTo>
                  <a:lnTo>
                    <a:pt x="91" y="75"/>
                  </a:lnTo>
                  <a:lnTo>
                    <a:pt x="77" y="81"/>
                  </a:lnTo>
                  <a:lnTo>
                    <a:pt x="65" y="88"/>
                  </a:lnTo>
                  <a:lnTo>
                    <a:pt x="55" y="94"/>
                  </a:lnTo>
                  <a:lnTo>
                    <a:pt x="45" y="102"/>
                  </a:lnTo>
                  <a:lnTo>
                    <a:pt x="36" y="109"/>
                  </a:lnTo>
                  <a:lnTo>
                    <a:pt x="28" y="116"/>
                  </a:lnTo>
                  <a:lnTo>
                    <a:pt x="21" y="123"/>
                  </a:lnTo>
                  <a:lnTo>
                    <a:pt x="16" y="131"/>
                  </a:lnTo>
                  <a:lnTo>
                    <a:pt x="12" y="139"/>
                  </a:lnTo>
                  <a:lnTo>
                    <a:pt x="9" y="146"/>
                  </a:lnTo>
                  <a:lnTo>
                    <a:pt x="6" y="154"/>
                  </a:lnTo>
                  <a:lnTo>
                    <a:pt x="6" y="162"/>
                  </a:lnTo>
                  <a:lnTo>
                    <a:pt x="6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Rectangle 73"/>
            <p:cNvSpPr/>
            <p:nvPr/>
          </p:nvSpPr>
          <p:spPr>
            <a:xfrm>
              <a:off x="5686560" y="3656520"/>
              <a:ext cx="842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роект ЕСФ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Freeform 75"/>
            <p:cNvSpPr/>
            <p:nvPr/>
          </p:nvSpPr>
          <p:spPr>
            <a:xfrm>
              <a:off x="4796640" y="4359240"/>
              <a:ext cx="51120" cy="21312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46" h="192">
                  <a:moveTo>
                    <a:pt x="25" y="192"/>
                  </a:moveTo>
                  <a:lnTo>
                    <a:pt x="26" y="30"/>
                  </a:lnTo>
                  <a:lnTo>
                    <a:pt x="20" y="30"/>
                  </a:lnTo>
                  <a:lnTo>
                    <a:pt x="19" y="192"/>
                  </a:lnTo>
                  <a:lnTo>
                    <a:pt x="25" y="192"/>
                  </a:lnTo>
                  <a:close/>
                  <a:moveTo>
                    <a:pt x="46" y="37"/>
                  </a:moveTo>
                  <a:lnTo>
                    <a:pt x="23" y="0"/>
                  </a:lnTo>
                  <a:lnTo>
                    <a:pt x="0" y="36"/>
                  </a:lnTo>
                  <a:lnTo>
                    <a:pt x="46" y="37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3" name="Rectangle 60"/>
          <p:cNvSpPr/>
          <p:nvPr/>
        </p:nvSpPr>
        <p:spPr>
          <a:xfrm>
            <a:off x="4212720" y="4162320"/>
            <a:ext cx="942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00" spc="-1" strike="noStrike">
                <a:solidFill>
                  <a:srgbClr val="16489f"/>
                </a:solidFill>
                <a:latin typeface="Arial"/>
                <a:ea typeface="Arial"/>
              </a:rPr>
              <a:t>сътрудничество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4" name="Title 1" descr=""/>
          <p:cNvPicPr/>
          <p:nvPr/>
        </p:nvPicPr>
        <p:blipFill>
          <a:blip r:embed="rId1"/>
          <a:stretch/>
        </p:blipFill>
        <p:spPr>
          <a:xfrm>
            <a:off x="176040" y="55440"/>
            <a:ext cx="6553440" cy="1316160"/>
          </a:xfrm>
          <a:prstGeom prst="rect">
            <a:avLst/>
          </a:prstGeom>
          <a:ln w="0">
            <a:noFill/>
          </a:ln>
        </p:spPr>
      </p:pic>
      <p:sp>
        <p:nvSpPr>
          <p:cNvPr id="1225" name=""/>
          <p:cNvSpPr txBox="1"/>
          <p:nvPr/>
        </p:nvSpPr>
        <p:spPr>
          <a:xfrm>
            <a:off x="395280" y="1773360"/>
            <a:ext cx="8640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Структура за прилагане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тговорен управляващ орган – УО на ПРС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Помощ за подготвителни дейности – финансира се от ЕЗФРСР (ЕФМДР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Сътрудничество – финансиране се от ЕЗФРС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перации в рамките на стратегия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	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при финансиране от повече от един фонд се определя водещ фон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	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в комисията за избор на стратегии участват представители на всички финансиращи У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	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изпълнението се осъществява спрямо правилата на всяка от финансиращите прог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Одобряване на стратегии </a:t>
            </a:r>
            <a:r>
              <a:rPr b="0" lang="bg-BG" sz="2200" spc="-1" strike="noStrike">
                <a:solidFill>
                  <a:srgbClr val="18077b"/>
                </a:solidFill>
                <a:latin typeface="Calibri"/>
              </a:rPr>
              <a:t>– до 31 декември 2017 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6" name="Title 1" descr=""/>
          <p:cNvPicPr/>
          <p:nvPr/>
        </p:nvPicPr>
        <p:blipFill>
          <a:blip r:embed="rId1"/>
          <a:stretch/>
        </p:blipFill>
        <p:spPr>
          <a:xfrm>
            <a:off x="536400" y="189000"/>
            <a:ext cx="7388280" cy="969840"/>
          </a:xfrm>
          <a:prstGeom prst="rect">
            <a:avLst/>
          </a:prstGeom>
          <a:ln w="0">
            <a:noFill/>
          </a:ln>
        </p:spPr>
      </p:pic>
      <p:pic>
        <p:nvPicPr>
          <p:cNvPr id="1227" name="" descr=""/>
          <p:cNvPicPr/>
          <p:nvPr/>
        </p:nvPicPr>
        <p:blipFill>
          <a:blip r:embed="rId2"/>
          <a:stretch/>
        </p:blipFill>
        <p:spPr>
          <a:xfrm>
            <a:off x="937800" y="1542600"/>
            <a:ext cx="7467480" cy="441972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5" descr="C:\Users\m.penevska\AppData\Local\Microsoft\Windows\Temporary Internet Files\Content.IE5\TEGBP4NL\MP900385344[1].jpg"/>
          <p:cNvPicPr/>
          <p:nvPr/>
        </p:nvPicPr>
        <p:blipFill>
          <a:blip r:embed="rId3"/>
          <a:stretch/>
        </p:blipFill>
        <p:spPr>
          <a:xfrm>
            <a:off x="395280" y="1197000"/>
            <a:ext cx="8424720" cy="54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Title 1" descr=""/>
          <p:cNvPicPr/>
          <p:nvPr/>
        </p:nvPicPr>
        <p:blipFill>
          <a:blip r:embed="rId1"/>
          <a:stretch/>
        </p:blipFill>
        <p:spPr>
          <a:xfrm>
            <a:off x="463680" y="-19080"/>
            <a:ext cx="5406840" cy="1317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 txBox="1"/>
          <p:nvPr/>
        </p:nvSpPr>
        <p:spPr>
          <a:xfrm>
            <a:off x="395280" y="1557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Въз основа на интегрирани планове за градско възстановяване и развит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За развитие на дефинирани опорни центрове на расте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Инвестиции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бщинска образователна и социална инфраструктура, развитие на спортната и културната инфраструкту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енергийна ефективност на многофамилни жилищни сгради и административни сгради на държавната и общинска администр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регенерация и обновяване на стари промишлени зони в градове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функционални връзки със съседни населени места, които представляват част от системата на обществения градски транспор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Фокусиране върху зони за въздействие в градове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Социални зо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Зони с публични фун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Зони с потенциал за икономическо въздейств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 txBox="1"/>
          <p:nvPr/>
        </p:nvSpPr>
        <p:spPr>
          <a:xfrm>
            <a:off x="468360" y="169992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200" spc="-1" strike="noStrike">
                <a:solidFill>
                  <a:srgbClr val="18077b"/>
                </a:solidFill>
                <a:latin typeface="Calibri"/>
              </a:rPr>
              <a:t>Интегриран подход, насочен към географски региони/групи със специфични нужди и демографски предизвикателст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продължаващо прилагане на мерки за конкретни територии със специфики в различието, например периферните и планинските области; определяне и финансиране на предварително определени проекти с водещо регионално значение, в т.ч. по Дунавската стратегия на Е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диференциация на условията на подкрепа спрямо целевите групи и/или територии (размер на съфинансиране, допълнителна тежест при оценката, други мерки за насърчаване включването на изостанали райони или групи в неравностойно положени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финансиране на всички типове инфраструктура след детайлно обоснована приоритизация, която отчита както секторното, така и териториалното развит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2" name="Title 1" descr=""/>
          <p:cNvPicPr/>
          <p:nvPr/>
        </p:nvPicPr>
        <p:blipFill>
          <a:blip r:embed="rId1"/>
          <a:stretch/>
        </p:blipFill>
        <p:spPr>
          <a:xfrm>
            <a:off x="219240" y="55440"/>
            <a:ext cx="4906800" cy="13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1"/>
          <p:cNvSpPr/>
          <p:nvPr/>
        </p:nvSpPr>
        <p:spPr>
          <a:xfrm>
            <a:off x="539640" y="1773360"/>
            <a:ext cx="784872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18077b"/>
                </a:solidFill>
                <a:latin typeface="Arial"/>
              </a:rPr>
              <a:t> </a:t>
            </a:r>
            <a:r>
              <a:rPr b="1" lang="bg-BG" sz="3600" spc="-1" strike="noStrike">
                <a:solidFill>
                  <a:srgbClr val="18077b"/>
                </a:solidFill>
                <a:latin typeface="Calibri"/>
              </a:rPr>
              <a:t>Благодаря за вниманието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4" name="Picture 4" descr=""/>
          <p:cNvPicPr/>
          <p:nvPr/>
        </p:nvPicPr>
        <p:blipFill>
          <a:blip r:embed="rId1"/>
          <a:stretch/>
        </p:blipFill>
        <p:spPr>
          <a:xfrm>
            <a:off x="250920" y="5661000"/>
            <a:ext cx="6913440" cy="11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Title 1" descr=""/>
          <p:cNvPicPr/>
          <p:nvPr/>
        </p:nvPicPr>
        <p:blipFill>
          <a:blip r:embed="rId1"/>
          <a:stretch/>
        </p:blipFill>
        <p:spPr>
          <a:xfrm>
            <a:off x="281160" y="285840"/>
            <a:ext cx="6089400" cy="107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3" name="Object 10"/>
          <p:cNvGraphicFramePr/>
          <p:nvPr/>
        </p:nvGraphicFramePr>
        <p:xfrm>
          <a:off x="611280" y="1052640"/>
          <a:ext cx="8281800" cy="54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052640"/>
                    <a:ext cx="8281800" cy="54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1219320" y="4220640"/>
            <a:ext cx="7238880" cy="10256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8077b"/>
                </a:solidFill>
                <a:latin typeface="Calibri"/>
              </a:rPr>
              <a:t>ОСНОВНИ ПОТРЕБНОСТИ ЗА РАЗВИТИЕ И ПРИОРИТЕТИ ЗА ФИНАНСИРАНЕ</a:t>
            </a:r>
            <a:endParaRPr b="0" lang="en-US" sz="30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2:15:19Z</dcterms:created>
  <dc:creator>e.gerdjikova</dc:creator>
  <dc:description/>
  <dc:language>en-US</dc:language>
  <cp:lastModifiedBy>Dora</cp:lastModifiedBy>
  <cp:lastPrinted>2014-09-03T14:32:50Z</cp:lastPrinted>
  <dcterms:modified xsi:type="dcterms:W3CDTF">2014-10-02T13:59:47Z</dcterms:modified>
  <cp:revision>749</cp:revision>
  <dc:subject/>
  <dc:title>Slide 1</dc:title>
</cp:coreProperties>
</file>