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25000" y="178920"/>
            <a:ext cx="4859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5560" y="3780000"/>
            <a:ext cx="6742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68280" y="179280"/>
            <a:ext cx="45738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25560" y="3780000"/>
            <a:ext cx="67420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BC9E-A629-4064-9165-35E286B5EBB5}" type="slidenum">
              <a:rPr b="0" lang="bg-BG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292-1015-4046-898F-9F95DF1F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8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23C-7A17-49DE-94C3-C7F20D2C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8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8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F8A-69B2-4241-A103-2DDB54A5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8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8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8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8209-05B7-4689-92AD-E7B440FD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ADC1-629A-4675-AEA7-5855792F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525A-1C60-41E9-905E-782FCD14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93CA-EBAB-41A5-B81C-EC82ECB3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B20A-F1CD-45C0-92DD-7640A0F4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9AF5-E1CE-4E0B-A779-E1B53946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09656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690F-4B44-4D88-90BD-F6D511CA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8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0015-D36D-4898-8313-E07F53D4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579-714E-4898-A327-71BFDB21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8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B97E-D840-46A2-BC7E-23797E7B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8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B241-6FCF-4A70-92E5-F2D4FDAD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8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CB65-FA80-4D3C-A1FF-B1B19B6D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8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8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0405-2C6C-4A91-9D92-423864E3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8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8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8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3F55-7B00-40C2-9732-4262CC8C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E909-8B0D-4EE7-B6E6-A7F0CFC7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CB0B-2FAF-44CE-92B1-43094991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788-8163-4855-9133-4339CE7A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9656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54A0-A866-48A7-A8F3-FD56632D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8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8B4-78A4-47AB-8467-E93024B4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8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35D2-1697-4BAD-803A-238919C6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8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8F01-9E25-45B5-89BC-70ACE9A0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00440"/>
            <a:ext cx="990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47920" y="6476760"/>
            <a:ext cx="6248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8720" y="647676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E143-5BDE-4084-A336-0C281CEE42B5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00440"/>
            <a:ext cx="990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0EF9-2564-4D5F-9CA5-EB0E115D8092}" type="datetime">
              <a:rPr b="0" lang="bg-BG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447920" y="6476760"/>
            <a:ext cx="6248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848720" y="651636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2677-8E4B-4833-9B15-EB79A0DBF367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1"/>
          <p:cNvSpPr/>
          <p:nvPr/>
        </p:nvSpPr>
        <p:spPr>
          <a:xfrm>
            <a:off x="7848720" y="64771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F853-B3C3-4E3B-B367-73CA06E31982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23880" y="1773360"/>
            <a:ext cx="790884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000000"/>
                </a:solidFill>
                <a:latin typeface="Georgia"/>
              </a:rPr>
              <a:t>Оперативна програма </a:t>
            </a:r>
            <a:br>
              <a:rPr sz="3600"/>
            </a:br>
            <a:r>
              <a:rPr b="1" i="1" lang="bg-BG" sz="3600" spc="-1" strike="noStrike">
                <a:solidFill>
                  <a:srgbClr val="000000"/>
                </a:solidFill>
                <a:latin typeface="Georgia"/>
              </a:rPr>
              <a:t>по Фонда за Европейско подпомагане на най-нуждаещите се л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000000"/>
                </a:solidFill>
                <a:latin typeface="Georgia"/>
              </a:rPr>
              <a:t>2014-2020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333399"/>
                </a:solidFill>
                <a:latin typeface="Georgia"/>
              </a:rPr>
              <a:t>Агенция за социално подпомаг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7848720" y="65167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7D2C-29B6-4DC1-BE23-60CC09732907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3399"/>
                </a:solidFill>
                <a:latin typeface="Georgia"/>
              </a:rPr>
              <a:t>Фокус на ОП ФЕПНЛ</a:t>
            </a:r>
            <a:r>
              <a:rPr b="1" lang="bg-BG" sz="3600" spc="-1" strike="noStrike">
                <a:solidFill>
                  <a:srgbClr val="333399"/>
                </a:solidFill>
                <a:latin typeface="Georgia"/>
              </a:rPr>
              <a:t> </a:t>
            </a:r>
            <a:br>
              <a:rPr sz="3600"/>
            </a:br>
            <a:r>
              <a:rPr b="0" lang="bg-BG" sz="2400" spc="-1" strike="noStrike">
                <a:solidFill>
                  <a:srgbClr val="333399"/>
                </a:solidFill>
                <a:latin typeface="Arial"/>
              </a:rPr>
              <a:t>съгласно  Регламент (ЕС) № 223/2014 на Европейския парламент и на Съвета от 11 март 2014г.</a:t>
            </a:r>
            <a:br>
              <a:rPr sz="2400"/>
            </a:b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0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Въз основа на анализ на равнището на бедност, групите в риск от бедност и материалните лишения, както и изразходването на доходите за закупуване на храни, България предложи средствата на Оперативната програма от Фонда за европейско подпомагане на най-нуждаещите се лица да бъдат насочени 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за подпомагане с храни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, като основна жизнена потребност, чрез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520" indent="-2685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Осигуряване на хранителни продукти за период от 7 години чрез закупуването и предоставянето на 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индивидуални пакети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 от хранителни продукт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520" indent="-2685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Осигуряване на хранителни продукти за разширяване и надграждане на дейността на 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обществени трапеза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7848720" y="65167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AB51-CFFB-48A7-AC28-DDB3210A3238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333399"/>
                </a:solidFill>
                <a:latin typeface="Georgia"/>
              </a:rPr>
              <a:t>Целеви групи на ОП ФЕПНЛ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68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Индивидуални пакети хранителни продукти: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Лица и семейства, подпомагани по реда на Наредба № РД-07-5 от 2008 г. за условията и реда за отпускане на целеви помощи за отоплени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2.  Топъл обяд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-258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Лица и семейства на месечно подпомагане с доход по-нисък от диференцирания минимален дох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-258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Неосигурени, самотноживеещи лица с децата си, подпомагани по Закона за семейни помощи за де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-258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Самотно живеещи лица и семейства, получаващи минимални пенсии /за осигурителен стаж и възраст, за инвалидност, социални и наследствени пенсии/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-258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Скитащи и бездомни деца и л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7848720" y="65167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C335-130B-423E-A0AF-97BDC979462A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640" y="33336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3399"/>
                </a:solidFill>
                <a:latin typeface="Georgia"/>
              </a:rPr>
              <a:t>Целеви групи на ОП ФЕПНЛ (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05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В обхвата на целевите групи попадат също и 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лица, пострадали от бедствия и аварии 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при форсмажорни обстоятелства, като в тези случаи Управляващият орган взима решение за подпомагане на потърпевшите лица с индивидуални пакети с храна или в трапезарии, след извършване на социална оценка в съответствие със законодателството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5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Пакетите хранителни продукти се предоставят за нуждите на семейството или домакинството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5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В случаите на непотърсени и неполучени индивидуални пакети от хранителни продукти от допустимите целеви групи, се предвиждат възможности същите ще бъдат разпределяни на партньорските организации за нуждите на обществените трапезар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5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250920" y="898560"/>
            <a:ext cx="8569080" cy="63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Управляващият орган ще определи бенефициент – публичен орган за закупуване на хранителни продукти за предоставяне на индивидуални пакети по програмата.</a:t>
            </a:r>
            <a:r>
              <a:rPr b="0" lang="bg-BG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артньор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Georgia"/>
              </a:rPr>
              <a:t>Съхранението, раздаването и разпределението на </a:t>
            </a: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индивидуалните пакети с храни</a:t>
            </a:r>
            <a:r>
              <a:rPr b="0" lang="bg-BG" sz="2000" spc="-1" strike="noStrike">
                <a:solidFill>
                  <a:srgbClr val="000000"/>
                </a:solidFill>
                <a:latin typeface="Georgia"/>
              </a:rPr>
              <a:t> ще се извършва от партньорски организации, избрани при спазване на критерии, заложени в оперативната програма, при спазване на изискванията за наличен технически и финансов капацитет, организационни работни процеси, осигурена складова база, капацитет за реализиране на съпътстващи мерки, в допълнение към предоставянето на хра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Georgia"/>
              </a:rPr>
              <a:t>Партньорската/ите организация/и следва да осигури пълно териториално покритие на територията на Република Бълг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Georgia"/>
              </a:rPr>
              <a:t>Допустими са обединения на няколко организации, оглед постигане на пълно териториално покритие и в случай, че дадената организация-кандидат не може сама да отговори на това изискв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971640" y="260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3399"/>
                </a:solidFill>
                <a:latin typeface="Georgia"/>
              </a:rPr>
              <a:t>Реализация</a:t>
            </a:r>
            <a:r>
              <a:rPr b="0" i="1" lang="bg-BG" sz="2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1" i="1" lang="bg-BG" sz="2800" spc="-1" strike="noStrike">
                <a:solidFill>
                  <a:srgbClr val="333399"/>
                </a:solidFill>
                <a:latin typeface="Georgia"/>
              </a:rPr>
              <a:t>на програм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250920" y="898560"/>
            <a:ext cx="856908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Партньори за предоставянето на 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топъл обяд 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ще бъдат публичноправни организации, доставчици на услугата „обществена трапезария“. Те ще се включват в програмата при заявено от тях желание,  при спазване на  детайлно разработени процедури за участие и подбор.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За партньори ще бъдат поканени публичноправни организации на територията страната- доставчици на услугата „обществени трапезарии“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В рамките на изпълнението на програмата ще бъде създадена  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Направляваща група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, която ще получава информация за напредъка и резултатите от реализация на програмата и ще разглежда предложение за разпределението на финансовия ресур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971640" y="260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3399"/>
                </a:solidFill>
                <a:latin typeface="Georgia"/>
              </a:rPr>
              <a:t>Реализация</a:t>
            </a:r>
            <a:r>
              <a:rPr b="0" i="1" lang="bg-BG" sz="2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1" i="1" lang="bg-BG" sz="2800" spc="-1" strike="noStrike">
                <a:solidFill>
                  <a:srgbClr val="333399"/>
                </a:solidFill>
                <a:latin typeface="Georgia"/>
              </a:rPr>
              <a:t>на програмат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358560"/>
            <a:ext cx="849636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eorgia"/>
              </a:rPr>
              <a:t>Разпределение на средствата                             по ОП ФЕПНЛ 2014 – 2020 г. </a:t>
            </a:r>
            <a:br>
              <a:rPr sz="2800"/>
            </a:br>
            <a:br>
              <a:rPr sz="2000"/>
            </a:b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Text Box 39"/>
          <p:cNvSpPr/>
          <p:nvPr/>
        </p:nvSpPr>
        <p:spPr>
          <a:xfrm>
            <a:off x="826920" y="1052640"/>
            <a:ext cx="770580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Оперативната програма е на  обща стой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241 177 455 лева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 (123 312 075 евро), в т.ч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- 85% Евопейско финансира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205 000 838 лв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. (104 815 264 евр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- 15 % Национално финанси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36 176 617 лв.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 (18 496 811 евр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1"/>
          <p:cNvSpPr/>
          <p:nvPr/>
        </p:nvSpPr>
        <p:spPr>
          <a:xfrm>
            <a:off x="324000" y="3860640"/>
            <a:ext cx="8351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Разпределението по мерки  рамките на програмата, е както следва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Мерки свързани със закупуването на хранителни продукти – 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229 118 584 лв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. (117 146 472 евр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Техническа помощ - 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12 058 871 лв.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 ( 6 165 603 евр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1"/>
          <p:cNvSpPr/>
          <p:nvPr/>
        </p:nvSpPr>
        <p:spPr>
          <a:xfrm>
            <a:off x="7848720" y="64771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1EE5-63DB-450D-AE04-3682B31E466E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11280" y="1628640"/>
            <a:ext cx="7921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eorgia"/>
              </a:rPr>
              <a:t>   </a:t>
            </a:r>
            <a:r>
              <a:rPr b="1" lang="bg-BG" sz="2800" spc="-1" strike="noStrike">
                <a:solidFill>
                  <a:srgbClr val="333399"/>
                </a:solidFill>
                <a:latin typeface="Georgia"/>
              </a:rPr>
              <a:t>БЛАГОДАРЯ ВИ ЗА ВНИМАНИЕТ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55640" y="2349360"/>
            <a:ext cx="77040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20:37:36Z</dcterms:created>
  <dc:creator>Asp-mo21</dc:creator>
  <dc:description/>
  <dc:language>en-US</dc:language>
  <cp:lastModifiedBy>asp-mo23</cp:lastModifiedBy>
  <dcterms:modified xsi:type="dcterms:W3CDTF">2014-10-06T10:02:59Z</dcterms:modified>
  <cp:revision>219</cp:revision>
  <dc:subject/>
  <dc:title>Презентация</dc:title>
</cp:coreProperties>
</file>